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660680"/>
            <a:ext cx="789480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819600"/>
            <a:ext cx="789480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660680"/>
            <a:ext cx="385236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660680"/>
            <a:ext cx="385236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819600"/>
            <a:ext cx="385236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819600"/>
            <a:ext cx="385236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660680"/>
            <a:ext cx="254196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7960" y="1660680"/>
            <a:ext cx="254196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7360" y="1660680"/>
            <a:ext cx="254196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819600"/>
            <a:ext cx="254196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7960" y="3819600"/>
            <a:ext cx="254196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7360" y="3819600"/>
            <a:ext cx="254196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28560" y="1660680"/>
            <a:ext cx="7894800" cy="41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4a52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660680"/>
            <a:ext cx="7894800" cy="41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660680"/>
            <a:ext cx="3852360" cy="41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660680"/>
            <a:ext cx="3852360" cy="41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36560" y="549000"/>
            <a:ext cx="7894800" cy="35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4a52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660680"/>
            <a:ext cx="385236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660680"/>
            <a:ext cx="3852360" cy="41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560" y="3819600"/>
            <a:ext cx="385236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660680"/>
            <a:ext cx="7894800" cy="41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660680"/>
            <a:ext cx="3852360" cy="41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660680"/>
            <a:ext cx="385236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880" y="3819600"/>
            <a:ext cx="385236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660680"/>
            <a:ext cx="385236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880" y="1660680"/>
            <a:ext cx="385236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3819600"/>
            <a:ext cx="789480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660680"/>
            <a:ext cx="789480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8560" y="3819600"/>
            <a:ext cx="789480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660680"/>
            <a:ext cx="385236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880" y="1660680"/>
            <a:ext cx="385236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560" y="3819600"/>
            <a:ext cx="385236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880" y="3819600"/>
            <a:ext cx="385236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660680"/>
            <a:ext cx="254196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7960" y="1660680"/>
            <a:ext cx="254196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7360" y="1660680"/>
            <a:ext cx="254196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8560" y="3819600"/>
            <a:ext cx="254196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7960" y="3819600"/>
            <a:ext cx="254196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7360" y="3819600"/>
            <a:ext cx="254196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660680"/>
            <a:ext cx="7894800" cy="41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660680"/>
            <a:ext cx="3852360" cy="41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660680"/>
            <a:ext cx="3852360" cy="41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6560" y="549000"/>
            <a:ext cx="7894800" cy="35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660680"/>
            <a:ext cx="385236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660680"/>
            <a:ext cx="3852360" cy="41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819600"/>
            <a:ext cx="385236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660680"/>
            <a:ext cx="3852360" cy="41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660680"/>
            <a:ext cx="385236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819600"/>
            <a:ext cx="385236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660680"/>
            <a:ext cx="385236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660680"/>
            <a:ext cx="385236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819600"/>
            <a:ext cx="7894800" cy="19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660680"/>
            <a:ext cx="7894800" cy="41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a52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-177840">
              <a:spcBef>
                <a:spcPts val="550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a52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  <a:p>
            <a:pPr lvl="2" marL="982800" indent="-174600">
              <a:spcBef>
                <a:spcPts val="550"/>
              </a:spcBef>
              <a:buClr>
                <a:srgbClr val="ff850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a52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  <a:p>
            <a:pPr lvl="3" marL="2647800" indent="-228600">
              <a:spcBef>
                <a:spcPts val="550"/>
              </a:spcBef>
              <a:buClr>
                <a:srgbClr val="ff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a52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  <a:p>
            <a:pPr lvl="4" marL="3056040" indent="-228600">
              <a:spcBef>
                <a:spcPts val="550"/>
              </a:spcBef>
              <a:buClr>
                <a:srgbClr val="ff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a52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  <a:p>
            <a:pPr lvl="5" marL="3056040" indent="-228600">
              <a:spcBef>
                <a:spcPts val="550"/>
              </a:spcBef>
              <a:buClr>
                <a:srgbClr val="ff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a52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  <a:p>
            <a:pPr lvl="6" marL="3056040" indent="-228600">
              <a:spcBef>
                <a:spcPts val="550"/>
              </a:spcBef>
              <a:buClr>
                <a:srgbClr val="ff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a52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2200" y="6163920"/>
            <a:ext cx="2917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24a52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24a52"/>
                </a:solidFill>
                <a:latin typeface="Times New Roman"/>
                <a:ea typeface="Times New Roman"/>
              </a:rPr>
              <a:t>October 2009/G. Jacob – p </a:t>
            </a:r>
            <a:fld id="{C89AD74B-7B89-45C4-9E03-CEC5CA5B3260}" type="slidenum">
              <a:rPr b="0" lang="en-US" sz="900" spc="-1" strike="noStrike">
                <a:solidFill>
                  <a:srgbClr val="424a52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43280" y="6170760"/>
            <a:ext cx="163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Arial"/>
                <a:ea typeface="Times New Roman"/>
              </a:rPr>
              <a:t>research &amp; development</a:t>
            </a:r>
            <a:endParaRPr b="0" lang="en-US" sz="9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83200" y="6278400"/>
            <a:ext cx="179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24a52"/>
                </a:solidFill>
                <a:latin typeface="Arial"/>
              </a:rPr>
              <a:t>France Telecom </a:t>
            </a:r>
            <a:r>
              <a:rPr b="0" lang="en-US" sz="900" spc="-1" strike="noStrike">
                <a:solidFill>
                  <a:srgbClr val="424a52"/>
                </a:solidFill>
                <a:latin typeface="Arial"/>
                <a:ea typeface="Times New Roman"/>
              </a:rPr>
              <a:t>Group/ESIEA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0120" y="828360"/>
            <a:ext cx="7883640" cy="2671560"/>
          </a:xfrm>
          <a:prstGeom prst="rect">
            <a:avLst/>
          </a:prstGeom>
          <a:noFill/>
          <a:ln w="0">
            <a:noFill/>
          </a:ln>
        </p:spPr>
        <p:txBody>
          <a:bodyPr lIns="36000" rIns="90000" tIns="3600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280280" y="5900760"/>
            <a:ext cx="574560" cy="576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997760" y="5899320"/>
            <a:ext cx="533520" cy="572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770280" y="6145200"/>
            <a:ext cx="4890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33"/>
                </a:solidFill>
                <a:latin typeface="Arial"/>
                <a:ea typeface="Times New Roman"/>
              </a:rPr>
              <a:t>Research &amp; Development</a:t>
            </a:r>
            <a:endParaRPr b="0" lang="en-US" sz="1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5560" y="6143760"/>
            <a:ext cx="4891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33"/>
                </a:solidFill>
                <a:latin typeface="Arial"/>
                <a:ea typeface="Times New Roman"/>
              </a:rPr>
              <a:t>Operational Cryptology &amp; Virology Lab.</a:t>
            </a:r>
            <a:endParaRPr b="0" lang="en-US" sz="12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87520" y="5862600"/>
            <a:ext cx="1177920" cy="758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a52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-177840" algn="ctr"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2" marL="727200" indent="266400" algn="ctr">
              <a:spcBef>
                <a:spcPts val="400"/>
              </a:spcBef>
              <a:buClr>
                <a:srgbClr val="ff850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24a52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24a52"/>
              </a:solidFill>
              <a:latin typeface="Arial"/>
            </a:endParaRPr>
          </a:p>
          <a:p>
            <a:pPr lvl="3" marL="1371600" indent="1047600" algn="ctr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4" marL="2400480" indent="998280" algn="ctr">
              <a:spcBef>
                <a:spcPts val="499"/>
              </a:spcBef>
              <a:buClr>
                <a:srgbClr val="ff66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5" marL="2400480" indent="998280">
              <a:spcBef>
                <a:spcPts val="499"/>
              </a:spcBef>
              <a:buClr>
                <a:srgbClr val="ff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6" marL="2400480" indent="998280">
              <a:spcBef>
                <a:spcPts val="499"/>
              </a:spcBef>
              <a:buClr>
                <a:srgbClr val="ff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9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9.png"/><Relationship Id="rId3" Type="http://schemas.openxmlformats.org/officeDocument/2006/relationships/image" Target="../media/image20.png"/><Relationship Id="rId4" Type="http://schemas.openxmlformats.org/officeDocument/2006/relationships/hyperlink" Target="file:///videos/execution1.avi" TargetMode="External"/><Relationship Id="rId5" Type="http://schemas.openxmlformats.org/officeDocument/2006/relationships/hyperlink" Target="file:///videos/execution1.avi" TargetMode="External"/><Relationship Id="rId6" Type="http://schemas.openxmlformats.org/officeDocument/2006/relationships/hyperlink" Target="file:///videos/execution2.avi" TargetMode="External"/><Relationship Id="rId7" Type="http://schemas.openxmlformats.org/officeDocument/2006/relationships/hyperlink" Target="file:///videos/execution2.avi" TargetMode="External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9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90120" y="663480"/>
            <a:ext cx="7883640" cy="2671920"/>
          </a:xfrm>
          <a:prstGeom prst="rect">
            <a:avLst/>
          </a:prstGeom>
          <a:noFill/>
          <a:ln w="0">
            <a:noFill/>
          </a:ln>
        </p:spPr>
        <p:txBody>
          <a:bodyPr lIns="36000" rIns="90000" tIns="36000" bIns="0" anchor="b">
            <a:noAutofit/>
          </a:bodyPr>
          <a:p>
            <a:pPr indent="0" rtl="1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unctional Polymorphism Engines:</a:t>
            </a:r>
            <a:br>
              <a:rPr sz="3200"/>
            </a:b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Formalization, Implementation and Use Cases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90120" y="3371400"/>
            <a:ext cx="7867800" cy="2266920"/>
          </a:xfrm>
          <a:prstGeom prst="rect">
            <a:avLst/>
          </a:prstGeom>
          <a:noFill/>
          <a:ln w="0">
            <a:noFill/>
          </a:ln>
        </p:spPr>
        <p:txBody>
          <a:bodyPr lIns="36000" rIns="90000" tIns="36000" bIns="46800"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24a52"/>
                </a:solidFill>
                <a:uFillTx/>
                <a:latin typeface="Arial"/>
              </a:rPr>
              <a:t>JACOB Grégoire</a:t>
            </a:r>
            <a:r>
              <a:rPr b="1" lang="en-US" sz="1800" spc="-1" strike="noStrike" baseline="30000">
                <a:solidFill>
                  <a:srgbClr val="424a52"/>
                </a:solidFill>
                <a:latin typeface="Arial"/>
              </a:rPr>
              <a:t>1/2</a:t>
            </a:r>
            <a:r>
              <a:rPr b="1" lang="en-US" sz="1800" spc="-1" strike="noStrike">
                <a:solidFill>
                  <a:srgbClr val="424a52"/>
                </a:solidFill>
                <a:latin typeface="Arial"/>
              </a:rPr>
              <a:t>, FILIOL Eric</a:t>
            </a:r>
            <a:r>
              <a:rPr b="1" lang="en-US" sz="1800" spc="-1" strike="noStrike" baseline="30000">
                <a:solidFill>
                  <a:srgbClr val="424a52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24a52"/>
                </a:solidFill>
                <a:latin typeface="Arial"/>
              </a:rPr>
              <a:t>, DEBAR Hervé</a:t>
            </a:r>
            <a:r>
              <a:rPr b="1" lang="en-US" sz="1800" spc="-1" strike="noStrike" baseline="30000">
                <a:solidFill>
                  <a:srgbClr val="424a52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424a5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424a52"/>
                </a:solidFill>
                <a:latin typeface="Arial"/>
              </a:rPr>
              <a:t>  </a:t>
            </a:r>
            <a:r>
              <a:rPr b="0" lang="en-US" sz="1800" spc="-1" strike="noStrike" baseline="30000">
                <a:solidFill>
                  <a:srgbClr val="424a52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ESIEA, 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Operational Cryptology &amp; Virology Lab (C+V)o.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a52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424a52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France Télécom R&amp;D, 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424a52"/>
                </a:solidFill>
                <a:latin typeface="Arial"/>
              </a:rPr>
              <a:t>    </a:t>
            </a:r>
            <a:r>
              <a:rPr b="0" i="1" lang="fr-FR" sz="1800" spc="-1" strike="noStrike">
                <a:solidFill>
                  <a:srgbClr val="424a52"/>
                </a:solidFill>
                <a:latin typeface="Arial"/>
              </a:rPr>
              <a:t>Network and Service Security</a:t>
            </a:r>
            <a:r>
              <a:rPr b="0" lang="fr-FR" sz="1800" spc="-1" strike="noStrike">
                <a:solidFill>
                  <a:srgbClr val="424a52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(MAPS/NSS).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24a5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ff66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 iAWACS Workshop</a:t>
            </a:r>
            <a:endParaRPr b="0" lang="en-US" sz="1400" spc="-1" strike="noStrike">
              <a:solidFill>
                <a:srgbClr val="424a5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LAVAL – October 2009</a:t>
            </a:r>
            <a:endParaRPr b="0" lang="en-US" sz="1400" spc="-1" strike="noStrike">
              <a:solidFill>
                <a:srgbClr val="424a52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533520" y="1638360"/>
            <a:ext cx="8102520" cy="3432960"/>
            <a:chOff x="533520" y="1638360"/>
            <a:chExt cx="8102520" cy="3432960"/>
          </a:xfrm>
        </p:grpSpPr>
        <p:sp>
          <p:nvSpPr>
            <p:cNvPr id="166" name=""/>
            <p:cNvSpPr/>
            <p:nvPr/>
          </p:nvSpPr>
          <p:spPr>
            <a:xfrm>
              <a:off x="596880" y="1736280"/>
              <a:ext cx="8039160" cy="33350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3520" y="1638360"/>
              <a:ext cx="8039160" cy="3364200"/>
            </a:xfrm>
            <a:prstGeom prst="roundRect">
              <a:avLst>
                <a:gd name="adj" fmla="val 16667"/>
              </a:avLst>
            </a:prstGeom>
            <a:solidFill>
              <a:srgbClr val="f5f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39640" y="1625760"/>
            <a:ext cx="8039160" cy="450360"/>
            <a:chOff x="539640" y="1625760"/>
            <a:chExt cx="8039160" cy="450360"/>
          </a:xfrm>
        </p:grpSpPr>
        <p:sp>
          <p:nvSpPr>
            <p:cNvPr id="169" name=""/>
            <p:cNvSpPr/>
            <p:nvPr/>
          </p:nvSpPr>
          <p:spPr>
            <a:xfrm>
              <a:off x="539640" y="1625760"/>
              <a:ext cx="8039160" cy="440640"/>
            </a:xfrm>
            <a:prstGeom prst="roundRect">
              <a:avLst>
                <a:gd name="adj" fmla="val 37356"/>
              </a:avLst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9640" y="1878840"/>
              <a:ext cx="8039160" cy="197280"/>
            </a:xfrm>
            <a:prstGeom prst="rect">
              <a:avLst/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 Resulting mutation efficiency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660680"/>
            <a:ext cx="7894800" cy="41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Mutation entropy</a:t>
            </a: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-177840"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Uncertainty measurement (Shannon - 1948)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-177840"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The engine itself will be the channel and mutations the generated noise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-177840"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Average-based reasoning: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- </a:t>
            </a:r>
            <a:r>
              <a:rPr b="0" i="1" lang="en-GB" sz="1800" spc="-1" strike="noStrike">
                <a:solidFill>
                  <a:srgbClr val="424a52"/>
                </a:solidFill>
                <a:latin typeface="Arial"/>
              </a:rPr>
              <a:t>d grammar depth equivalent to the number of applied production rules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424a52"/>
                </a:solidFill>
                <a:latin typeface="Arial"/>
              </a:rPr>
              <a:t>- n the number of alternative production rules for a variable symbol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424a52"/>
                </a:solidFill>
                <a:latin typeface="Arial"/>
              </a:rPr>
              <a:t>- s number of possible valuations for attributes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800360" y="4165560"/>
            <a:ext cx="5195880" cy="625680"/>
            <a:chOff x="1800360" y="4165560"/>
            <a:chExt cx="5195880" cy="625680"/>
          </a:xfrm>
        </p:grpSpPr>
        <p:sp>
          <p:nvSpPr>
            <p:cNvPr id="174" name=""/>
            <p:cNvSpPr/>
            <p:nvPr/>
          </p:nvSpPr>
          <p:spPr>
            <a:xfrm>
              <a:off x="1800360" y="4165560"/>
              <a:ext cx="5195880" cy="62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2b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1932120" y="4307400"/>
              <a:ext cx="4898160" cy="35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"/>
          <p:cNvSpPr/>
          <p:nvPr/>
        </p:nvSpPr>
        <p:spPr>
          <a:xfrm>
            <a:off x="3965400" y="4267080"/>
            <a:ext cx="451080" cy="4651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11640" y="4268880"/>
            <a:ext cx="451080" cy="4651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94240" y="522288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0000"/>
                </a:solidFill>
                <a:latin typeface="Arial"/>
              </a:rPr>
              <a:t>Syntactic Factors (Fixed by the model)</a:t>
            </a:r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4213080" y="4701960"/>
            <a:ext cx="231840" cy="5079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130720" y="4700160"/>
            <a:ext cx="162000" cy="5079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96120" y="4253040"/>
            <a:ext cx="450720" cy="465120"/>
          </a:xfrm>
          <a:prstGeom prst="ellipse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8200" y="521172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8000"/>
                </a:solidFill>
                <a:latin typeface="Arial"/>
              </a:rPr>
              <a:t>Semantic Factor (Degree of freedom)</a:t>
            </a:r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6678720" y="4670280"/>
            <a:ext cx="155520" cy="5400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520560" y="2346480"/>
            <a:ext cx="8102520" cy="2158560"/>
            <a:chOff x="520560" y="2346480"/>
            <a:chExt cx="8102520" cy="2158560"/>
          </a:xfrm>
        </p:grpSpPr>
        <p:sp>
          <p:nvSpPr>
            <p:cNvPr id="185" name=""/>
            <p:cNvSpPr/>
            <p:nvPr/>
          </p:nvSpPr>
          <p:spPr>
            <a:xfrm>
              <a:off x="583920" y="2408040"/>
              <a:ext cx="8039160" cy="20970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0560" y="2346480"/>
              <a:ext cx="8039160" cy="2115360"/>
            </a:xfrm>
            <a:prstGeom prst="roundRect">
              <a:avLst>
                <a:gd name="adj" fmla="val 16667"/>
              </a:avLst>
            </a:prstGeom>
            <a:solidFill>
              <a:srgbClr val="f5f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27040" y="2333520"/>
            <a:ext cx="8039160" cy="451080"/>
            <a:chOff x="527040" y="2333520"/>
            <a:chExt cx="8039160" cy="451080"/>
          </a:xfrm>
        </p:grpSpPr>
        <p:sp>
          <p:nvSpPr>
            <p:cNvPr id="188" name=""/>
            <p:cNvSpPr/>
            <p:nvPr/>
          </p:nvSpPr>
          <p:spPr>
            <a:xfrm>
              <a:off x="527040" y="2333520"/>
              <a:ext cx="8039160" cy="441000"/>
            </a:xfrm>
            <a:prstGeom prst="roundRect">
              <a:avLst>
                <a:gd name="adj" fmla="val 37356"/>
              </a:avLst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7040" y="2586960"/>
              <a:ext cx="8039160" cy="197640"/>
            </a:xfrm>
            <a:prstGeom prst="rect">
              <a:avLst/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814248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 Fighting mutations: detection complexity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660680"/>
            <a:ext cx="7996320" cy="41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Detection complexity</a:t>
            </a: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-177840">
              <a:lnSpc>
                <a:spcPct val="90000"/>
              </a:lnSpc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Behavioral detection working on misuse signature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-177840">
              <a:lnSpc>
                <a:spcPct val="90000"/>
              </a:lnSpc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Signatures expressible as Boolean formulae  </a:t>
            </a: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(Filiol et al.- 2006/07)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-177840">
              <a:lnSpc>
                <a:spcPct val="90000"/>
              </a:lnSpc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Reduction to a satisfability problem </a:t>
            </a: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       (Spinellis - 2003)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424a52"/>
                </a:solidFill>
                <a:latin typeface="Symbol"/>
                <a:ea typeface="Symbol"/>
              </a:rPr>
              <a:t></a:t>
            </a:r>
            <a:r>
              <a:rPr b="0" i="1" lang="en-GB" sz="1800" spc="-1" strike="noStrike">
                <a:solidFill>
                  <a:srgbClr val="424a52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424a52"/>
                </a:solidFill>
                <a:latin typeface="Arial"/>
              </a:rPr>
              <a:t>The behavioral detection of functional polymorphic malware           with finite size is </a:t>
            </a:r>
            <a:r>
              <a:rPr b="1" i="1" lang="en-GB" sz="1800" spc="-1" strike="noStrike">
                <a:solidFill>
                  <a:srgbClr val="424a52"/>
                </a:solidFill>
                <a:latin typeface="Arial"/>
              </a:rPr>
              <a:t>NP-complete</a:t>
            </a:r>
            <a:r>
              <a:rPr b="0" i="1" lang="en-GB" sz="1800" spc="-1" strike="noStrike">
                <a:solidFill>
                  <a:srgbClr val="424a52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46280" y="1199880"/>
            <a:ext cx="3681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300" spc="-1" strike="noStrike">
                <a:solidFill>
                  <a:srgbClr val="ff6600"/>
                </a:solidFill>
                <a:latin typeface="Arial"/>
              </a:rPr>
              <a:t>4</a:t>
            </a:r>
            <a:endParaRPr b="0" lang="en-US" sz="113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200" y="3122280"/>
            <a:ext cx="78836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lnSpc>
                <a:spcPts val="2999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24a52"/>
                </a:solidFill>
                <a:latin typeface="Arial"/>
                <a:ea typeface="Times New Roman"/>
              </a:rPr>
              <a:t>Engine Implementation and Use Cases</a:t>
            </a:r>
            <a:endParaRPr b="0" lang="en-US" sz="2700" spc="-1" strike="noStrike">
              <a:solidFill>
                <a:srgbClr val="424a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520560" y="1603440"/>
            <a:ext cx="8102520" cy="1506240"/>
            <a:chOff x="520560" y="1603440"/>
            <a:chExt cx="8102520" cy="1506240"/>
          </a:xfrm>
        </p:grpSpPr>
        <p:sp>
          <p:nvSpPr>
            <p:cNvPr id="195" name=""/>
            <p:cNvSpPr/>
            <p:nvPr/>
          </p:nvSpPr>
          <p:spPr>
            <a:xfrm>
              <a:off x="583920" y="1646280"/>
              <a:ext cx="8039160" cy="14634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0560" y="1603440"/>
              <a:ext cx="8039160" cy="1476360"/>
            </a:xfrm>
            <a:prstGeom prst="roundRect">
              <a:avLst>
                <a:gd name="adj" fmla="val 16667"/>
              </a:avLst>
            </a:prstGeom>
            <a:solidFill>
              <a:srgbClr val="f5f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527040" y="1590840"/>
            <a:ext cx="8039160" cy="450360"/>
            <a:chOff x="527040" y="1590840"/>
            <a:chExt cx="8039160" cy="450360"/>
          </a:xfrm>
        </p:grpSpPr>
        <p:sp>
          <p:nvSpPr>
            <p:cNvPr id="198" name=""/>
            <p:cNvSpPr/>
            <p:nvPr/>
          </p:nvSpPr>
          <p:spPr>
            <a:xfrm>
              <a:off x="527040" y="1590840"/>
              <a:ext cx="8039160" cy="440640"/>
            </a:xfrm>
            <a:prstGeom prst="roundRect">
              <a:avLst>
                <a:gd name="adj" fmla="val 37356"/>
              </a:avLst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7040" y="1843920"/>
              <a:ext cx="8039160" cy="197280"/>
            </a:xfrm>
            <a:prstGeom prst="rect">
              <a:avLst/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 Engine prototyping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28560" y="1660680"/>
            <a:ext cx="7894800" cy="41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Prototype architecture</a:t>
            </a: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61400" y="2602080"/>
            <a:ext cx="660240" cy="2273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06520" y="4165560"/>
            <a:ext cx="8114760" cy="1518840"/>
            <a:chOff x="506520" y="4165560"/>
            <a:chExt cx="8114760" cy="1518840"/>
          </a:xfrm>
        </p:grpSpPr>
        <p:sp>
          <p:nvSpPr>
            <p:cNvPr id="204" name=""/>
            <p:cNvSpPr/>
            <p:nvPr/>
          </p:nvSpPr>
          <p:spPr>
            <a:xfrm>
              <a:off x="569880" y="4208760"/>
              <a:ext cx="8051400" cy="14756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6520" y="4165560"/>
              <a:ext cx="8051400" cy="1488600"/>
            </a:xfrm>
            <a:prstGeom prst="roundRect">
              <a:avLst>
                <a:gd name="adj" fmla="val 16667"/>
              </a:avLst>
            </a:prstGeom>
            <a:solidFill>
              <a:srgbClr val="f5f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506520" y="2475000"/>
            <a:ext cx="8051760" cy="2235240"/>
          </a:xfrm>
          <a:prstGeom prst="rect">
            <a:avLst/>
          </a:prstGeom>
          <a:solidFill>
            <a:srgbClr val="f5f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8280" y="2305080"/>
            <a:ext cx="7808760" cy="29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2b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681120" y="2401920"/>
            <a:ext cx="769140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533520" y="1638360"/>
            <a:ext cx="8102520" cy="2827080"/>
            <a:chOff x="533520" y="1638360"/>
            <a:chExt cx="8102520" cy="2827080"/>
          </a:xfrm>
        </p:grpSpPr>
        <p:sp>
          <p:nvSpPr>
            <p:cNvPr id="210" name=""/>
            <p:cNvSpPr/>
            <p:nvPr/>
          </p:nvSpPr>
          <p:spPr>
            <a:xfrm>
              <a:off x="596880" y="1719000"/>
              <a:ext cx="8039160" cy="27464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3520" y="1638360"/>
              <a:ext cx="8039160" cy="2770200"/>
            </a:xfrm>
            <a:prstGeom prst="roundRect">
              <a:avLst>
                <a:gd name="adj" fmla="val 16667"/>
              </a:avLst>
            </a:prstGeom>
            <a:solidFill>
              <a:srgbClr val="f5f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39640" y="1625760"/>
            <a:ext cx="8039160" cy="450360"/>
            <a:chOff x="539640" y="1625760"/>
            <a:chExt cx="8039160" cy="450360"/>
          </a:xfrm>
        </p:grpSpPr>
        <p:sp>
          <p:nvSpPr>
            <p:cNvPr id="213" name=""/>
            <p:cNvSpPr/>
            <p:nvPr/>
          </p:nvSpPr>
          <p:spPr>
            <a:xfrm>
              <a:off x="539640" y="1625760"/>
              <a:ext cx="8039160" cy="440640"/>
            </a:xfrm>
            <a:prstGeom prst="roundRect">
              <a:avLst>
                <a:gd name="adj" fmla="val 37356"/>
              </a:avLst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9640" y="1878840"/>
              <a:ext cx="8039160" cy="197280"/>
            </a:xfrm>
            <a:prstGeom prst="rect">
              <a:avLst/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 Engine prototyping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660680"/>
            <a:ext cx="7894800" cy="41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emantic generation</a:t>
            </a: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-177840"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Semantic attributes determine code generation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424a52"/>
                </a:solidFill>
                <a:latin typeface="Arial"/>
              </a:rPr>
              <a:t>Choice between several rewriting rules for a given symbol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-177840"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Several purposes according to the attributes: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424a52"/>
                </a:solidFill>
                <a:latin typeface="Arial"/>
              </a:rPr>
              <a:t>-Object binding:</a:t>
            </a:r>
            <a:r>
              <a:rPr b="0" i="1" lang="en-GB" sz="1800" spc="-1" strike="noStrike">
                <a:solidFill>
                  <a:srgbClr val="424a52"/>
                </a:solidFill>
                <a:latin typeface="Arial"/>
              </a:rPr>
              <a:t> guarantees the data-flow between objects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424a52"/>
                </a:solidFill>
                <a:latin typeface="Arial"/>
              </a:rPr>
              <a:t>-Object typing:</a:t>
            </a:r>
            <a:r>
              <a:rPr b="0" i="1" lang="en-GB" sz="1800" spc="-1" strike="noStrike">
                <a:solidFill>
                  <a:srgbClr val="424a52"/>
                </a:solidFill>
                <a:latin typeface="Arial"/>
              </a:rPr>
              <a:t> modifies the interaction scheme (system calls)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424a52"/>
                </a:solidFill>
                <a:latin typeface="Arial"/>
              </a:rPr>
              <a:t>-Object characterization:</a:t>
            </a:r>
            <a:r>
              <a:rPr b="0" i="1" lang="en-GB" sz="1800" spc="-1" strike="noStrike">
                <a:solidFill>
                  <a:srgbClr val="424a52"/>
                </a:solidFill>
                <a:latin typeface="Arial"/>
              </a:rPr>
              <a:t> name, location, access…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533520" y="1252440"/>
            <a:ext cx="8102520" cy="2827080"/>
            <a:chOff x="533520" y="1252440"/>
            <a:chExt cx="8102520" cy="2827080"/>
          </a:xfrm>
        </p:grpSpPr>
        <p:sp>
          <p:nvSpPr>
            <p:cNvPr id="218" name=""/>
            <p:cNvSpPr/>
            <p:nvPr/>
          </p:nvSpPr>
          <p:spPr>
            <a:xfrm>
              <a:off x="596880" y="1333080"/>
              <a:ext cx="8039160" cy="27464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3520" y="1252440"/>
              <a:ext cx="8039160" cy="2770200"/>
            </a:xfrm>
            <a:prstGeom prst="roundRect">
              <a:avLst>
                <a:gd name="adj" fmla="val 16667"/>
              </a:avLst>
            </a:prstGeom>
            <a:solidFill>
              <a:srgbClr val="f5f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7975440" y="3144960"/>
            <a:ext cx="660600" cy="2273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20560" y="4708440"/>
            <a:ext cx="8115120" cy="1518840"/>
            <a:chOff x="520560" y="4708440"/>
            <a:chExt cx="8115120" cy="1518840"/>
          </a:xfrm>
        </p:grpSpPr>
        <p:sp>
          <p:nvSpPr>
            <p:cNvPr id="222" name=""/>
            <p:cNvSpPr/>
            <p:nvPr/>
          </p:nvSpPr>
          <p:spPr>
            <a:xfrm>
              <a:off x="583920" y="4751640"/>
              <a:ext cx="8051760" cy="14756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20560" y="4708440"/>
              <a:ext cx="8051760" cy="1488600"/>
            </a:xfrm>
            <a:prstGeom prst="roundRect">
              <a:avLst>
                <a:gd name="adj" fmla="val 16667"/>
              </a:avLst>
            </a:prstGeom>
            <a:solidFill>
              <a:srgbClr val="f5f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520560" y="3017880"/>
            <a:ext cx="8052120" cy="2235240"/>
          </a:xfrm>
          <a:prstGeom prst="rect">
            <a:avLst/>
          </a:prstGeom>
          <a:solidFill>
            <a:srgbClr val="f5f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39640" y="1239840"/>
            <a:ext cx="8039160" cy="450360"/>
            <a:chOff x="539640" y="1239840"/>
            <a:chExt cx="8039160" cy="450360"/>
          </a:xfrm>
        </p:grpSpPr>
        <p:sp>
          <p:nvSpPr>
            <p:cNvPr id="226" name=""/>
            <p:cNvSpPr/>
            <p:nvPr/>
          </p:nvSpPr>
          <p:spPr>
            <a:xfrm>
              <a:off x="539640" y="1239840"/>
              <a:ext cx="8039160" cy="440640"/>
            </a:xfrm>
            <a:prstGeom prst="roundRect">
              <a:avLst>
                <a:gd name="adj" fmla="val 37356"/>
              </a:avLst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9640" y="1492920"/>
              <a:ext cx="8039160" cy="197280"/>
            </a:xfrm>
            <a:prstGeom prst="rect">
              <a:avLst/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 Engine prototyping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274400"/>
            <a:ext cx="7894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emantic generation</a:t>
            </a: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-177840"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Examples of generated code for duplication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19320" y="2052720"/>
            <a:ext cx="669132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2b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1255680" y="2109960"/>
            <a:ext cx="6608880" cy="1909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003720" y="3187800"/>
            <a:ext cx="22611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Identifiers for binding</a:t>
            </a:r>
            <a:endParaRPr b="0" lang="en-US" sz="1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5440" y="4143240"/>
            <a:ext cx="234180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8000"/>
                </a:solidFill>
                <a:latin typeface="Arial"/>
              </a:rPr>
              <a:t>Type: Handle or FILE *</a:t>
            </a:r>
            <a:endParaRPr b="0" lang="en-US" sz="1600" spc="-1" strike="noStrike">
              <a:solidFill>
                <a:srgbClr val="ff6600"/>
              </a:solidFill>
              <a:latin typeface="Arial"/>
            </a:endParaRPr>
          </a:p>
        </p:txBody>
      </p:sp>
      <p:cxnSp>
        <p:nvCxnSpPr>
          <p:cNvPr id="234" name=""/>
          <p:cNvCxnSpPr>
            <a:stCxn id="232" idx="1"/>
            <a:endCxn id="235" idx="3"/>
          </p:cNvCxnSpPr>
          <p:nvPr/>
        </p:nvCxnSpPr>
        <p:spPr>
          <a:xfrm rot="10800000">
            <a:off x="5109480" y="3163320"/>
            <a:ext cx="867600" cy="202320"/>
          </a:xfrm>
          <a:prstGeom prst="bentConnector3">
            <a:avLst>
              <a:gd name="adj1" fmla="val 49439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5" name=""/>
          <p:cNvSpPr/>
          <p:nvPr/>
        </p:nvSpPr>
        <p:spPr>
          <a:xfrm>
            <a:off x="5021280" y="3054240"/>
            <a:ext cx="889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2" idx="1"/>
            <a:endCxn id="237" idx="3"/>
          </p:cNvCxnSpPr>
          <p:nvPr/>
        </p:nvCxnSpPr>
        <p:spPr>
          <a:xfrm flipV="1" rot="10800000">
            <a:off x="5110920" y="3365280"/>
            <a:ext cx="866160" cy="186480"/>
          </a:xfrm>
          <a:prstGeom prst="bentConnector3">
            <a:avLst>
              <a:gd name="adj1" fmla="val 49355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5022720" y="3441600"/>
            <a:ext cx="889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08000" y="3241800"/>
            <a:ext cx="889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3" idx="0"/>
            <a:endCxn id="238" idx="1"/>
          </p:cNvCxnSpPr>
          <p:nvPr/>
        </p:nvCxnSpPr>
        <p:spPr>
          <a:xfrm flipH="1" flipV="1" rot="5400000">
            <a:off x="1265040" y="3491640"/>
            <a:ext cx="783360" cy="501840"/>
          </a:xfrm>
          <a:prstGeom prst="bentConnector2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2784600" y="4284720"/>
            <a:ext cx="2219040" cy="170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...</a:t>
            </a:r>
            <a:r>
              <a:rPr b="1" lang="fr-FR" sz="1600" spc="-1" strike="noStrike">
                <a:solidFill>
                  <a:srgbClr val="3333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Courier New"/>
              </a:rPr>
              <a:t>call </a:t>
            </a:r>
            <a:r>
              <a:rPr b="1" lang="fr-FR" sz="1600" spc="-1" strike="noStrike">
                <a:solidFill>
                  <a:srgbClr val="008000"/>
                </a:solidFill>
                <a:latin typeface="Courier New"/>
              </a:rPr>
              <a:t>CreateFile</a:t>
            </a:r>
            <a:endParaRPr b="0" lang="en-US" sz="1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Courier New"/>
              </a:rPr>
              <a:t>mov </a:t>
            </a:r>
            <a:r>
              <a:rPr b="1" lang="fr-FR" sz="1600" spc="-1" strike="noStrike">
                <a:solidFill>
                  <a:srgbClr val="ff0000"/>
                </a:solidFill>
                <a:latin typeface="Courier New"/>
              </a:rPr>
              <a:t>@obj1</a:t>
            </a:r>
            <a:r>
              <a:rPr b="1" lang="fr-FR" sz="1600" spc="-1" strike="noStrike">
                <a:solidFill>
                  <a:srgbClr val="333399"/>
                </a:solidFill>
                <a:latin typeface="Courier New"/>
              </a:rPr>
              <a:t>, eax  </a:t>
            </a:r>
            <a:endParaRPr b="0" lang="en-US" sz="1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Courier New"/>
              </a:rPr>
              <a:t>push [</a:t>
            </a:r>
            <a:r>
              <a:rPr b="1" lang="fr-FR" sz="1600" spc="-1" strike="noStrike">
                <a:solidFill>
                  <a:srgbClr val="ff0000"/>
                </a:solidFill>
                <a:latin typeface="Courier New"/>
              </a:rPr>
              <a:t>@obj1</a:t>
            </a:r>
            <a:r>
              <a:rPr b="1" lang="fr-FR" sz="1600" spc="-1" strike="noStrike">
                <a:solidFill>
                  <a:srgbClr val="333399"/>
                </a:solidFill>
                <a:latin typeface="Courier New"/>
              </a:rPr>
              <a:t>]</a:t>
            </a:r>
            <a:r>
              <a:rPr b="1" lang="fr-FR" sz="1600" spc="-1" strike="noStrike">
                <a:solidFill>
                  <a:srgbClr val="3333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Courier New"/>
              </a:rPr>
              <a:t>call </a:t>
            </a:r>
            <a:r>
              <a:rPr b="1" lang="fr-FR" sz="1600" spc="-1" strike="noStrike">
                <a:solidFill>
                  <a:srgbClr val="008000"/>
                </a:solidFill>
                <a:latin typeface="Courier New"/>
              </a:rPr>
              <a:t>WriteFile</a:t>
            </a:r>
            <a:r>
              <a:rPr b="0" lang="fr-FR" sz="1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86520" y="4286160"/>
            <a:ext cx="2698560" cy="170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...</a:t>
            </a:r>
            <a:r>
              <a:rPr b="1" lang="fr-FR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fr-FR" sz="1600" spc="-1" strike="noStrike">
                <a:solidFill>
                  <a:srgbClr val="5f5f5f"/>
                </a:solidFill>
                <a:latin typeface="Courier New"/>
              </a:rPr>
              <a:t>;&lt;Creation&gt; </a:t>
            </a:r>
            <a:endParaRPr b="0" lang="en-US" sz="1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Courier New"/>
              </a:rPr>
              <a:t>call </a:t>
            </a:r>
            <a:r>
              <a:rPr b="1" lang="fr-FR" sz="1600" spc="-1" strike="noStrike">
                <a:solidFill>
                  <a:srgbClr val="008000"/>
                </a:solidFill>
                <a:latin typeface="Courier New"/>
              </a:rPr>
              <a:t>fopen</a:t>
            </a:r>
            <a:endParaRPr b="0" lang="en-US" sz="1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Courier New"/>
              </a:rPr>
              <a:t>mov </a:t>
            </a:r>
            <a:r>
              <a:rPr b="1" lang="fr-FR" sz="1600" spc="-1" strike="noStrike">
                <a:solidFill>
                  <a:srgbClr val="ff0000"/>
                </a:solidFill>
                <a:latin typeface="Courier New"/>
              </a:rPr>
              <a:t>@obj1</a:t>
            </a:r>
            <a:r>
              <a:rPr b="1" lang="fr-FR" sz="1600" spc="-1" strike="noStrike">
                <a:solidFill>
                  <a:srgbClr val="333399"/>
                </a:solidFill>
                <a:latin typeface="Courier New"/>
              </a:rPr>
              <a:t>, eax  </a:t>
            </a:r>
            <a:endParaRPr b="0" lang="en-US" sz="1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...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fr-FR" sz="1600" spc="-1" strike="noStrike">
                <a:solidFill>
                  <a:srgbClr val="5f5f5f"/>
                </a:solidFill>
                <a:latin typeface="Courier New"/>
              </a:rPr>
              <a:t>;&lt;Writing&gt; </a:t>
            </a:r>
            <a:endParaRPr b="0" lang="en-US" sz="1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Courier New"/>
              </a:rPr>
              <a:t>push [</a:t>
            </a:r>
            <a:r>
              <a:rPr b="1" lang="fr-FR" sz="1600" spc="-1" strike="noStrike">
                <a:solidFill>
                  <a:srgbClr val="ff0000"/>
                </a:solidFill>
                <a:latin typeface="Courier New"/>
              </a:rPr>
              <a:t>@obj1</a:t>
            </a:r>
            <a:r>
              <a:rPr b="1" lang="fr-FR" sz="1600" spc="-1" strike="noStrike">
                <a:solidFill>
                  <a:srgbClr val="333399"/>
                </a:solidFill>
                <a:latin typeface="Courier New"/>
              </a:rPr>
              <a:t>]</a:t>
            </a:r>
            <a:r>
              <a:rPr b="1" lang="fr-FR" sz="1600" spc="-1" strike="noStrike">
                <a:solidFill>
                  <a:srgbClr val="3333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Courier New"/>
              </a:rPr>
              <a:t>call </a:t>
            </a:r>
            <a:r>
              <a:rPr b="1" lang="fr-FR" sz="1600" spc="-1" strike="noStrike">
                <a:solidFill>
                  <a:srgbClr val="008000"/>
                </a:solidFill>
                <a:latin typeface="Courier New"/>
              </a:rPr>
              <a:t>fwrite</a:t>
            </a:r>
            <a:r>
              <a:rPr b="0" lang="fr-FR" sz="1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88320" y="3556080"/>
            <a:ext cx="0" cy="637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580080" y="4194000"/>
            <a:ext cx="408240" cy="625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89240" y="4497480"/>
            <a:ext cx="0" cy="637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74840" y="5135400"/>
            <a:ext cx="1361880" cy="5670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533520" y="1270080"/>
            <a:ext cx="8102520" cy="2826720"/>
            <a:chOff x="533520" y="1270080"/>
            <a:chExt cx="8102520" cy="2826720"/>
          </a:xfrm>
        </p:grpSpPr>
        <p:sp>
          <p:nvSpPr>
            <p:cNvPr id="247" name=""/>
            <p:cNvSpPr/>
            <p:nvPr/>
          </p:nvSpPr>
          <p:spPr>
            <a:xfrm>
              <a:off x="596880" y="1350720"/>
              <a:ext cx="8039160" cy="27460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3520" y="1270080"/>
              <a:ext cx="8039160" cy="2769840"/>
            </a:xfrm>
            <a:prstGeom prst="roundRect">
              <a:avLst>
                <a:gd name="adj" fmla="val 16667"/>
              </a:avLst>
            </a:prstGeom>
            <a:solidFill>
              <a:srgbClr val="f5f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39640" y="1257480"/>
            <a:ext cx="8039160" cy="450360"/>
            <a:chOff x="539640" y="1257480"/>
            <a:chExt cx="8039160" cy="450360"/>
          </a:xfrm>
        </p:grpSpPr>
        <p:sp>
          <p:nvSpPr>
            <p:cNvPr id="250" name=""/>
            <p:cNvSpPr/>
            <p:nvPr/>
          </p:nvSpPr>
          <p:spPr>
            <a:xfrm>
              <a:off x="539640" y="1257480"/>
              <a:ext cx="8039160" cy="440640"/>
            </a:xfrm>
            <a:prstGeom prst="roundRect">
              <a:avLst>
                <a:gd name="adj" fmla="val 37356"/>
              </a:avLst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9640" y="1510560"/>
              <a:ext cx="8039160" cy="197280"/>
            </a:xfrm>
            <a:prstGeom prst="rect">
              <a:avLst/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 Engine prototyping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975440" y="2562120"/>
            <a:ext cx="660600" cy="2273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20560" y="4125960"/>
            <a:ext cx="8115120" cy="1518840"/>
            <a:chOff x="520560" y="4125960"/>
            <a:chExt cx="8115120" cy="1518840"/>
          </a:xfrm>
        </p:grpSpPr>
        <p:sp>
          <p:nvSpPr>
            <p:cNvPr id="255" name=""/>
            <p:cNvSpPr/>
            <p:nvPr/>
          </p:nvSpPr>
          <p:spPr>
            <a:xfrm>
              <a:off x="583920" y="4169160"/>
              <a:ext cx="8051760" cy="14756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20560" y="4125960"/>
              <a:ext cx="8051760" cy="1488600"/>
            </a:xfrm>
            <a:prstGeom prst="roundRect">
              <a:avLst>
                <a:gd name="adj" fmla="val 16667"/>
              </a:avLst>
            </a:prstGeom>
            <a:solidFill>
              <a:srgbClr val="f5f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520560" y="2435400"/>
            <a:ext cx="8052120" cy="2234880"/>
          </a:xfrm>
          <a:prstGeom prst="rect">
            <a:avLst/>
          </a:prstGeom>
          <a:solidFill>
            <a:srgbClr val="f5f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3400560" y="1355760"/>
            <a:ext cx="2098440" cy="183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78948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Demonstration</a:t>
            </a: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-177840">
              <a:spcBef>
                <a:spcPts val="90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Worm Template: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-177840"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Execution Monitoring (Filemon, Regmon &amp; Fake SMTP Server):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424a52"/>
                </a:solidFill>
                <a:latin typeface="Arial"/>
              </a:rPr>
              <a:t>1</a:t>
            </a:r>
            <a:r>
              <a:rPr b="0" i="1" lang="fr-FR" sz="1800" spc="-1" strike="noStrike" baseline="30000">
                <a:solidFill>
                  <a:srgbClr val="424a52"/>
                </a:solidFill>
                <a:latin typeface="Arial"/>
              </a:rPr>
              <a:t>st</a:t>
            </a:r>
            <a:r>
              <a:rPr b="0" i="1" lang="fr-FR" sz="1800" spc="-1" strike="noStrike">
                <a:solidFill>
                  <a:srgbClr val="424a52"/>
                </a:solidFill>
                <a:latin typeface="Arial"/>
              </a:rPr>
              <a:t> capture:  </a:t>
            </a:r>
            <a:r>
              <a:rPr b="0" lang="fr-FR" sz="1800" spc="-1" strike="noStrike" u="sng">
                <a:solidFill>
                  <a:srgbClr val="cfc4b8"/>
                </a:solidFill>
                <a:uFillTx/>
                <a:latin typeface="Verdana"/>
                <a:hlinkClick r:id="rId4"/>
              </a:rPr>
              <a:t>videos</a:t>
            </a:r>
            <a:r>
              <a:rPr b="0" lang="fr-FR" sz="1800" spc="-1" strike="noStrike" u="sng">
                <a:solidFill>
                  <a:srgbClr val="cfc4b8"/>
                </a:solidFill>
                <a:uFillTx/>
                <a:latin typeface="Verdana"/>
                <a:hlinkClick r:id="rId5"/>
              </a:rPr>
              <a:t>\execution1.avi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424a52"/>
                </a:solidFill>
                <a:latin typeface="Arial"/>
              </a:rPr>
              <a:t>2</a:t>
            </a:r>
            <a:r>
              <a:rPr b="0" i="1" lang="fr-FR" sz="1800" spc="-1" strike="noStrike" baseline="30000">
                <a:solidFill>
                  <a:srgbClr val="424a52"/>
                </a:solidFill>
                <a:latin typeface="Arial"/>
              </a:rPr>
              <a:t>nd</a:t>
            </a:r>
            <a:r>
              <a:rPr b="0" i="1" lang="fr-FR" sz="1800" spc="-1" strike="noStrike">
                <a:solidFill>
                  <a:srgbClr val="424a52"/>
                </a:solidFill>
                <a:latin typeface="Arial"/>
              </a:rPr>
              <a:t> capture:</a:t>
            </a:r>
            <a:r>
              <a:rPr b="0" i="1" lang="fr-FR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fr-FR" sz="1800" spc="-1" strike="noStrike" u="sng">
                <a:solidFill>
                  <a:srgbClr val="cfc4b8"/>
                </a:solidFill>
                <a:uFillTx/>
                <a:latin typeface="Verdana"/>
                <a:hlinkClick r:id="rId6"/>
              </a:rPr>
              <a:t>videos</a:t>
            </a:r>
            <a:r>
              <a:rPr b="0" lang="fr-FR" sz="1800" spc="-1" strike="noStrike" u="sng">
                <a:solidFill>
                  <a:srgbClr val="cfc4b8"/>
                </a:solidFill>
                <a:uFillTx/>
                <a:latin typeface="Verdana"/>
                <a:hlinkClick r:id="rId7"/>
              </a:rPr>
              <a:t>\execution2.avi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8"/>
          <a:stretch/>
        </p:blipFill>
        <p:spPr>
          <a:xfrm>
            <a:off x="4853160" y="3817800"/>
            <a:ext cx="418932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533520" y="1866960"/>
            <a:ext cx="8102520" cy="2211120"/>
            <a:chOff x="533520" y="1866960"/>
            <a:chExt cx="8102520" cy="2211120"/>
          </a:xfrm>
        </p:grpSpPr>
        <p:sp>
          <p:nvSpPr>
            <p:cNvPr id="262" name=""/>
            <p:cNvSpPr/>
            <p:nvPr/>
          </p:nvSpPr>
          <p:spPr>
            <a:xfrm>
              <a:off x="596880" y="1929960"/>
              <a:ext cx="8039160" cy="214812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3520" y="1866960"/>
              <a:ext cx="8039160" cy="2166840"/>
            </a:xfrm>
            <a:prstGeom prst="roundRect">
              <a:avLst>
                <a:gd name="adj" fmla="val 16667"/>
              </a:avLst>
            </a:prstGeom>
            <a:solidFill>
              <a:srgbClr val="f5f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7975440" y="2373480"/>
            <a:ext cx="660600" cy="2273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20560" y="3936960"/>
            <a:ext cx="8115120" cy="1518840"/>
            <a:chOff x="520560" y="3936960"/>
            <a:chExt cx="8115120" cy="1518840"/>
          </a:xfrm>
        </p:grpSpPr>
        <p:sp>
          <p:nvSpPr>
            <p:cNvPr id="266" name=""/>
            <p:cNvSpPr/>
            <p:nvPr/>
          </p:nvSpPr>
          <p:spPr>
            <a:xfrm>
              <a:off x="583920" y="3980160"/>
              <a:ext cx="8051760" cy="14756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0560" y="3936960"/>
              <a:ext cx="8051760" cy="1488600"/>
            </a:xfrm>
            <a:prstGeom prst="roundRect">
              <a:avLst>
                <a:gd name="adj" fmla="val 16667"/>
              </a:avLst>
            </a:prstGeom>
            <a:solidFill>
              <a:srgbClr val="f5f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20560" y="2246400"/>
            <a:ext cx="8052120" cy="2235240"/>
          </a:xfrm>
          <a:prstGeom prst="rect">
            <a:avLst/>
          </a:prstGeom>
          <a:solidFill>
            <a:srgbClr val="f5f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9640" y="1854360"/>
            <a:ext cx="8039160" cy="450360"/>
            <a:chOff x="539640" y="1854360"/>
            <a:chExt cx="8039160" cy="450360"/>
          </a:xfrm>
        </p:grpSpPr>
        <p:sp>
          <p:nvSpPr>
            <p:cNvPr id="270" name=""/>
            <p:cNvSpPr/>
            <p:nvPr/>
          </p:nvSpPr>
          <p:spPr>
            <a:xfrm>
              <a:off x="539640" y="1854360"/>
              <a:ext cx="8039160" cy="440640"/>
            </a:xfrm>
            <a:prstGeom prst="roundRect">
              <a:avLst>
                <a:gd name="adj" fmla="val 37356"/>
              </a:avLst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9640" y="2107440"/>
              <a:ext cx="8039160" cy="197280"/>
            </a:xfrm>
            <a:prstGeom prst="rect">
              <a:avLst/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 Functional mutation to assess 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        unknown malware detection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200" y="1874520"/>
            <a:ext cx="81853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-177840">
              <a:spcBef>
                <a:spcPts val="90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Inverse functioning between functional mutation engines and detectors: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424a52"/>
                </a:solidFill>
                <a:latin typeface="Arial"/>
              </a:rPr>
              <a:t>- Detection translates raw data into abstract description for comparison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424a52"/>
                </a:solidFill>
                <a:latin typeface="Arial"/>
              </a:rPr>
              <a:t>- Mutation translates an abstract description into code for execution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-177840">
              <a:spcBef>
                <a:spcPts val="1800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Automated enumeration </a:t>
            </a: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        of the possible instances </a:t>
            </a: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        of known viral behaviors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-177840">
              <a:spcBef>
                <a:spcPts val="1800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Monitoring consecutive </a:t>
            </a: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               executions with an AV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98720" y="3373560"/>
            <a:ext cx="5239080" cy="2763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2b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3905280" y="3429000"/>
            <a:ext cx="507060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533520" y="1638360"/>
            <a:ext cx="8102520" cy="2166480"/>
            <a:chOff x="533520" y="1638360"/>
            <a:chExt cx="8102520" cy="2166480"/>
          </a:xfrm>
        </p:grpSpPr>
        <p:sp>
          <p:nvSpPr>
            <p:cNvPr id="277" name=""/>
            <p:cNvSpPr/>
            <p:nvPr/>
          </p:nvSpPr>
          <p:spPr>
            <a:xfrm>
              <a:off x="596880" y="1700280"/>
              <a:ext cx="8039160" cy="21045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33520" y="1638360"/>
              <a:ext cx="8039160" cy="2122920"/>
            </a:xfrm>
            <a:prstGeom prst="roundRect">
              <a:avLst>
                <a:gd name="adj" fmla="val 16667"/>
              </a:avLst>
            </a:prstGeom>
            <a:solidFill>
              <a:srgbClr val="f5f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39640" y="1625760"/>
            <a:ext cx="8039160" cy="450360"/>
            <a:chOff x="539640" y="1625760"/>
            <a:chExt cx="8039160" cy="450360"/>
          </a:xfrm>
        </p:grpSpPr>
        <p:sp>
          <p:nvSpPr>
            <p:cNvPr id="280" name=""/>
            <p:cNvSpPr/>
            <p:nvPr/>
          </p:nvSpPr>
          <p:spPr>
            <a:xfrm>
              <a:off x="539640" y="1625760"/>
              <a:ext cx="8039160" cy="440640"/>
            </a:xfrm>
            <a:prstGeom prst="roundRect">
              <a:avLst>
                <a:gd name="adj" fmla="val 37356"/>
              </a:avLst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9640" y="1878840"/>
              <a:ext cx="8039160" cy="197280"/>
            </a:xfrm>
            <a:prstGeom prst="rect">
              <a:avLst/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 Functional mutation to assess 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        unknown malware detection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28560" y="1660680"/>
            <a:ext cx="7894800" cy="41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Deployment and results</a:t>
            </a: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975440" y="2201760"/>
            <a:ext cx="660600" cy="2273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20560" y="3765600"/>
            <a:ext cx="8115120" cy="1518840"/>
            <a:chOff x="520560" y="3765600"/>
            <a:chExt cx="8115120" cy="1518840"/>
          </a:xfrm>
        </p:grpSpPr>
        <p:sp>
          <p:nvSpPr>
            <p:cNvPr id="286" name=""/>
            <p:cNvSpPr/>
            <p:nvPr/>
          </p:nvSpPr>
          <p:spPr>
            <a:xfrm>
              <a:off x="583920" y="3808800"/>
              <a:ext cx="8051760" cy="14756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20560" y="3765600"/>
              <a:ext cx="8051760" cy="1488600"/>
            </a:xfrm>
            <a:prstGeom prst="roundRect">
              <a:avLst>
                <a:gd name="adj" fmla="val 16667"/>
              </a:avLst>
            </a:prstGeom>
            <a:solidFill>
              <a:srgbClr val="f5f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520560" y="2075040"/>
            <a:ext cx="8052120" cy="2234880"/>
          </a:xfrm>
          <a:prstGeom prst="rect">
            <a:avLst/>
          </a:prstGeom>
          <a:solidFill>
            <a:srgbClr val="f5f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546120" y="2073240"/>
          <a:ext cx="8026200" cy="2905200"/>
        </p:xfrm>
        <a:graphic>
          <a:graphicData uri="http://schemas.openxmlformats.org/drawingml/2006/table">
            <a:tbl>
              <a:tblPr/>
              <a:tblGrid>
                <a:gridCol w="1184400"/>
                <a:gridCol w="785520"/>
                <a:gridCol w="1193040"/>
                <a:gridCol w="2397960"/>
                <a:gridCol w="2465280"/>
              </a:tblGrid>
              <a:tr h="337320"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</a:t>
                      </a:r>
                      <a:endParaRPr b="0" lang="en-US" sz="16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_A</a:t>
                      </a:r>
                      <a:endParaRPr b="0" lang="en-US" sz="16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_B</a:t>
                      </a:r>
                      <a:endParaRPr b="0" lang="en-US" sz="16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_C</a:t>
                      </a:r>
                      <a:endParaRPr b="0" lang="en-US" sz="16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_D</a:t>
                      </a:r>
                      <a:endParaRPr b="0" lang="en-US" sz="16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24040">
                <a:tc>
                  <a:txBody>
                    <a:bodyPr lIns="72000" rIns="72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ion Method</a:t>
                      </a:r>
                      <a:endParaRPr b="0" lang="en-US" sz="16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uristic</a:t>
                      </a:r>
                      <a:endParaRPr b="0" lang="en-US" sz="16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ction monitoring        &amp; Behavioral blocking</a:t>
                      </a:r>
                      <a:endParaRPr b="0" lang="en-US" sz="16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ent behaviors monitoring</a:t>
                      </a:r>
                      <a:endParaRPr b="0" lang="en-US" sz="16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 rowSpan="3">
                  <a:txBody>
                    <a:bodyPr lIns="72000" rIns="72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ion Rate (500 executions)</a:t>
                      </a:r>
                      <a:endParaRPr b="0" lang="en-US" sz="16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6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 new PE viruses</a:t>
                      </a:r>
                      <a:endParaRPr b="0" lang="en-US" sz="16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 generic P2P Worm                   </a:t>
                      </a:r>
                      <a:endParaRPr b="0" lang="en-US" sz="16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 of duplications</a:t>
                      </a:r>
                      <a:endParaRPr b="0" lang="en-US" sz="16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 generic Trojan</a:t>
                      </a:r>
                      <a:endParaRPr b="0" lang="en-US" sz="16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% of mail propagations &amp; 56% of P2P ones</a:t>
                      </a:r>
                      <a:endParaRPr b="0" lang="en-US" sz="16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b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 blocked through registry access (independent)</a:t>
                      </a:r>
                      <a:endParaRPr b="0" lang="en-US" sz="16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 of residency attempts</a:t>
                      </a:r>
                      <a:endParaRPr b="0" lang="en-US" sz="16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4659480" y="3454560"/>
            <a:ext cx="580680" cy="0"/>
          </a:xfrm>
          <a:prstGeom prst="line">
            <a:avLst/>
          </a:prstGeom>
          <a:ln w="9360">
            <a:solidFill>
              <a:srgbClr val="332b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75320" y="4041720"/>
            <a:ext cx="581040" cy="0"/>
          </a:xfrm>
          <a:prstGeom prst="line">
            <a:avLst/>
          </a:prstGeom>
          <a:ln w="9360">
            <a:solidFill>
              <a:srgbClr val="332b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89680" y="3456000"/>
            <a:ext cx="581040" cy="0"/>
          </a:xfrm>
          <a:prstGeom prst="line">
            <a:avLst/>
          </a:prstGeom>
          <a:ln w="9360">
            <a:solidFill>
              <a:srgbClr val="332b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77080" y="4314960"/>
            <a:ext cx="581040" cy="0"/>
          </a:xfrm>
          <a:prstGeom prst="line">
            <a:avLst/>
          </a:prstGeom>
          <a:ln w="9360">
            <a:solidFill>
              <a:srgbClr val="332b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1199880"/>
            <a:ext cx="3681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300" spc="-1" strike="noStrike">
                <a:solidFill>
                  <a:srgbClr val="ff6600"/>
                </a:solidFill>
                <a:latin typeface="Arial"/>
              </a:rPr>
              <a:t>5</a:t>
            </a:r>
            <a:endParaRPr b="0" lang="en-US" sz="113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200" y="3122280"/>
            <a:ext cx="78836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lnSpc>
                <a:spcPts val="2999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24a52"/>
                </a:solidFill>
                <a:latin typeface="Arial"/>
                <a:ea typeface="Times New Roman"/>
              </a:rPr>
              <a:t>Considerations and Perspectives</a:t>
            </a:r>
            <a:endParaRPr b="0" lang="en-US" sz="2700" spc="-1" strike="noStrike">
              <a:solidFill>
                <a:srgbClr val="424a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520560" y="4135320"/>
            <a:ext cx="8102520" cy="1531800"/>
            <a:chOff x="520560" y="4135320"/>
            <a:chExt cx="8102520" cy="1531800"/>
          </a:xfrm>
        </p:grpSpPr>
        <p:sp>
          <p:nvSpPr>
            <p:cNvPr id="87" name=""/>
            <p:cNvSpPr/>
            <p:nvPr/>
          </p:nvSpPr>
          <p:spPr>
            <a:xfrm>
              <a:off x="583920" y="4178880"/>
              <a:ext cx="8039160" cy="14882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0560" y="4135320"/>
              <a:ext cx="8039160" cy="1501200"/>
            </a:xfrm>
            <a:prstGeom prst="roundRect">
              <a:avLst>
                <a:gd name="adj" fmla="val 16667"/>
              </a:avLst>
            </a:prstGeom>
            <a:solidFill>
              <a:srgbClr val="f5f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27040" y="4122720"/>
            <a:ext cx="8039160" cy="379440"/>
            <a:chOff x="527040" y="4122720"/>
            <a:chExt cx="8039160" cy="379440"/>
          </a:xfrm>
        </p:grpSpPr>
        <p:sp>
          <p:nvSpPr>
            <p:cNvPr id="90" name=""/>
            <p:cNvSpPr/>
            <p:nvPr/>
          </p:nvSpPr>
          <p:spPr>
            <a:xfrm>
              <a:off x="527040" y="4122720"/>
              <a:ext cx="8039160" cy="370800"/>
            </a:xfrm>
            <a:prstGeom prst="roundRect">
              <a:avLst>
                <a:gd name="adj" fmla="val 37356"/>
              </a:avLst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7040" y="4335840"/>
              <a:ext cx="8039160" cy="166320"/>
            </a:xfrm>
            <a:prstGeom prst="rect">
              <a:avLst/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33520" y="1638360"/>
            <a:ext cx="8102520" cy="2199960"/>
            <a:chOff x="533520" y="1638360"/>
            <a:chExt cx="8102520" cy="2199960"/>
          </a:xfrm>
        </p:grpSpPr>
        <p:sp>
          <p:nvSpPr>
            <p:cNvPr id="93" name=""/>
            <p:cNvSpPr/>
            <p:nvPr/>
          </p:nvSpPr>
          <p:spPr>
            <a:xfrm>
              <a:off x="596880" y="1701000"/>
              <a:ext cx="8039160" cy="21373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3520" y="1638360"/>
              <a:ext cx="8039160" cy="2155680"/>
            </a:xfrm>
            <a:prstGeom prst="roundRect">
              <a:avLst>
                <a:gd name="adj" fmla="val 16667"/>
              </a:avLst>
            </a:prstGeom>
            <a:solidFill>
              <a:srgbClr val="f5f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1. Outline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39640" y="1625760"/>
            <a:ext cx="8039160" cy="450360"/>
            <a:chOff x="539640" y="1625760"/>
            <a:chExt cx="8039160" cy="450360"/>
          </a:xfrm>
        </p:grpSpPr>
        <p:sp>
          <p:nvSpPr>
            <p:cNvPr id="97" name=""/>
            <p:cNvSpPr/>
            <p:nvPr/>
          </p:nvSpPr>
          <p:spPr>
            <a:xfrm>
              <a:off x="539640" y="1625760"/>
              <a:ext cx="8039160" cy="440640"/>
            </a:xfrm>
            <a:prstGeom prst="roundRect">
              <a:avLst>
                <a:gd name="adj" fmla="val 37356"/>
              </a:avLst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9640" y="1878840"/>
              <a:ext cx="8039160" cy="197280"/>
            </a:xfrm>
            <a:prstGeom prst="rect">
              <a:avLst/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660680"/>
            <a:ext cx="7894800" cy="41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text</a:t>
            </a: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-177840"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Malware creation reusing functionality blocks: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modification, substitution, addition, deletion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-177840"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Virus Construction Kits with functionality customizing options: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VCL32, Phalcon/Skism-MPC, NGVCK…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-177840"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Automated mutations of form for malware 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oblematics</a:t>
            </a: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-177840"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Can we formalize modifications at the functional level?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-177840"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Can these modifications become automated mutations?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-177840"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If so, can we fight it?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indefinite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520560" y="3736800"/>
            <a:ext cx="8102520" cy="2516040"/>
            <a:chOff x="520560" y="3736800"/>
            <a:chExt cx="8102520" cy="2516040"/>
          </a:xfrm>
        </p:grpSpPr>
        <p:sp>
          <p:nvSpPr>
            <p:cNvPr id="297" name=""/>
            <p:cNvSpPr/>
            <p:nvPr/>
          </p:nvSpPr>
          <p:spPr>
            <a:xfrm>
              <a:off x="583920" y="3808440"/>
              <a:ext cx="8039160" cy="24444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0560" y="3736800"/>
              <a:ext cx="8039160" cy="2465640"/>
            </a:xfrm>
            <a:prstGeom prst="roundRect">
              <a:avLst>
                <a:gd name="adj" fmla="val 16667"/>
              </a:avLst>
            </a:prstGeom>
            <a:solidFill>
              <a:srgbClr val="f5f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27040" y="3724200"/>
            <a:ext cx="8039160" cy="451080"/>
            <a:chOff x="527040" y="3724200"/>
            <a:chExt cx="8039160" cy="451080"/>
          </a:xfrm>
        </p:grpSpPr>
        <p:sp>
          <p:nvSpPr>
            <p:cNvPr id="300" name=""/>
            <p:cNvSpPr/>
            <p:nvPr/>
          </p:nvSpPr>
          <p:spPr>
            <a:xfrm>
              <a:off x="527040" y="3724200"/>
              <a:ext cx="8039160" cy="441000"/>
            </a:xfrm>
            <a:prstGeom prst="roundRect">
              <a:avLst>
                <a:gd name="adj" fmla="val 37356"/>
              </a:avLst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040" y="3977640"/>
              <a:ext cx="8039160" cy="197640"/>
            </a:xfrm>
            <a:prstGeom prst="rect">
              <a:avLst/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20560" y="1023840"/>
            <a:ext cx="8102520" cy="2514240"/>
            <a:chOff x="520560" y="1023840"/>
            <a:chExt cx="8102520" cy="2514240"/>
          </a:xfrm>
        </p:grpSpPr>
        <p:sp>
          <p:nvSpPr>
            <p:cNvPr id="303" name=""/>
            <p:cNvSpPr/>
            <p:nvPr/>
          </p:nvSpPr>
          <p:spPr>
            <a:xfrm>
              <a:off x="583920" y="1095480"/>
              <a:ext cx="8039160" cy="24426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20560" y="1023840"/>
              <a:ext cx="8039160" cy="2463840"/>
            </a:xfrm>
            <a:prstGeom prst="roundRect">
              <a:avLst>
                <a:gd name="adj" fmla="val 16667"/>
              </a:avLst>
            </a:prstGeom>
            <a:solidFill>
              <a:srgbClr val="f5f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27040" y="1049400"/>
            <a:ext cx="8039160" cy="450360"/>
            <a:chOff x="527040" y="1049400"/>
            <a:chExt cx="8039160" cy="450360"/>
          </a:xfrm>
        </p:grpSpPr>
        <p:sp>
          <p:nvSpPr>
            <p:cNvPr id="306" name=""/>
            <p:cNvSpPr/>
            <p:nvPr/>
          </p:nvSpPr>
          <p:spPr>
            <a:xfrm>
              <a:off x="527040" y="1049400"/>
              <a:ext cx="8039160" cy="440640"/>
            </a:xfrm>
            <a:prstGeom prst="roundRect">
              <a:avLst>
                <a:gd name="adj" fmla="val 37356"/>
              </a:avLst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7040" y="1302480"/>
              <a:ext cx="8039160" cy="197280"/>
            </a:xfrm>
            <a:prstGeom prst="rect">
              <a:avLst/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5. Considerations and perspectives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068480"/>
            <a:ext cx="7894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thical issues (helping malware writers?)</a:t>
            </a: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  <a:p>
            <a:pPr lvl="1" marL="439920" indent="-176040"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Anticipation and formalization are key points in the AV struggle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39920" indent="-176040"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Prototype developed for                                                                    research purpose ONLY: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39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- Still detectable by  conventional means  (signatures)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39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- Restricted set of behaviors and no offensive payload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39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- Still far from a viable operational attack 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39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39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tribution and perspectives</a:t>
            </a: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  <a:p>
            <a:pPr lvl="1" marL="439920" indent="-176040"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Several possible uses: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39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product assessment, software protection, new ones to discover?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39920" indent="-176040"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Detectors and mutation engines have an inverse functioning: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39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Reverse translation from implementation to model for comparison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39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a52"/>
                </a:solidFill>
                <a:latin typeface="Wingdings 3"/>
                <a:ea typeface="Wingdings 3"/>
              </a:rPr>
              <a:t></a:t>
            </a: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Inversing the translation process should help to generate new </a:t>
            </a: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                                 signatures with a better coverage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indefinite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indefinite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indefinite"/>
                                        <p:tgtEl>
                                          <p:spTgt spid="3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3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3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3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6600"/>
                </a:solidFill>
                <a:latin typeface="Arial"/>
              </a:rPr>
              <a:t>Thank you for your attention,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660680"/>
            <a:ext cx="7894800" cy="41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4a52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4a52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4a52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4a52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4a52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6600"/>
                </a:solidFill>
                <a:latin typeface="Arial"/>
              </a:rPr>
              <a:t>Any questions?</a:t>
            </a:r>
            <a:endParaRPr b="0" lang="en-US" sz="3600" spc="-1" strike="noStrike">
              <a:solidFill>
                <a:srgbClr val="424a52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179360" y="1695600"/>
            <a:ext cx="18576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81200" y="549360"/>
            <a:ext cx="789444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71640" y="1247400"/>
            <a:ext cx="770256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a52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424a52"/>
                </a:solidFill>
                <a:latin typeface="Arial"/>
              </a:rPr>
              <a:t>Outline</a:t>
            </a: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24a5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a52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424a52"/>
                </a:solidFill>
                <a:latin typeface="Arial"/>
              </a:rPr>
              <a:t>From Form-based Mutations to Function-based Mutations</a:t>
            </a: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1440">
              <a:lnSpc>
                <a:spcPct val="90000"/>
              </a:lnSpc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Grammars and form-based mutations 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1440">
              <a:lnSpc>
                <a:spcPct val="90000"/>
              </a:lnSpc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Enriching grammars for function-based mutations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24a5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a52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424a52"/>
                </a:solidFill>
                <a:latin typeface="Arial"/>
              </a:rPr>
              <a:t>Functional Polymorphism using Compilation Theory</a:t>
            </a: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1440">
              <a:lnSpc>
                <a:spcPct val="90000"/>
              </a:lnSpc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Compilers and functional polymorphic engines: a parallel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1440">
              <a:lnSpc>
                <a:spcPct val="90000"/>
              </a:lnSpc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Resulting mutation efficiency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1440">
              <a:lnSpc>
                <a:spcPct val="90000"/>
              </a:lnSpc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Fighting mutations: detection complexity 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24a5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a52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424a52"/>
                </a:solidFill>
                <a:latin typeface="Arial"/>
              </a:rPr>
              <a:t>Engine Implementation and Use Cases</a:t>
            </a: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1440">
              <a:lnSpc>
                <a:spcPct val="90000"/>
              </a:lnSpc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Engine prototyping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1440">
              <a:lnSpc>
                <a:spcPct val="90000"/>
              </a:lnSpc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Functional mutations to assess unknown malware detection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a52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424a52"/>
                </a:solidFill>
                <a:latin typeface="Arial"/>
              </a:rPr>
              <a:t>Considerations and perspectives</a:t>
            </a: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24a5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8800" y="1082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7000" y="1566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1400" y="2701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2840" y="4103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2840" y="5375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6280" y="1199880"/>
            <a:ext cx="3681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300" spc="-1" strike="noStrike">
                <a:solidFill>
                  <a:srgbClr val="ff6600"/>
                </a:solidFill>
                <a:latin typeface="Arial"/>
              </a:rPr>
              <a:t>2</a:t>
            </a:r>
            <a:endParaRPr b="0" lang="en-US" sz="113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200" y="3122280"/>
            <a:ext cx="78836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lnSpc>
                <a:spcPts val="2999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24a52"/>
                </a:solidFill>
                <a:latin typeface="Arial"/>
                <a:ea typeface="Times New Roman"/>
              </a:rPr>
              <a:t>From Form-based Mutations                                  </a:t>
            </a:r>
            <a:r>
              <a:rPr b="0" lang="en-US" sz="2700" spc="-1" strike="noStrike">
                <a:solidFill>
                  <a:srgbClr val="424a52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424a52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424a52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424a52"/>
                </a:solidFill>
                <a:latin typeface="Arial"/>
                <a:ea typeface="Times New Roman"/>
              </a:rPr>
              <a:t>to Function-based Mutations</a:t>
            </a:r>
            <a:endParaRPr b="0" lang="en-US" sz="2700" spc="-1" strike="noStrike">
              <a:solidFill>
                <a:srgbClr val="424a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520560" y="3178080"/>
            <a:ext cx="8102520" cy="2852640"/>
            <a:chOff x="520560" y="3178080"/>
            <a:chExt cx="8102520" cy="2852640"/>
          </a:xfrm>
        </p:grpSpPr>
        <p:sp>
          <p:nvSpPr>
            <p:cNvPr id="111" name=""/>
            <p:cNvSpPr/>
            <p:nvPr/>
          </p:nvSpPr>
          <p:spPr>
            <a:xfrm>
              <a:off x="583920" y="3259440"/>
              <a:ext cx="8039160" cy="27712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0560" y="3178080"/>
              <a:ext cx="8039160" cy="2795400"/>
            </a:xfrm>
            <a:prstGeom prst="roundRect">
              <a:avLst>
                <a:gd name="adj" fmla="val 16667"/>
              </a:avLst>
            </a:prstGeom>
            <a:solidFill>
              <a:srgbClr val="f5f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27040" y="3165480"/>
            <a:ext cx="8039160" cy="450360"/>
            <a:chOff x="527040" y="3165480"/>
            <a:chExt cx="8039160" cy="450360"/>
          </a:xfrm>
        </p:grpSpPr>
        <p:sp>
          <p:nvSpPr>
            <p:cNvPr id="114" name=""/>
            <p:cNvSpPr/>
            <p:nvPr/>
          </p:nvSpPr>
          <p:spPr>
            <a:xfrm>
              <a:off x="527040" y="3165480"/>
              <a:ext cx="8039160" cy="440640"/>
            </a:xfrm>
            <a:prstGeom prst="roundRect">
              <a:avLst>
                <a:gd name="adj" fmla="val 37356"/>
              </a:avLst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7040" y="3418560"/>
              <a:ext cx="8039160" cy="197280"/>
            </a:xfrm>
            <a:prstGeom prst="rect">
              <a:avLst/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33520" y="1481040"/>
            <a:ext cx="8102520" cy="1212840"/>
            <a:chOff x="533520" y="1481040"/>
            <a:chExt cx="8102520" cy="1212840"/>
          </a:xfrm>
        </p:grpSpPr>
        <p:sp>
          <p:nvSpPr>
            <p:cNvPr id="117" name=""/>
            <p:cNvSpPr/>
            <p:nvPr/>
          </p:nvSpPr>
          <p:spPr>
            <a:xfrm>
              <a:off x="596880" y="1515600"/>
              <a:ext cx="8039160" cy="117828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3520" y="1481040"/>
              <a:ext cx="8039160" cy="1188360"/>
            </a:xfrm>
            <a:prstGeom prst="roundRect">
              <a:avLst>
                <a:gd name="adj" fmla="val 16667"/>
              </a:avLst>
            </a:prstGeom>
            <a:solidFill>
              <a:srgbClr val="f5f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Grammars and form-based mutations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9640" y="1454040"/>
            <a:ext cx="8039160" cy="451080"/>
            <a:chOff x="539640" y="1454040"/>
            <a:chExt cx="8039160" cy="451080"/>
          </a:xfrm>
        </p:grpSpPr>
        <p:sp>
          <p:nvSpPr>
            <p:cNvPr id="121" name=""/>
            <p:cNvSpPr/>
            <p:nvPr/>
          </p:nvSpPr>
          <p:spPr>
            <a:xfrm>
              <a:off x="539640" y="1454040"/>
              <a:ext cx="8039160" cy="441000"/>
            </a:xfrm>
            <a:prstGeom prst="roundRect">
              <a:avLst>
                <a:gd name="adj" fmla="val 37356"/>
              </a:avLst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9640" y="1707480"/>
              <a:ext cx="8039160" cy="197640"/>
            </a:xfrm>
            <a:prstGeom prst="rect">
              <a:avLst/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1503000"/>
            <a:ext cx="789480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dvances in code mutation</a:t>
            </a: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-177840"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Oligomorphism / Polymorphism </a:t>
            </a: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(MtE, ABM…</a:t>
            </a:r>
            <a:r>
              <a:rPr b="0" i="1" lang="en-US" sz="1800" spc="-1" strike="noStrike" baseline="30000">
                <a:solidFill>
                  <a:srgbClr val="424a52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-177840"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Advanced metamorphism </a:t>
            </a: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(MetaPHOR…)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24a52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tamorphism</a:t>
            </a: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-177840"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Blocks of instructions can have the same effect on the memory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24a52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Degree of freedom for possible mutations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-177840"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Mutations based on obfuscation techniques: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junk code insertion, permutations, opaque predicates…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-177840"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Formalization by rewriting a grammar into an another (Filiol - 2007)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- Grammars used to describe the code syntax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- Well-chosen rewriting rules lead to undecidable detection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38120" y="2705040"/>
            <a:ext cx="82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st of polymorphic engines: </a:t>
            </a:r>
            <a:r>
              <a:rPr b="0" lang="fr-FR" sz="1400" spc="-1" strike="noStrike" u="sng">
                <a:solidFill>
                  <a:srgbClr val="0033cc"/>
                </a:solidFill>
                <a:uFillTx/>
                <a:latin typeface="Arial"/>
              </a:rPr>
              <a:t>http://vx.netlux.org/lib/static/vdat/engine1.htm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533520" y="1595520"/>
            <a:ext cx="8102520" cy="1518840"/>
            <a:chOff x="533520" y="1595520"/>
            <a:chExt cx="8102520" cy="1518840"/>
          </a:xfrm>
        </p:grpSpPr>
        <p:sp>
          <p:nvSpPr>
            <p:cNvPr id="126" name=""/>
            <p:cNvSpPr/>
            <p:nvPr/>
          </p:nvSpPr>
          <p:spPr>
            <a:xfrm>
              <a:off x="596880" y="1638720"/>
              <a:ext cx="8039160" cy="14756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3520" y="1595520"/>
              <a:ext cx="8039160" cy="1488600"/>
            </a:xfrm>
            <a:prstGeom prst="roundRect">
              <a:avLst>
                <a:gd name="adj" fmla="val 16667"/>
              </a:avLst>
            </a:prstGeom>
            <a:solidFill>
              <a:srgbClr val="f5f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39640" y="1582560"/>
            <a:ext cx="8039160" cy="451080"/>
            <a:chOff x="539640" y="1582560"/>
            <a:chExt cx="8039160" cy="451080"/>
          </a:xfrm>
        </p:grpSpPr>
        <p:sp>
          <p:nvSpPr>
            <p:cNvPr id="129" name=""/>
            <p:cNvSpPr/>
            <p:nvPr/>
          </p:nvSpPr>
          <p:spPr>
            <a:xfrm>
              <a:off x="539640" y="1582560"/>
              <a:ext cx="8039160" cy="441000"/>
            </a:xfrm>
            <a:prstGeom prst="roundRect">
              <a:avLst>
                <a:gd name="adj" fmla="val 37356"/>
              </a:avLst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9640" y="1836000"/>
              <a:ext cx="8039160" cy="197640"/>
            </a:xfrm>
            <a:prstGeom prst="rect">
              <a:avLst/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Enriching grammars for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unction-based mutations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75440" y="2844720"/>
            <a:ext cx="660600" cy="2273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20560" y="4622760"/>
            <a:ext cx="8115120" cy="1518840"/>
            <a:chOff x="520560" y="4622760"/>
            <a:chExt cx="8115120" cy="1518840"/>
          </a:xfrm>
        </p:grpSpPr>
        <p:sp>
          <p:nvSpPr>
            <p:cNvPr id="134" name=""/>
            <p:cNvSpPr/>
            <p:nvPr/>
          </p:nvSpPr>
          <p:spPr>
            <a:xfrm>
              <a:off x="583920" y="4665960"/>
              <a:ext cx="8051760" cy="14756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0560" y="4622760"/>
              <a:ext cx="8051760" cy="1488600"/>
            </a:xfrm>
            <a:prstGeom prst="roundRect">
              <a:avLst>
                <a:gd name="adj" fmla="val 16667"/>
              </a:avLst>
            </a:prstGeom>
            <a:solidFill>
              <a:srgbClr val="f5f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520560" y="2717640"/>
            <a:ext cx="8052120" cy="2235240"/>
          </a:xfrm>
          <a:prstGeom prst="rect">
            <a:avLst/>
          </a:prstGeom>
          <a:solidFill>
            <a:srgbClr val="f5f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8960" y="2451240"/>
            <a:ext cx="5240160" cy="1090440"/>
          </a:xfrm>
          <a:prstGeom prst="rect">
            <a:avLst/>
          </a:prstGeom>
          <a:solidFill>
            <a:srgbClr val="ffffff"/>
          </a:solidFill>
          <a:ln w="9360">
            <a:solidFill>
              <a:srgbClr val="332b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660320"/>
            <a:ext cx="78948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unctional mutation</a:t>
            </a: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-177840"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Several functions can have the same effect on the environment: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a52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424a52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424a52"/>
                </a:solidFill>
                <a:latin typeface="Garamond"/>
              </a:rPr>
              <a:t>    </a:t>
            </a:r>
            <a:r>
              <a:rPr b="1" lang="en-US" sz="1800" spc="-1" strike="noStrike">
                <a:solidFill>
                  <a:srgbClr val="424a52"/>
                </a:solidFill>
                <a:latin typeface="Garamond"/>
              </a:rPr>
              <a:t>Residency Example: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424a52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424a52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424a52"/>
                </a:solidFill>
                <a:latin typeface="Garamond"/>
              </a:rPr>
              <a:t>   </a:t>
            </a:r>
            <a:r>
              <a:rPr b="0" lang="en-US" sz="1800" spc="-1" strike="noStrike">
                <a:solidFill>
                  <a:srgbClr val="424a52"/>
                </a:solidFill>
                <a:latin typeface="Garamond"/>
              </a:rPr>
              <a:t>- registering through a run registry key,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424a52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424a52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424a52"/>
                </a:solidFill>
                <a:latin typeface="Garamond"/>
              </a:rPr>
              <a:t>   </a:t>
            </a:r>
            <a:r>
              <a:rPr b="0" lang="en-US" sz="1800" spc="-1" strike="noStrike">
                <a:solidFill>
                  <a:srgbClr val="424a52"/>
                </a:solidFill>
                <a:latin typeface="Garamond"/>
              </a:rPr>
              <a:t>- using automatic start of services,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424a52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424a52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424a52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424a52"/>
                </a:solidFill>
                <a:latin typeface="Garamond"/>
              </a:rPr>
              <a:t>   </a:t>
            </a:r>
            <a:r>
              <a:rPr b="0" lang="en-US" sz="1800" spc="-1" strike="noStrike">
                <a:solidFill>
                  <a:srgbClr val="424a52"/>
                </a:solidFill>
                <a:latin typeface="Garamond"/>
              </a:rPr>
              <a:t>- modifying configuration files such as win.ini...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24a52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Degree of freedom for possible mutations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-177840">
              <a:spcBef>
                <a:spcPts val="1239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a52"/>
                </a:solidFill>
                <a:latin typeface="Arial"/>
              </a:rPr>
              <a:t>A behavioral model must guarantee the functionality consistency</a:t>
            </a: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- Meta-structures more complex than simple instructions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- High-level description…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         … </a:t>
            </a: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Syntax level must be overcome to reach semantic level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24a52"/>
                </a:solidFill>
                <a:latin typeface="Symbol"/>
                <a:ea typeface="Symbol"/>
              </a:rPr>
              <a:t></a:t>
            </a: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Moving to </a:t>
            </a:r>
            <a:r>
              <a:rPr b="1" i="1" lang="en-US" sz="1800" spc="-1" strike="noStrike">
                <a:solidFill>
                  <a:srgbClr val="424a52"/>
                </a:solidFill>
                <a:latin typeface="Arial"/>
              </a:rPr>
              <a:t>attribute-grammars</a:t>
            </a: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 using existing models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424a52"/>
                </a:solidFill>
                <a:latin typeface="Arial"/>
              </a:rPr>
              <a:t>(Le Charlier et al.- 1995, Ford et al.-2004, Jacob et al.- 2008)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6280" y="1199880"/>
            <a:ext cx="3681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300" spc="-1" strike="noStrike">
                <a:solidFill>
                  <a:srgbClr val="ff6600"/>
                </a:solidFill>
                <a:latin typeface="Arial"/>
              </a:rPr>
              <a:t>3</a:t>
            </a:r>
            <a:endParaRPr b="0" lang="en-US" sz="113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3122280"/>
            <a:ext cx="80359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lnSpc>
                <a:spcPts val="2999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24a52"/>
                </a:solidFill>
                <a:latin typeface="Arial"/>
                <a:ea typeface="Times New Roman"/>
              </a:rPr>
              <a:t>Functional Polymorphism using Compilation Theory</a:t>
            </a:r>
            <a:endParaRPr b="0" lang="en-US" sz="2700" spc="-1" strike="noStrike">
              <a:solidFill>
                <a:srgbClr val="424a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533520" y="1946160"/>
            <a:ext cx="8102520" cy="1963440"/>
            <a:chOff x="533520" y="1946160"/>
            <a:chExt cx="8102520" cy="1963440"/>
          </a:xfrm>
        </p:grpSpPr>
        <p:sp>
          <p:nvSpPr>
            <p:cNvPr id="142" name=""/>
            <p:cNvSpPr/>
            <p:nvPr/>
          </p:nvSpPr>
          <p:spPr>
            <a:xfrm>
              <a:off x="596880" y="2001960"/>
              <a:ext cx="8039160" cy="19076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520" y="1946160"/>
              <a:ext cx="8039160" cy="1924200"/>
            </a:xfrm>
            <a:prstGeom prst="roundRect">
              <a:avLst>
                <a:gd name="adj" fmla="val 16667"/>
              </a:avLst>
            </a:prstGeom>
            <a:solidFill>
              <a:srgbClr val="f5f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39640" y="1933560"/>
            <a:ext cx="8039160" cy="450360"/>
            <a:chOff x="539640" y="1933560"/>
            <a:chExt cx="8039160" cy="450360"/>
          </a:xfrm>
        </p:grpSpPr>
        <p:sp>
          <p:nvSpPr>
            <p:cNvPr id="145" name=""/>
            <p:cNvSpPr/>
            <p:nvPr/>
          </p:nvSpPr>
          <p:spPr>
            <a:xfrm>
              <a:off x="539640" y="1933560"/>
              <a:ext cx="8039160" cy="440640"/>
            </a:xfrm>
            <a:prstGeom prst="roundRect">
              <a:avLst>
                <a:gd name="adj" fmla="val 37356"/>
              </a:avLst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9640" y="2186640"/>
              <a:ext cx="8039160" cy="197280"/>
            </a:xfrm>
            <a:prstGeom prst="rect">
              <a:avLst/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 Compilers and functional 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polymorphic engines: a parallel 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981080"/>
            <a:ext cx="78948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imilarities and differences</a:t>
            </a: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-177840"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Both translate a code description into executable code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-177840"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Compilers always generate a determined code (determinism)…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-177840">
              <a:spcBef>
                <a:spcPts val="451"/>
              </a:spcBef>
              <a:buClr>
                <a:srgbClr val="424a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… </a:t>
            </a:r>
            <a:r>
              <a:rPr b="0" lang="en-GB" sz="1800" spc="-1" strike="noStrike">
                <a:solidFill>
                  <a:srgbClr val="424a52"/>
                </a:solidFill>
                <a:latin typeface="Arial"/>
              </a:rPr>
              <a:t>whereas mutation engines generate random code (non-determinism)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lvl="1" marL="44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424a52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424a52"/>
                </a:solidFill>
                <a:latin typeface="Arial"/>
              </a:rPr>
              <a:t>Mutated variants correspond to the different derivations</a:t>
            </a:r>
            <a:endParaRPr b="0" lang="en-US" sz="1800" spc="-1" strike="noStrike">
              <a:solidFill>
                <a:srgbClr val="424a52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4a52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54120" y="4187880"/>
            <a:ext cx="4354560" cy="944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630600" y="5057640"/>
            <a:ext cx="480384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533520" y="1703520"/>
            <a:ext cx="8102520" cy="1963080"/>
            <a:chOff x="533520" y="1703520"/>
            <a:chExt cx="8102520" cy="1963080"/>
          </a:xfrm>
        </p:grpSpPr>
        <p:sp>
          <p:nvSpPr>
            <p:cNvPr id="152" name=""/>
            <p:cNvSpPr/>
            <p:nvPr/>
          </p:nvSpPr>
          <p:spPr>
            <a:xfrm>
              <a:off x="596880" y="1759320"/>
              <a:ext cx="8039160" cy="19072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520" y="1703520"/>
              <a:ext cx="8039160" cy="1923840"/>
            </a:xfrm>
            <a:prstGeom prst="roundRect">
              <a:avLst>
                <a:gd name="adj" fmla="val 16667"/>
              </a:avLst>
            </a:prstGeom>
            <a:solidFill>
              <a:srgbClr val="f5f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7975440" y="3016080"/>
            <a:ext cx="660600" cy="2273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20560" y="4794120"/>
            <a:ext cx="8115120" cy="1518840"/>
            <a:chOff x="520560" y="4794120"/>
            <a:chExt cx="8115120" cy="1518840"/>
          </a:xfrm>
        </p:grpSpPr>
        <p:sp>
          <p:nvSpPr>
            <p:cNvPr id="156" name=""/>
            <p:cNvSpPr/>
            <p:nvPr/>
          </p:nvSpPr>
          <p:spPr>
            <a:xfrm>
              <a:off x="583920" y="4837320"/>
              <a:ext cx="8051760" cy="14756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0560" y="4794120"/>
              <a:ext cx="8051760" cy="1488600"/>
            </a:xfrm>
            <a:prstGeom prst="roundRect">
              <a:avLst>
                <a:gd name="adj" fmla="val 16667"/>
              </a:avLst>
            </a:prstGeom>
            <a:solidFill>
              <a:srgbClr val="f5f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520560" y="2889360"/>
            <a:ext cx="8052120" cy="2235240"/>
          </a:xfrm>
          <a:prstGeom prst="rect">
            <a:avLst/>
          </a:prstGeom>
          <a:solidFill>
            <a:srgbClr val="f5f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39640" y="1690560"/>
            <a:ext cx="8039160" cy="451080"/>
            <a:chOff x="539640" y="1690560"/>
            <a:chExt cx="8039160" cy="451080"/>
          </a:xfrm>
        </p:grpSpPr>
        <p:sp>
          <p:nvSpPr>
            <p:cNvPr id="160" name=""/>
            <p:cNvSpPr/>
            <p:nvPr/>
          </p:nvSpPr>
          <p:spPr>
            <a:xfrm>
              <a:off x="539640" y="1690560"/>
              <a:ext cx="8039160" cy="441000"/>
            </a:xfrm>
            <a:prstGeom prst="roundRect">
              <a:avLst>
                <a:gd name="adj" fmla="val 37356"/>
              </a:avLst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9640" y="1944000"/>
              <a:ext cx="8039160" cy="197640"/>
            </a:xfrm>
            <a:prstGeom prst="rect">
              <a:avLst/>
            </a:prstGeom>
            <a:solidFill>
              <a:srgbClr val="ffc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6560" y="549000"/>
            <a:ext cx="7894800" cy="75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 Compilers and functional 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polymorphic engines: a parallel 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28200" y="1746000"/>
            <a:ext cx="38703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Formalization</a:t>
            </a:r>
            <a:endParaRPr b="0" lang="en-US" sz="2000" spc="-1" strike="noStrike">
              <a:solidFill>
                <a:srgbClr val="424a5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4a52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39720" y="2374920"/>
          <a:ext cx="7840800" cy="3564000"/>
        </p:xfrm>
        <a:graphic>
          <a:graphicData uri="http://schemas.openxmlformats.org/drawingml/2006/table">
            <a:tbl>
              <a:tblPr/>
              <a:tblGrid>
                <a:gridCol w="711360"/>
                <a:gridCol w="3017880"/>
                <a:gridCol w="3396960"/>
                <a:gridCol w="714600"/>
              </a:tblGrid>
              <a:tr h="322200">
                <a:tc gridSpan="2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ilers</a:t>
                      </a:r>
                      <a:endParaRPr b="0" lang="en-US" sz="15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ctional Polymorphic Engines</a:t>
                      </a:r>
                      <a:endParaRPr b="0" lang="en-US" sz="15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 rowSpan="3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24a52"/>
                          </a:solidFill>
                          <a:latin typeface="Arial"/>
                        </a:rPr>
                        <a:t>Verif.</a:t>
                      </a:r>
                      <a:endParaRPr b="0" lang="en-US" sz="15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24a52"/>
                          </a:solidFill>
                          <a:latin typeface="Arial"/>
                        </a:rPr>
                        <a:t>An attribute grammar G (alphabet Σ, set of attribute values D)</a:t>
                      </a:r>
                      <a:endParaRPr b="0" lang="en-US" sz="15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24a52"/>
                          </a:solidFill>
                          <a:latin typeface="Arial"/>
                        </a:rPr>
                        <a:t>An attribute grammar G (alphabet Σ, set of attribute values D)</a:t>
                      </a:r>
                      <a:endParaRPr b="0" lang="en-US" sz="15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24a52"/>
                          </a:solidFill>
                          <a:latin typeface="Arial"/>
                        </a:rPr>
                        <a:t>Deriv.</a:t>
                      </a:r>
                      <a:endParaRPr b="0" lang="en-US" sz="15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7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24a52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5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deterministic push-down auto-maton</a:t>
                      </a:r>
                      <a:r>
                        <a:rPr b="0" lang="en-US" sz="1500" spc="-1" strike="noStrike">
                          <a:solidFill>
                            <a:srgbClr val="424a52"/>
                          </a:solidFill>
                          <a:latin typeface="Arial"/>
                        </a:rPr>
                        <a:t> to evaluate the syntax (production rules of G)</a:t>
                      </a:r>
                      <a:endParaRPr b="0" lang="en-US" sz="15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24a52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5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probabilistic automaton</a:t>
                      </a:r>
                      <a:r>
                        <a:rPr b="0" lang="en-US" sz="1500" spc="-1" strike="noStrike">
                          <a:solidFill>
                            <a:srgbClr val="424a52"/>
                          </a:solidFill>
                          <a:latin typeface="Arial"/>
                        </a:rPr>
                        <a:t> to derive a start symbol into a syntactic random derivation tree (production rules of G)</a:t>
                      </a:r>
                      <a:endParaRPr b="0" lang="en-US" sz="15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24a52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5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topological-sorting algorithm to evaluate the attributes</a:t>
                      </a:r>
                      <a:r>
                        <a:rPr b="0" lang="en-US" sz="1500" spc="-1" strike="noStrike">
                          <a:solidFill>
                            <a:srgbClr val="424a52"/>
                          </a:solidFill>
                          <a:latin typeface="Arial"/>
                        </a:rPr>
                        <a:t> (semantic rules of G)</a:t>
                      </a:r>
                      <a:endParaRPr b="0" lang="en-US" sz="15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24a52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5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topological-sorting algorithm to generate attribute values</a:t>
                      </a:r>
                      <a:r>
                        <a:rPr b="0" lang="en-US" sz="1500" spc="-1" strike="noStrike">
                          <a:solidFill>
                            <a:srgbClr val="424a52"/>
                          </a:solidFill>
                          <a:latin typeface="Arial"/>
                        </a:rPr>
                        <a:t> (semantic rules of G)</a:t>
                      </a:r>
                      <a:endParaRPr b="0" lang="en-US" sz="15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row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24a52"/>
                          </a:solidFill>
                          <a:latin typeface="Arial"/>
                        </a:rPr>
                        <a:t>Transl.</a:t>
                      </a:r>
                      <a:endParaRPr b="0" lang="en-US" sz="15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24a52"/>
                          </a:solidFill>
                          <a:latin typeface="Arial"/>
                        </a:rPr>
                        <a:t>An instruction set I</a:t>
                      </a:r>
                      <a:endParaRPr b="0" lang="en-US" sz="15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24a52"/>
                          </a:solidFill>
                          <a:latin typeface="Arial"/>
                        </a:rPr>
                        <a:t>An instruction set I</a:t>
                      </a:r>
                      <a:endParaRPr b="0" lang="en-US" sz="15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24a52"/>
                          </a:solidFill>
                          <a:latin typeface="Arial"/>
                        </a:rPr>
                        <a:t>Transl.</a:t>
                      </a:r>
                      <a:endParaRPr b="0" lang="en-US" sz="15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1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24a52"/>
                          </a:solidFill>
                          <a:latin typeface="Arial"/>
                        </a:rPr>
                        <a:t>A rewriting system translating the nodes (Σ×D) from the derivation tree over I</a:t>
                      </a:r>
                      <a:endParaRPr b="0" lang="en-US" sz="15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424a52"/>
                          </a:solidFill>
                          <a:latin typeface="Arial"/>
                        </a:rPr>
                        <a:t>A rewriting system translating the nodes (Σ×D) from the derivation tree over I</a:t>
                      </a:r>
                      <a:endParaRPr b="0" lang="en-US" sz="15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2:46:21Z</dcterms:created>
  <dc:creator>JACOB Grégoire</dc:creator>
  <dc:description/>
  <dc:language>en-US</dc:language>
  <cp:lastModifiedBy>JACOB Gregoire</cp:lastModifiedBy>
  <dcterms:modified xsi:type="dcterms:W3CDTF">2009-10-19T12:18:42Z</dcterms:modified>
  <cp:revision>411</cp:revision>
  <dc:subject/>
  <dc:title>Malware as Interactive Machines: A New Framework for Behavior Modell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