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BF5B4-7BC5-4654-8ACA-D57217AE2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57862-59C2-48A6-8514-2C40296CB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F25F7-E571-4D25-886F-1FF4F2BC1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50CEA-8521-48C6-949A-C9C81BEAE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842B8-6DA2-4F29-BED0-1592701D8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61ECC-7703-4F40-8E94-0E101B7A0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F0654-CFFA-49CA-A6C9-B866C8103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09CE5-0D4F-4D7E-93C2-585245C79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1A51E-97F6-4ACC-AD15-9895C0A71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680F0-0275-4159-8DC0-6A105474D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E607C-CB6E-435A-9102-B9EFD0537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9BE02-BFDF-4522-996C-2D394355A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B56DB-9507-4F28-88A6-85B0134877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127.0.0.1/virusdefs" TargetMode="Externa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ti-virus “PWN2RM” Challenge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AWACS 200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tophe &amp; Sam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 &amp; 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AWACS 200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tophe &amp; Sam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oals of the challe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 weak points of AV programs, show how they can be disabled on-the-f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the EICAR standard anti-virus test to prove deactivation is successfu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real malware used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reverse-engineering of AV ei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 AV tested: McAfee, Norton, G-DATA, Kaspersky, DrWeb, AVG, E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cAfe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abled in 2 minu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in SYSTEM privileges (“at” comman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op the service (net sto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 course, this can be automa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rt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rus scan done in kern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abled by removing sign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 a RW shared folder for the “virusdefs” direc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unt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\\127.0.0.1\virusdef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s SYSTEM, and simply remove all sign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D3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abled through \Device\PhysicalMemory (an XP-only trick, wouldn’t work on Vista/7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ll every page of ekrn.exe with nu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cess crashed, detection disabl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 code developed for this purpo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-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abled by removing dri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the Device Manager then show all non-PNP de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op the main G-DATA driver and EICAR test is no longer detec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aspersk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abled through \Device\PhysicalMem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sh all code pages of avzkrn, procmon, hips (user-land DLL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ction no longer wor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V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so disabled through \Device\PhysicalMem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ilarly, in-memory overwrite of the user-land scanning compon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ction no longer wor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r We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far, hasn’t been disabl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tOpenSection() is blocked (used to access PhysicalMemory mappin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Dr. Web doesn’t block kernel driver loading, so it’s only a matter of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5T13:16:20Z</dcterms:created>
  <dc:creator>.</dc:creator>
  <dc:description/>
  <dc:language>en-US</dc:language>
  <cp:lastModifiedBy>.</cp:lastModifiedBy>
  <dcterms:modified xsi:type="dcterms:W3CDTF">2009-10-25T13:42:56Z</dcterms:modified>
  <cp:revision>3</cp:revision>
  <dc:subject/>
  <dc:title>Anti-virus “PWN2RM” Challenge Results</dc:title>
</cp:coreProperties>
</file>